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0.wmf" ContentType="image/x-wmf"/>
  <Override PartName="/ppt/media/image22.gif" ContentType="image/gif"/>
  <Override PartName="/ppt/media/image6.png" ContentType="image/png"/>
  <Override PartName="/ppt/media/image14.wmf" ContentType="image/x-wmf"/>
  <Override PartName="/ppt/media/image21.jpeg" ContentType="image/jpeg"/>
  <Override PartName="/ppt/media/image15.wmf" ContentType="image/x-wmf"/>
  <Override PartName="/ppt/media/image20.gif" ContentType="image/gif"/>
  <Override PartName="/ppt/media/image18.jpeg" ContentType="image/jpeg"/>
  <Override PartName="/ppt/media/image19.jpeg" ContentType="image/jpeg"/>
  <Override PartName="/ppt/media/image4.wmf" ContentType="image/x-wmf"/>
  <Override PartName="/ppt/media/image17.png" ContentType="image/png"/>
  <Override PartName="/ppt/media/image16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5.jpeg" ContentType="image/jpe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083C-AA5F-4F0D-A5DD-3E351A954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8EA4-EBA1-47C4-987C-66FF7EDAB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A147-BC3A-45EA-9BCB-CE93F7443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1007-BDD4-4456-81BB-0058DC2DA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9EEA-D477-486E-A9D9-2D2942DAD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9F26-2242-4E87-9B23-95136A989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F299-E130-4D65-B12C-AFF851467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51CA-B41F-4914-A023-C283B14D3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256F-EF44-4C5A-B621-42AAAA4ED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DA6E-705C-4ADE-9F1D-58BD3A5C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58BD-05BF-474B-BAFA-E17E7953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D274-3D97-440E-AC83-7BD93E727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4DC8B-A028-40CB-89E2-2DBD5A2F55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boldis@svf.stuba.sk" TargetMode="External"/><Relationship Id="rId2" Type="http://schemas.openxmlformats.org/officeDocument/2006/relationships/hyperlink" Target="mailto:kyncl@fel.cvut.cz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wmf"/><Relationship Id="rId1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00"/>
                </a:solidFill>
                <a:latin typeface="Arial"/>
                <a:ea typeface="Arial"/>
              </a:rPr>
              <a:t>KOMBINOVANÉ  SYSTÉMY  ELEKTRICKÉHO  VYKUROVANIA</a:t>
            </a:r>
            <a:br>
              <a:rPr sz="2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Matematick</a:t>
            </a:r>
            <a:r>
              <a:rPr b="0" lang="cs-CZ" sz="4400" spc="-1" strike="noStrike">
                <a:solidFill>
                  <a:srgbClr val="ffff00"/>
                </a:solidFill>
                <a:latin typeface="Arial"/>
              </a:rPr>
              <a:t>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Boldiš, Tomáš, Ing., SvF STU, KTZB, Radlinského 11, 813 68 Bratisl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e-mail: </a:t>
            </a:r>
            <a:r>
              <a:rPr b="0" lang="de-DE" sz="16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1"/>
              </a:rPr>
              <a:t>boldis@svf.stuba.sk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    tel.: 02/5927465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Kyncl, Jan, Doc.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Dr. Ing., FEL ČVUT, Katedra elektroenergetiky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Technická 2, 166 27 Praha 6,     e-mail: </a:t>
            </a:r>
            <a:r>
              <a:rPr b="0" lang="cs-CZ" sz="16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2"/>
              </a:rPr>
              <a:t>kyncl@fel.cvut.cz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Výsledky numerických řešení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3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019920" cy="37227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Výsledky numerických řešení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lotiky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353360" cy="4545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Vliv s</a:t>
            </a:r>
            <a:r>
              <a:rPr b="0" lang="cs-CZ" sz="3200" spc="-1" strike="noStrike">
                <a:solidFill>
                  <a:srgbClr val="ffff00"/>
                </a:solidFill>
                <a:latin typeface="Arial"/>
              </a:rPr>
              <a:t>álavého výkonu na celkové ztrát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Pr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5715000" cy="35337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Vliv s</a:t>
            </a:r>
            <a:r>
              <a:rPr b="0" lang="cs-CZ" sz="3200" spc="-1" strike="noStrike">
                <a:solidFill>
                  <a:srgbClr val="ffff00"/>
                </a:solidFill>
                <a:latin typeface="Arial"/>
              </a:rPr>
              <a:t>álavého výkonu na celkové ztrát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lotiky2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6248520" cy="38577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Z</a:t>
            </a:r>
            <a:r>
              <a:rPr b="0" lang="cs-CZ" sz="4400" spc="-1" strike="noStrike">
                <a:solidFill>
                  <a:srgbClr val="ffff00"/>
                </a:solidFill>
                <a:latin typeface="Arial"/>
              </a:rPr>
              <a:t>ávěry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e všechny stavy odpovídající tepelné pohodě jsou možné, nechceme-li vzduch či povrchy chlad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e stoupající teplotou vzduchu v interiéru mohou při konstantním stupni tepelné pohody celkové ztráty kles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Výpočty lze zautomatizovat a mohou se stát pomůckou pro návrh otopných sousta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ěkujeme za pozornost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...a rádi se pokusíme zodpovědět případné dotaz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cs-CZ" sz="3600" spc="-1" strike="noStrike">
                <a:solidFill>
                  <a:srgbClr val="ffff00"/>
                </a:solidFill>
                <a:latin typeface="Arial"/>
              </a:rPr>
              <a:t>ředpoklady pro tvorbu modelu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Arial"/>
              </a:rPr>
              <a:t>Uvažujeme zvolený stupeň tepelné poho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Arial"/>
              </a:rPr>
              <a:t>Uvažujeme stacionární sta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Arial"/>
              </a:rPr>
              <a:t>Uvažujeme sálání a konvekci ze všech povrchů a stacionární vedení tepla stěna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Arial"/>
              </a:rPr>
              <a:t>Větrání, konvekce z povrchů a dodávka čistě konvektivního výkonu tvoří bilanci vzduchového uzl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ovnice tepeln</a:t>
            </a:r>
            <a:r>
              <a:rPr b="0" lang="cs-CZ" sz="4400" spc="-1" strike="noStrike">
                <a:solidFill>
                  <a:srgbClr val="ffff00"/>
                </a:solidFill>
                <a:latin typeface="Arial"/>
              </a:rPr>
              <a:t>é pohody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</a:rPr>
              <a:t>Pro zadanou činnost osob, oblečení, rel. vlhkost a proudění vzduchu získáme 2 rovni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7656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066680" y="3276720"/>
          <a:ext cx="3581640" cy="7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276720"/>
                    <a:ext cx="358164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369576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143000" y="4114800"/>
          <a:ext cx="365760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4114800"/>
                    <a:ext cx="36576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Vyloučením teploty povrchu oblečení získáme závisl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04352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971800" y="1219320"/>
          <a:ext cx="2133720" cy="86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1219320"/>
                    <a:ext cx="2133720" cy="86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8" name="p1" descr=""/>
          <p:cNvPicPr/>
          <p:nvPr/>
        </p:nvPicPr>
        <p:blipFill>
          <a:blip r:embed="rId3"/>
          <a:stretch/>
        </p:blipFill>
        <p:spPr>
          <a:xfrm>
            <a:off x="1143000" y="2209680"/>
            <a:ext cx="5943600" cy="36752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ro každý povrch uvažujeme výkon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Obrazek1_vs-2" descr=""/>
          <p:cNvPicPr/>
          <p:nvPr/>
        </p:nvPicPr>
        <p:blipFill>
          <a:blip r:embed="rId1"/>
          <a:stretch/>
        </p:blipFill>
        <p:spPr>
          <a:xfrm>
            <a:off x="2133720" y="1828800"/>
            <a:ext cx="4105080" cy="37958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Kde pro jednotlivé výkony platí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814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85800" y="1447920"/>
          <a:ext cx="5850000" cy="71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58500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362412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762120" y="2057400"/>
          <a:ext cx="5029200" cy="75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057400"/>
                    <a:ext cx="5029200" cy="75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33098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838080" y="2743200"/>
          <a:ext cx="4724640" cy="833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2743200"/>
                    <a:ext cx="472464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386244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914400" y="3505320"/>
          <a:ext cx="3657600" cy="662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14400" y="3505320"/>
                    <a:ext cx="365760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340524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914400" y="4267080"/>
          <a:ext cx="4419720" cy="630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14400" y="4267080"/>
                    <a:ext cx="4419720" cy="6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3319560" y="32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847800" y="5072040"/>
          <a:ext cx="4782960" cy="596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847800" y="5072040"/>
                    <a:ext cx="47829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ovnice vzduchov</a:t>
            </a:r>
            <a:r>
              <a:rPr b="0" lang="cs-CZ" sz="3600" spc="-1" strike="noStrike">
                <a:solidFill>
                  <a:srgbClr val="ffff00"/>
                </a:solidFill>
                <a:latin typeface="Arial"/>
              </a:rPr>
              <a:t>ého uzlu, tepelné pohody a bilance povrchů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37636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523880" y="1905120"/>
          <a:ext cx="5639040" cy="76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905120"/>
                    <a:ext cx="5639040" cy="76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36003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752480" y="2971800"/>
          <a:ext cx="4876920" cy="12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2971800"/>
                    <a:ext cx="487692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240516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681200" y="4419720"/>
          <a:ext cx="4317840" cy="452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81200" y="4419720"/>
                    <a:ext cx="431784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396720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581280" y="5105520"/>
          <a:ext cx="3200400" cy="630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81280" y="5105520"/>
                    <a:ext cx="3200400" cy="63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Ukázka kódu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5" descr=""/>
          <p:cNvPicPr/>
          <p:nvPr/>
        </p:nvPicPr>
        <p:blipFill>
          <a:blip r:embed="rId1"/>
          <a:stretch/>
        </p:blipFill>
        <p:spPr>
          <a:xfrm>
            <a:off x="657360" y="1890720"/>
            <a:ext cx="7829280" cy="30765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Výsledky numerických řešení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2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6324480" cy="39099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5T08:26:37Z</dcterms:created>
  <dc:creator>K315</dc:creator>
  <dc:description/>
  <dc:language>en-US</dc:language>
  <cp:lastModifiedBy>kyncl</cp:lastModifiedBy>
  <dcterms:modified xsi:type="dcterms:W3CDTF">2006-03-07T20:45:44Z</dcterms:modified>
  <cp:revision>185</cp:revision>
  <dc:subject/>
  <dc:title>Prezentace aplikace PowerPoint</dc:title>
</cp:coreProperties>
</file>