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4.wmf" ContentType="image/x-wmf"/>
  <Override PartName="/ppt/media/image34.wmf" ContentType="image/x-wmf"/>
  <Override PartName="/ppt/media/image5.png" ContentType="image/png"/>
  <Override PartName="/ppt/media/image10.wmf" ContentType="image/x-wmf"/>
  <Override PartName="/ppt/media/image45.wmf" ContentType="image/x-wmf"/>
  <Override PartName="/ppt/media/image2.png" ContentType="image/png"/>
  <Override PartName="/ppt/media/image25.png" ContentType="image/png"/>
  <Override PartName="/ppt/media/image35.wmf" ContentType="image/x-wmf"/>
  <Override PartName="/ppt/media/image37.png" ContentType="image/png"/>
  <Override PartName="/ppt/media/image40.wmf" ContentType="image/x-wmf"/>
  <Override PartName="/ppt/media/image41.wmf" ContentType="image/x-wmf"/>
  <Override PartName="/ppt/media/image42.png" ContentType="image/png"/>
  <Override PartName="/ppt/media/image31.wmf" ContentType="image/x-wmf"/>
  <Override PartName="/ppt/media/image46.png" ContentType="image/png"/>
  <Override PartName="/ppt/media/image43.wmf" ContentType="image/x-wmf"/>
  <Override PartName="/ppt/media/image32.wmf" ContentType="image/x-wmf"/>
  <Override PartName="/ppt/media/image7.wmf" ContentType="image/x-wmf"/>
  <Override PartName="/ppt/media/image20.jpeg" ContentType="image/jpeg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13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27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D81-FC05-4BED-B65A-DEBF4D2A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96A-ACAD-4675-9A57-28340DEA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E8C-D257-4059-AF70-B75BF2DB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1567-740D-4975-A32C-CCFD4E41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7942-535D-49CB-ACD9-2529ABFB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AA4E-5356-4755-AEAE-74FE8885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8A6-76D6-4D78-A3FC-0C9F8E78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372-36F9-48E8-A613-4EFA71A1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124-B835-4141-BCEB-E412D09B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574-876B-4C51-B8D2-DA30036E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FB6A-3F48-46BD-8A0A-53FF9DE0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921-7793-47A3-A88B-7607C122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0B19-6A74-4CAC-9CED-A381E0B96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vytapeni.tzb-info.cz/t.py?t=16&amp;i=107&amp;h=38&amp;obor=5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333399"/>
                </a:solidFill>
                <a:latin typeface="Arial"/>
              </a:rPr>
              <a:t>Vyt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ápění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a tepeln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á pohoda člověk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4508640"/>
            <a:ext cx="6409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iteratu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línek V., Kabele K.: Technická zařízení budov 20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rož K.: Vytápění, 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rmy ČSN, google „thermal comfort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1763640" cy="237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26877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Vypařování difusní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9242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2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676520" y="1828800"/>
                <a:ext cx="3200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2971800"/>
                <a:ext cx="29718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7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4" name=""/>
          <p:cNvGraphicFramePr/>
          <p:nvPr/>
        </p:nvGraphicFramePr>
        <p:xfrm>
          <a:off x="1828800" y="3886200"/>
          <a:ext cx="259092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886200"/>
                    <a:ext cx="259092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Vypařování difusí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cs-CZ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Pa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lak syté páry při teplotě povrchu těla t</a:t>
            </a:r>
            <a:r>
              <a:rPr b="0" lang="cs-CZ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cs-CZ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Pa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rciální tlak vodní páry ve vzdu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φ (-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ní vlhkost vzdu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cs-CZ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°C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plota vzduchu v míst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t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vypařování není naším tělem nijak regulováno. Typická hodnota se pohybuje kolem 10 W.m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Vypařování potu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leží na hmotnostním toku potu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g.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 1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vrchu tě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obtížné určit, jaká část potu se skutečně vypař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8080" y="2971800"/>
                <a:ext cx="74678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w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3052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934320" y="1523880"/>
                <a:ext cx="9144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ýchání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S=L+E</a:t>
            </a:r>
            <a:r>
              <a:rPr b="0" lang="cs-CZ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R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(W.m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W.m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W.m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ěžná hodnota výkonu, spojeného s ohřevem vzduchu, se pohybuje v intervalu 2 až 5 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.m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58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990720" y="2666880"/>
                <a:ext cx="3504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4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34099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990720" y="3657600"/>
                <a:ext cx="4267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5867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álání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ef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-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itel respektující sálání sama na se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-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nfigu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í faktor mezi i‑tým povrchem a osobou, která se nacház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 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du mís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°C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plota i-tého povrchu místnost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-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učinitel oblečení (p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 plochy ob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ásti 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 neob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ás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°C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plota povrchu ob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°C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dní sálavá teplota okol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-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isivita ša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1371600"/>
          <a:ext cx="70102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0102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438280" y="2206800"/>
          <a:ext cx="358164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2206800"/>
                    <a:ext cx="358164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Konvekce a vedení tepl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8624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52480" y="1523880"/>
          <a:ext cx="5715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5715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10500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447920" y="2438280"/>
                <a:ext cx="6095880" cy="18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2,38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l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p>
                        </m:sSup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2,1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5053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828800" y="4724280"/>
          <a:ext cx="4343400" cy="87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724280"/>
                    <a:ext cx="43434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Konvekce a vedení tepl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m.s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ní rychlost vzduchu vůči osobě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 výrazu se dosazuje ta hodnota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která je větš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cs-CZ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°C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plota povrchu tě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cs-CZ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Clo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pelný odpor obleč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Číslo 0,155 ve vztahu (5.16) je přepočítávací koeficient mezi jednotkami tepelného odporu oblečení, protože 1 Clo=0,155 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K.W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809720" y="5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clo1" descr=""/>
          <p:cNvPicPr/>
          <p:nvPr/>
        </p:nvPicPr>
        <p:blipFill>
          <a:blip r:embed="rId1"/>
          <a:stretch/>
        </p:blipFill>
        <p:spPr>
          <a:xfrm>
            <a:off x="1809720" y="509760"/>
            <a:ext cx="5524560" cy="58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800360" y="3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clo2" descr=""/>
          <p:cNvPicPr/>
          <p:nvPr/>
        </p:nvPicPr>
        <p:blipFill>
          <a:blip r:embed="rId1"/>
          <a:stretch/>
        </p:blipFill>
        <p:spPr>
          <a:xfrm>
            <a:off x="1800360" y="328680"/>
            <a:ext cx="554328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ovnice tepelné pohod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30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43000" y="1752480"/>
          <a:ext cx="6481800" cy="11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64818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219320" y="346536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větší námaze chceme mít chladnější povrch těla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hceme se pot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rmoregulační systém člověk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ceptory v pokož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ladu  citlivost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10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3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K.s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rka    citlivost 1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10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3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K.s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ypothalamus hlídá teplotu, ne jen její změ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Hypothalamus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1885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v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ážeme to do ranečku </a:t>
            </a:r>
            <a:r>
              <a:rPr b="0" lang="en-US" sz="40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- Fangerovy rovnice tepelné pohod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7543800" cy="1225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75438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MV a PPD index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384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mv_upravene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664380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říklad možných kombinací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172200" cy="485640"/>
          </a:xfrm>
          <a:prstGeom prst="rect">
            <a:avLst/>
          </a:prstGeom>
          <a:ln w="0">
            <a:noFill/>
          </a:ln>
        </p:spPr>
      </p:pic>
      <p:pic>
        <p:nvPicPr>
          <p:cNvPr id="123" name="p1" descr=""/>
          <p:cNvPicPr/>
          <p:nvPr/>
        </p:nvPicPr>
        <p:blipFill>
          <a:blip r:embed="rId2"/>
          <a:stretch/>
        </p:blipFill>
        <p:spPr>
          <a:xfrm>
            <a:off x="1600200" y="2438280"/>
            <a:ext cx="548640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Venkovní výpočtová teplot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Vlhkost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, proud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ění vzduchu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hk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á – pr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ká – kondenzace vody, plíse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0 – 7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… pro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 volíme 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%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rozené, nucené větr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47640" y="5013360"/>
          <a:ext cx="403884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5013360"/>
                    <a:ext cx="403884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žadavky na vytápěcí zařízení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sažení parametrů tepelné poh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cký provoz – úspora paliv a energie (regulace, měř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oření nejúčinnější otopné plo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zložení teplot v mís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opné plochy u zdi, povrchová teplot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teplota rosného b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Konvekční vytápění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05120" y="1566720"/>
            <a:ext cx="533376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álavé stropní vytápění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334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Vytápění otopnými těles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05120" y="1709640"/>
            <a:ext cx="53337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dlahové vytápění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4673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Základní rovnice trvalého přežití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do sdíleného výkonu mezi člověkem a okolí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 (W.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aldo výko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 (W.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ýk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yprodukovaný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etabolism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 (W.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echanický výk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27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09480" y="2743200"/>
                <a:ext cx="6248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M</m:t>
                    </m:r>
                    <m:r>
                      <m:t xml:space="preserve">±</m:t>
                    </m:r>
                    <m:r>
                      <m:t xml:space="preserve">W</m:t>
                    </m:r>
                    <m:r>
                      <m:t xml:space="preserve">±</m:t>
                    </m:r>
                    <m:r>
                      <m:t xml:space="preserve">R</m:t>
                    </m:r>
                    <m:r>
                      <m:t xml:space="preserve">±</m:t>
                    </m:r>
                    <m:r>
                      <m:t xml:space="preserve">C</m:t>
                    </m:r>
                    <m:r>
                      <m:t xml:space="preserve">±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těnové a podlahové vytápění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6768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Teplovzdušné vytápění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467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pelná ztráta místnosti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ková tepelná ztráta míst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pelné ztráty stěn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irážka na vyrovnání vlivu chladných stěn, urychlení zátopu, světovou str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pelné ztráty větrán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195640" y="2276640"/>
          <a:ext cx="223200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276640"/>
                    <a:ext cx="22320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195640" y="4653000"/>
          <a:ext cx="4537080" cy="54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653000"/>
                    <a:ext cx="453708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pelná ztráta místnosti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9295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pelná ztráta prostupem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čet tepelných toků jednotlivými stěn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rovnání vlivu chladných stě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ůměrný součinitel prostupu tep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ychlení záto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ětovou str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835280" y="1989000"/>
          <a:ext cx="2685960" cy="8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989000"/>
                    <a:ext cx="26859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835280" y="3500280"/>
          <a:ext cx="20890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500280"/>
                    <a:ext cx="20890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835280" y="5157720"/>
          <a:ext cx="194292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5157720"/>
                    <a:ext cx="1942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643280" y="3716280"/>
          <a:ext cx="178596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3280" y="3716280"/>
                    <a:ext cx="17859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pelná ztráta větráním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78595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vzdušnost oken, venkovních dveř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činitel provzdušnosti, délka spar otevíratelných částí oken a dveř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cké číslo budovy – poloha chráněná, nechráněná, velmi nepřízni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cké číslo míst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42920" y="1484280"/>
          <a:ext cx="6096240" cy="96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84280"/>
                    <a:ext cx="60962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žadavky na větrání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tráta větráním nemá být větší než 0.2 ztráty prostup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duchová propustnost je vyhovující, je-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činitel vý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0.5 …obytné budo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0.35 … občanské budo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0.25 …ostatní budo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908000" y="4653000"/>
          <a:ext cx="288144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653000"/>
                    <a:ext cx="288144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drobnosti najdet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ytapeni.tzb-info.cz/t.py?t=16&amp;i=107&amp;h=38&amp;obor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38280" y="2590920"/>
          <a:ext cx="4519800" cy="367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2590920"/>
                    <a:ext cx="4519800" cy="36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žim a druhy vytápění budov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střední vytáp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kální vytáp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valé vytápě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jméně 8hod denně po 5 za sebou jdoucích 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časné vytáp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řerušované vytáp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umulační vytáp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pelné ztráty budov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3357720"/>
            <a:ext cx="685152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estavěný prostor bud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pelná charakteristika bud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čet vytápěných místností v budo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87280" y="1628640"/>
          <a:ext cx="269568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28640"/>
                    <a:ext cx="269568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Základní rovnice trvalého přežití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 (W.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ýměna výkonu sálá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 (W.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ýkonová výměna způsobena  proudě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 (W.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ýměna výkonu vede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 (W.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dvod výkonu vypařová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S (W.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dvod výkonu dýchání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oční spotřeba tepl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ximální výkon bud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otopných dní 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nostupně 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současnost infiltrace a prostup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nížení teploty během d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krácení doby s vyt. přestávkam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innost rozvodů, účinnost obslu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63640" y="2133720"/>
          <a:ext cx="345780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133720"/>
                    <a:ext cx="34578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Vytápění místnosti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motopné / akumula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topná těl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lánk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sková – zvýšení radi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ubková, trubková s přídavnou ploch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vek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koplošné otopné plo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ahové – konvekce, sál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ěnové – konvekce, sál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álavé – strop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koploš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loplošné – část stro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Konvektory – přirozená konvekc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19280" y="1370160"/>
            <a:ext cx="556884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Konvektory – nucená konvekc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88480" cy="3240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dlahové vytápění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153120" cy="1935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771640" y="3500280"/>
            <a:ext cx="28800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álavé vytápění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4969080" cy="2538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156360" y="1773360"/>
            <a:ext cx="254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Základní rovnice trvalého přežití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přežití musí plat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147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3880" y="2666880"/>
          <a:ext cx="647712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666880"/>
                    <a:ext cx="647712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tabolismu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 Met = 58,15 W.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rove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isí na činnosti člově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85960" y="59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ctivita" descr=""/>
          <p:cNvPicPr/>
          <p:nvPr/>
        </p:nvPicPr>
        <p:blipFill>
          <a:blip r:embed="rId1"/>
          <a:stretch/>
        </p:blipFill>
        <p:spPr>
          <a:xfrm>
            <a:off x="1785960" y="590400"/>
            <a:ext cx="557208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chanická prác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jma vrcholových sportovců lze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z energetického hledis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iv práce zanedb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895480" y="3733920"/>
          <a:ext cx="221004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733920"/>
                    <a:ext cx="2210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dvod tepla z člověk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2133720"/>
          <a:ext cx="6705720" cy="288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33720"/>
                    <a:ext cx="6705720" cy="28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1:18:43Z</dcterms:created>
  <dc:creator>bina</dc:creator>
  <dc:description/>
  <dc:language>en-US</dc:language>
  <cp:lastModifiedBy>kyncl</cp:lastModifiedBy>
  <dcterms:modified xsi:type="dcterms:W3CDTF">2006-05-30T12:22:23Z</dcterms:modified>
  <cp:revision>115</cp:revision>
  <dc:subject/>
  <dc:title>Základy teorie ochran,  princip chránění</dc:title>
</cp:coreProperties>
</file>