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2.gif" ContentType="image/gif"/>
  <Override PartName="/ppt/media/image6.png" ContentType="image/png"/>
  <Override PartName="/ppt/media/image14.wmf" ContentType="image/x-wmf"/>
  <Override PartName="/ppt/media/image21.jpeg" ContentType="image/jpeg"/>
  <Override PartName="/ppt/media/image15.wmf" ContentType="image/x-wmf"/>
  <Override PartName="/ppt/media/image20.gif" ContentType="image/gif"/>
  <Override PartName="/ppt/media/image18.jpeg" ContentType="image/jpeg"/>
  <Override PartName="/ppt/media/image19.jpeg" ContentType="image/jpeg"/>
  <Override PartName="/ppt/media/image4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767-848F-4007-B2AE-217175A1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9B2-9EBB-4686-BDA4-B81C1D71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5D4-C2E6-44F5-91C1-B0795318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A9B-725C-45DC-8B62-265015C7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4660-3ABC-4F75-BCED-66F413CA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80F-518A-4ECE-BDDB-83951D0F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737-F4F3-40BC-85E9-13256ECC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CCCB-41C7-454A-B784-E2D381A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E9E7-C325-4F50-B4E4-548C437D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702-AECE-433F-B590-0622749A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BE5D-25CF-4FD3-8BF5-F06ADC6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A79-7922-49E7-8474-F86AA36F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18CA-A5F0-4669-B302-C03A9EAC81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oldis@svf.stuba.sk" TargetMode="External"/><Relationship Id="rId2" Type="http://schemas.openxmlformats.org/officeDocument/2006/relationships/hyperlink" Target="mailto:kyncl@fel.cvut.cz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00"/>
                </a:solidFill>
                <a:latin typeface="Arial"/>
                <a:ea typeface="Arial"/>
              </a:rPr>
              <a:t>KOMBINOVANÉ  SYSTÉMY  ELEKTRICKÉHO  VYKUROVANIA</a:t>
            </a:r>
            <a:br>
              <a:rPr sz="2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Matematick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Boldiš, Tomáš, Ing., SvF STU, KTZB, Radlinského 11, 813 68 Bratisl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-mail: </a:t>
            </a:r>
            <a:r>
              <a:rPr b="0" lang="de-DE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boldis@svf.stuba.sk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    tel.: 02/592746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Kyncl, Jan, Doc.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Dr. Ing., FEL ČVUT, Katedra elektroenergetik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Technická 2, 166 27 Praha 6,     e-mail: </a:t>
            </a:r>
            <a:r>
              <a:rPr b="0" lang="cs-CZ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kyncl@fel.cvut.cz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ýsledky numerických řešení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3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019920" cy="3722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ýsledky numerických řešení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lotiky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53360" cy="454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liv s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álavého výkonu na celkové ztrá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Pr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5715000" cy="3533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liv s</a:t>
            </a: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álavého výkonu na celkové ztrá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lotiky2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48520" cy="3857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ávěr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e všechny stavy odpovídající tepelné pohodě jsou možné, nechceme-li vzduch či povrchy chla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 stoupající teplotou vzduchu v interiéru mohou při konstantním stupni tepelné pohody celkové ztráty kles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ýpočty lze zautomatizovat a mohou se stát pomůckou pro návrh otopných sousta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ěkujeme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..a rádi se pokusíme zodpovědět případné dot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cs-CZ" sz="3600" spc="-1" strike="noStrike">
                <a:solidFill>
                  <a:srgbClr val="ffff00"/>
                </a:solidFill>
                <a:latin typeface="Arial"/>
              </a:rPr>
              <a:t>ředpoklady pro tvorbu model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Uvažujeme zvolený stupeň tepelné poh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Uvažujeme stacionární sta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Uvažujeme sálání a konvekci ze všech povrchů a stacionární vedení tepla stěn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Arial"/>
              </a:rPr>
              <a:t>Větrání, konvekce z povrchů a dodávka čistě konvektivního výkonu tvoří bilanci vzduchového uzl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ovnice tepeln</a:t>
            </a:r>
            <a:r>
              <a:rPr b="0" lang="cs-CZ" sz="4400" spc="-1" strike="noStrike">
                <a:solidFill>
                  <a:srgbClr val="ffff00"/>
                </a:solidFill>
                <a:latin typeface="Arial"/>
              </a:rPr>
              <a:t>é pohody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</a:rPr>
              <a:t>Pro zadanou činnost osob, oblečení, rel. vlhkost a proudění vzduchu získáme 2 rovn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765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66680" y="3276720"/>
          <a:ext cx="358164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76720"/>
                    <a:ext cx="358164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69576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4114800"/>
          <a:ext cx="36576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114800"/>
                    <a:ext cx="36576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yloučením teploty povrchu oblečení získáme závisl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4352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971800" y="1219320"/>
          <a:ext cx="2133720" cy="86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219320"/>
                    <a:ext cx="2133720" cy="86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1" descr=""/>
          <p:cNvPicPr/>
          <p:nvPr/>
        </p:nvPicPr>
        <p:blipFill>
          <a:blip r:embed="rId3"/>
          <a:stretch/>
        </p:blipFill>
        <p:spPr>
          <a:xfrm>
            <a:off x="1143000" y="2209680"/>
            <a:ext cx="5943600" cy="3675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 každý povrch uvažujeme výkon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Obrazek1_vs-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105080" cy="3795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de pro jednotlivé výkony plat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81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447920"/>
          <a:ext cx="58500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58500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6241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762120" y="2057400"/>
          <a:ext cx="5029200" cy="75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502920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309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838080" y="2743200"/>
          <a:ext cx="4724640" cy="83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743200"/>
                    <a:ext cx="4724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624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3505320"/>
          <a:ext cx="3657600" cy="662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3505320"/>
                    <a:ext cx="36576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40524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14400" y="4267080"/>
          <a:ext cx="4419720" cy="63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14400" y="4267080"/>
                    <a:ext cx="441972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331956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847800" y="5072040"/>
          <a:ext cx="4782960" cy="59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47800" y="5072040"/>
                    <a:ext cx="47829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ovnice vzduchov</a:t>
            </a:r>
            <a:r>
              <a:rPr b="0" lang="cs-CZ" sz="3600" spc="-1" strike="noStrike">
                <a:solidFill>
                  <a:srgbClr val="ffff00"/>
                </a:solidFill>
                <a:latin typeface="Arial"/>
              </a:rPr>
              <a:t>ého uzlu, tepelné pohody a bilance povrchů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76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23880" y="1905120"/>
          <a:ext cx="5639040" cy="76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563904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6003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52480" y="2971800"/>
          <a:ext cx="48769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971800"/>
                    <a:ext cx="4876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40516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81200" y="4419720"/>
          <a:ext cx="4317840" cy="45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81200" y="4419720"/>
                    <a:ext cx="431784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967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581280" y="5105520"/>
          <a:ext cx="3200400" cy="630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105520"/>
                    <a:ext cx="32004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kázka kódu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5" descr=""/>
          <p:cNvPicPr/>
          <p:nvPr/>
        </p:nvPicPr>
        <p:blipFill>
          <a:blip r:embed="rId1"/>
          <a:stretch/>
        </p:blipFill>
        <p:spPr>
          <a:xfrm>
            <a:off x="657360" y="1890720"/>
            <a:ext cx="7829280" cy="3076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ýsledky numerických řešení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2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3909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8:26:37Z</dcterms:created>
  <dc:creator>K315</dc:creator>
  <dc:description/>
  <dc:language>en-US</dc:language>
  <cp:lastModifiedBy>kyncl</cp:lastModifiedBy>
  <dcterms:modified xsi:type="dcterms:W3CDTF">2006-03-07T20:45:44Z</dcterms:modified>
  <cp:revision>185</cp:revision>
  <dc:subject/>
  <dc:title>Prezentace aplikace PowerPoint</dc:title>
</cp:coreProperties>
</file>