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D68-8F7D-495E-AC67-8C3A0B65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8A3-F304-4479-B631-1F625C6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391-F29D-4A97-913B-70BDC93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148-8E6E-4D8D-B1AE-8CC2AB4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EB1-B05E-4B23-8F25-E9D7895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811-43DE-4154-AEC5-32D38D5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BD3-BD17-48E4-A182-71D15012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31A-55E0-4132-AF6A-F77A1BEB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33-F93F-4366-89D3-43AEE74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EB3-9915-4DE4-9608-4EE1668A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47F-4101-4200-BCFC-355EBCC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2EC-4931-4DA9-B998-B693566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7FF7-4D78-4F2E-B67F-9EBC34D73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ké řešení soustav algebraický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5800" y="476280"/>
            <a:ext cx="82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sté iter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Fixed Point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52472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4638600" cy="73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534080" cy="1123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3657600"/>
            <a:ext cx="6764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92452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805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6680" y="2602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841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regula fal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Regula Falsi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57640" cy="417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0400" cy="638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90560" y="1438200"/>
            <a:ext cx="771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5960" y="1890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tonova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wton'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24720" cy="107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762280" cy="34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748656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52680" y="2895480"/>
            <a:ext cx="2181240" cy="723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048120" y="3581280"/>
            <a:ext cx="3143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15228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sečen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ecant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067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379116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584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vytváření mod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ěřená data díky přístroji nemusejí být přes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ý model je zjednodušením u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ednodušeného fyzikálního modelu a neodpovídá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ně reali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zpracování úlohy n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ta přesáhnou možnosti HW: přetečení pamět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goritmus je nestabi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úloha je špatně podmíně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snost numerického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a konverg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kové meto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nost resp. chyba metody vyjádřena mocnino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řád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á chyba = diskretizační chyba + zaokrouhlovací chy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2303280" cy="61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43280" y="2421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70828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95640" y="3500280"/>
            <a:ext cx="41050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p pro určení skutečné chy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e požadované přesnosti a řádu přesnosti metody odhadneme velikost kroku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lezneme řešení s tímto kro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enšíme k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ět nalezneme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dnoty závislé proměnné z obou řešení ve stejných bodech nezávisle proměnné porovnáme        správné jsou ty dekadické řády výsledků, které se u obou řešení neli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me-li se získanou přesností spokojeni opět zmenšíme krok a porovnáváme výsledky dvou posledních kr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3429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a numerického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ní numerické řešení       chyby vnášené do výpočtu se vhodně utlumují a nerost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abilní numerické řešení        chyby se kumulují         výsledky jsou zcela nepouž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a závisí na volbě velikosti h        pokud h         větší pravděpodobnost ne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ním kroku stability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1197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844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04000" y="1844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565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256536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100560" y="2547360"/>
            <a:ext cx="360360" cy="106560"/>
          </a:xfrm>
          <a:prstGeom prst="rightArrow">
            <a:avLst>
              <a:gd name="adj1" fmla="val 50000"/>
              <a:gd name="adj2" fmla="val 845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446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mé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ussova eliminační metoda (G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a LU-rozkla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LU Decomposition (Cro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351640" cy="106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4160" y="68580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ešení lineárních rov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61080" cy="603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2581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č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600" y="139536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ladou takové nátoky na paměť počítače, jako metody pří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zální po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8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cobiova iterační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Jacobi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up: z i-t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332424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4581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5916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266724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724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040" y="533520"/>
            <a:ext cx="6015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aussova-Seidel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Gauss-Seidel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53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šení nelineárních 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bisek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isection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5191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7880" y="536400"/>
            <a:ext cx="79200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08:37:30Z</dcterms:created>
  <dc:creator>Devil1</dc:creator>
  <dc:description/>
  <dc:language>en-US</dc:language>
  <cp:lastModifiedBy>RaRi</cp:lastModifiedBy>
  <dcterms:modified xsi:type="dcterms:W3CDTF">2007-03-05T10:51:44Z</dcterms:modified>
  <cp:revision>33</cp:revision>
  <dc:subject/>
  <dc:title>Numerické řešení soustav lineárních rovnic </dc:title>
</cp:coreProperties>
</file>