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25.jpeg" ContentType="image/jpeg"/>
  <Override PartName="/ppt/media/image32.png" ContentType="image/png"/>
  <Override PartName="/ppt/media/image16.wmf" ContentType="image/x-wmf"/>
  <Override PartName="/ppt/media/image8.png" ContentType="image/png"/>
  <Override PartName="/ppt/media/image33.png" ContentType="image/png"/>
  <Override PartName="/ppt/media/image23.wmf" ContentType="image/x-wmf"/>
  <Override PartName="/ppt/media/image5.png" ContentType="image/png"/>
  <Override PartName="/ppt/media/image13.wmf" ContentType="image/x-wmf"/>
  <Override PartName="/ppt/media/image22.jpeg" ContentType="image/jpeg"/>
  <Override PartName="/ppt/media/image9.png" ContentType="image/png"/>
  <Override PartName="/ppt/media/image31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18.png" ContentType="image/png"/>
  <Override PartName="/ppt/media/image19.wmf" ContentType="image/x-wmf"/>
  <Override PartName="/ppt/media/image17.png" ContentType="image/png"/>
  <Override PartName="/ppt/media/image20.wmf" ContentType="image/x-wmf"/>
  <Override PartName="/ppt/media/image21.jpeg" ContentType="image/jpe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B75-24BE-4420-88C0-7832D80C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278-6377-44C0-AC93-73943A74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80C-515B-4140-8CBF-94A5501A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B46-F0E6-4BD1-BD12-02101EAA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B26-FD72-43F8-A28F-48307E5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E16-202C-40C4-B3E5-0CF8C830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E52-0824-4852-A85D-8C1F5190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E92-73AA-4712-B462-F3800AEA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D3F-A4B2-4DBB-81CD-3BDA7436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CB8-AB13-4B12-B9A3-FF1DC9C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BD2-638D-4A58-8D9A-AB7AF8D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576-9B69-4282-9567-CC7768D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EB08-C541-4297-88FA-ED151B83CD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oukové p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2000" y="6165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cova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spik, Ke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et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1280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etBox reži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321440" cy="3311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4249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ersonic 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345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štěp kopí, rozříznout skalp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toková rychlost dosahuje Mac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dává až 55m3 kyslíku za minu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ižuje obsah uhlíku v taven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íchává taven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895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5201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328240" cy="3029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6978600" cy="30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4608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emické reakce v obl. pe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xidy kovů vznikajících při tavbě, vyplavou a skončí ve stru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kcí O2 a C vzniká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dostatku kyslíku v peci přímo shoří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padně odveden přes přímý ventilační systém a poté spal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íchání lázně inertním plynem regeneruje přechod mezi kovem a struskou a zlepšuje reakční kinet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ra je odstraňována jako sulfid obsažený ve strusce při odpichu a li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ěnění stru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íky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omáhá zakrytí oblou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růst tepelné ůči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oz pece s vysokonapěťovým oblou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nadzvukových hořá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330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ry obloukových pe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átory cca 60M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kundární napětí cca 80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kundární proud 44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tun na jednu vsá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vba cca 70minut, nejmodernější 45min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jednu tunu je potřeba cca 400kWH což je 1,5kJ/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éma zařízení obloukové p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3760" y="1371240"/>
            <a:ext cx="342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pecní transform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krátká c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trubky s chladící vod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elektr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uchycení elektr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odvod pecních ply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výp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pok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jedna ze dvou koléb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ožňující naklánění p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podstavec p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řídící stanov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5800" y="1371600"/>
            <a:ext cx="44956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éma zařízení stejnosměrné obloukové p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žadavky na elektrod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rá elektrická vod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á mechanická pe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á oxidační tepl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lý obsah popela a sí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uhy elektro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hlíkové – antracit, koks, přírodní grafit, pryskyř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fitové – z uhlíkových vypalováním až do 2700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ypné – velké průměry elektrod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500 m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1/3 uhlíkov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3035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oká 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905040"/>
            <a:ext cx="65959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ká regulace polohy elekt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ovávat po určitou dobu konstantní množství energie přiváděné do pracovního prostoru pece nezávisle na neustále se měnících podmínk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gulátor musí mít dostatečnou rychlost nastavení op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 : doba odezvy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 necitliv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vymezená oblast uvnitř které změna regulované veličiny nevyvolá změnu polohy elektr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zi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oudu při pohybu d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zi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oudu při pohybu naho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04920" y="5029200"/>
                <a:ext cx="2684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9" name=""/>
          <p:cNvGraphicFramePr/>
          <p:nvPr/>
        </p:nvGraphicFramePr>
        <p:xfrm>
          <a:off x="826920" y="3500280"/>
          <a:ext cx="266400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500280"/>
                    <a:ext cx="2664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077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udonapěťová, diferenciální  regu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gulátor se snaží udržet nastavený poměr napětí a proudu konstant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oh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lektromechanické ovládání pohybu elekt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motor zvedá nebo spouští teleskopický sloup ramene elektrodového držáku s elektrodou prostřednictvímocelových l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ydraulické ovládání pohybu elektr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chanizmus pohybu elektrod je vytvořen pracovním válcem a přívodem tlakové kapal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, přesnost, stabilita regu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oké náklady, konstrukční náročno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mechanický kontaktní regul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9880" y="1218960"/>
            <a:ext cx="5105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dícím členem je diferenciální relé, jehož cívky jsou napájeny proudem ze sekundáru proudového měniče a napětím z elektrody proti z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vky relé působí na vahadlový systém r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nárůstem proudu v elektrodě vtáhne proudová cívka dif relé své jádro, vahadlo se vychýlí a zapne kontakty ovládající cívku stykače elektromot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lektroda se začne pohybovat nahoru, prodlužuje oblou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enšu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56076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ovní charakteristiky el. obl. p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 ztráty na konci tave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e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trá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žitečný vý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nerg ú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rná spotř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tavení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5029200" y="1219320"/>
            <a:ext cx="3886200" cy="48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411280" y="2205000"/>
          <a:ext cx="252108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205000"/>
                    <a:ext cx="25210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124000" y="3213000"/>
          <a:ext cx="29527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3213000"/>
                    <a:ext cx="29527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340000" y="4365720"/>
          <a:ext cx="2592360" cy="96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40000" y="4365720"/>
                    <a:ext cx="25923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556000" y="5516640"/>
          <a:ext cx="2305080" cy="1058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5516640"/>
                    <a:ext cx="230508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604692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cní transform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706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jí se značně proměnlivým zatížením při častých zkratech způsobených dotykem elektrod se vsáz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ěrně nízké sekundární napětí a vysoký pr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gulace sekundárního napětí v širokých mezích změnou počtu závitů primárního vi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konem pecního trafa je vymezen přívod tepla do  pece a tím i výkon p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výkonu pecního trafa se provádí podle velikosti vsázky pece a pracovního reži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16360" y="4005360"/>
            <a:ext cx="4032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pojení obloukové pece na napájecí sousta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27280" y="1988640"/>
            <a:ext cx="43146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napájecí sí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dpojov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výkonový vypín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rimární transform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sériově řazená tlumiv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výkonový vypín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pecní transform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krátká sí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elektr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obvody mě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regu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23112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i snížení rušivých účinků obloukových pecí na napájecí síť 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mezení zkratových a velkých prou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zejména při natavování vs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pojení reaktoru do série s pecním transformá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ětšení zkratového výkonu v místě připoj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sílení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pojení synchronního kompenzátoru do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ériová nebo paralelní kompen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enšení kolísání jalového příkonu el. Obl. P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římá kompen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má kompen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1857600" cy="1800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76720" y="4292640"/>
            <a:ext cx="15861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7280" y="188640"/>
            <a:ext cx="3251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á 25-40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opecní (kychtový) plyn obsahuje pouze 20% jedovatého kysličníku uhelnatého CO a je poměrně málo výhřevný (ca. 900 kcal/m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ehřátý vzduch (700 až 1000°C) je pomocí mohutných dmychadel dopravován vyzděným potrubím do dmyšen vysoké pe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tavené železo a struska se shromažďují na dně pece v nístěji. Odpichovým otvorem proudí roztavené železo do pánví, pánvových vagonů nebo je odléváno do forem na tzv. housky. Struska bývá přímo na místě granulována a připravena k dalšímu zpracová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 uhlíku příliš vysoký, nutné jej oxidačním procesem v ocelářských zařízeních sníž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xidací uhlíku buďto kyslíkem ze vzduchu (Thomasův nebo Bessemerův konvertor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foukáváním kyslíkem (LD konverto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sazováním železné rudy a ocelového odpadu do taveniny v nístějových pecích (Siemens-Martinův proces, elektrická oblouková pec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rovozu 10 let, poté generální opr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443400" cy="459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5076720" cy="380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7340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ikmý zavážecí výta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5734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hřívač vyduch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w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ického oblo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erimentální demonstrace 1810 Sirem Humphry D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ařování objeveno 18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tepelná pec 18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78-79 William Siemens patentoval obl. 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el. pec vyvinuta Paul Héroult ve Fran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komerční využití 1907 v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2174760"/>
            <a:ext cx="434808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y v obloukových pe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ění p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v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vba pomocí kys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dávání struskotvorné lá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f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stru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p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1990800" cy="1695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72360" y="1341360"/>
            <a:ext cx="1990440" cy="169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211640" y="2565360"/>
            <a:ext cx="1990800" cy="1695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443640" y="3068640"/>
            <a:ext cx="1990800" cy="169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140360" y="4437000"/>
            <a:ext cx="1990440" cy="169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443640" y="4941720"/>
            <a:ext cx="19908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nění p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řáb s korečkem vsype mater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odné chemické složení výchozí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izace mezer v materiá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vůli rychlému prohřátí materi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hou být porušeny elektr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íky velkým kusům můžou být poškozeny hořá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dzvedne a otočí se víko, do volného prostoru se dostane jeřáb se šrotem, koreček se otevře a šrot je vsypán do pece. Poté se pec zavře a elektrody jsou spuštěny tak nízko, aby se o šrot zapálil oblo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73672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vení materiálu přívodem el. energie do prostoru pe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fitové elektr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hký šrot v nejvyšší vrstvě-urychlení protav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 několika minutách první protavení, poté dlouhý oblouk bez nebezpečí poškození víka sálá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e začátku nestabilní oblouk, kolísáni U, I, pohyby elektrod, s rostoucí teplotou oblouk stabilnější, roste příkon p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eafsequence2b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449440" cy="2342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04000" y="1052640"/>
            <a:ext cx="19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vení materiálu přívodem chem. energie do prostoru p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51280" y="4508280"/>
            <a:ext cx="2376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třeba kysl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0560" y="1844640"/>
            <a:ext cx="4573440" cy="2668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1773360"/>
            <a:ext cx="34578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. Energie 25-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yslíkové hořá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yslíkové řezá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aluje se zemní plyn s kyslíkem, nebo směs kyslíku a vzd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 radiací a kondukcí od horkých produktů spal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vnitř navážky kondu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08:34:41Z</dcterms:created>
  <dc:creator>kefas</dc:creator>
  <dc:description/>
  <dc:language>en-US</dc:language>
  <cp:lastModifiedBy>kaspik</cp:lastModifiedBy>
  <dcterms:modified xsi:type="dcterms:W3CDTF">2006-04-25T12:03:52Z</dcterms:modified>
  <cp:revision>7</cp:revision>
  <dc:subject/>
  <dc:title>Obloukové pece</dc:title>
</cp:coreProperties>
</file>