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D81-BDE0-488F-9BDF-F95F6365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E41-ED1B-48D8-A362-CA8C08E1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4FD-8058-43EA-9CE0-36A21D2B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429-3DBB-4FEC-BC4A-387F14FE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7BA-C6C8-4084-9AE2-00AF1FF2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116-7D5C-460A-8091-D3EE8321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157-D548-4362-8017-A3104060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BE-87EB-4CF7-B2A7-6DBF6DAA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249-6AD3-41FF-8BA0-50B6448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207-B4BB-470E-9199-A73AD77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E85-2013-4AEC-81A3-3621867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65D-E0E1-405D-8D82-A1FEEFC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59E-6798-4B68-BA1B-880F3A2F1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ké řešení soustav algebraický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040" y="533520"/>
            <a:ext cx="60152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aussova-Seidel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Gauss-Seidel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53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61960" y="442800"/>
            <a:ext cx="62200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461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41338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73376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62320" y="457200"/>
            <a:ext cx="305748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7620120" cy="1609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00280" y="2509920"/>
            <a:ext cx="7543800" cy="183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5648400" cy="27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990720" y="4800600"/>
            <a:ext cx="40575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0" cy="28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381040" cy="36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743200" y="3276720"/>
            <a:ext cx="13431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8010360" cy="276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772400" y="6141960"/>
            <a:ext cx="12762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šení nelineárních rovn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bisek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isection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51912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7200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515304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9920" y="685800"/>
            <a:ext cx="2819160" cy="343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838760" cy="27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26193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57200" y="2209680"/>
            <a:ext cx="5133960" cy="33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09480" y="2743200"/>
            <a:ext cx="47246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62120" y="5029200"/>
            <a:ext cx="3990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5800" y="476280"/>
            <a:ext cx="82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rosté iter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Fixed Point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524720" cy="6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638960" cy="7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753444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3657600"/>
            <a:ext cx="676440" cy="27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09480" y="4038480"/>
            <a:ext cx="75344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09480" y="5943600"/>
            <a:ext cx="1648080" cy="314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209680" y="5943600"/>
            <a:ext cx="13050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53160" cy="5229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267000" cy="3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14800" y="228600"/>
            <a:ext cx="1419120" cy="3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133720" y="609480"/>
            <a:ext cx="49053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6680" y="260280"/>
            <a:ext cx="77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3841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regula fals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Regula Falsi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57640" cy="417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0400" cy="6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90560" y="1438200"/>
            <a:ext cx="771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mé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aussova eliminační metoda (G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a LU-rozkla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LU Decomposition (Cro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351640" cy="106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4160" y="685800"/>
            <a:ext cx="60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ešení lineárních rov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9640" y="1476360"/>
            <a:ext cx="7524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18900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76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wtonova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wton's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24720" cy="107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2762280" cy="34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7486560" cy="50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52680" y="2895480"/>
            <a:ext cx="2181240" cy="723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048120" y="3581280"/>
            <a:ext cx="3143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0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52280"/>
            <a:ext cx="66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05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sečen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Secant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067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3791160" cy="85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584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vytváření mod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ěřená data díky přístroji nemusejí být přes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ý model je zjednodušením u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ednodušeného fyzikálního modelu a neodpovídá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ně reali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é při zpracování úlohy na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ta přesáhnou možnosti HW: přetečení pamět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lgoritmus je nestabi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úloha je špatně podmíně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61080" cy="603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2581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č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0600" y="139536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ladou takové nátoky na paměť počítače, jako metody pří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zální po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86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cobiova iterační metod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Jacobi It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up: z i-t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3324240" cy="136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4581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59160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2667240" cy="34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724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238640" cy="36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4387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52380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981080" y="685800"/>
            <a:ext cx="5172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19040" y="971640"/>
            <a:ext cx="65059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43200" y="814320"/>
            <a:ext cx="5457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08:37:30Z</dcterms:created>
  <dc:creator>Devil1</dc:creator>
  <dc:description/>
  <dc:language>en-US</dc:language>
  <cp:lastModifiedBy>Nahasapimapetilon</cp:lastModifiedBy>
  <dcterms:modified xsi:type="dcterms:W3CDTF">2006-03-06T18:08:21Z</dcterms:modified>
  <cp:revision>31</cp:revision>
  <dc:subject/>
  <dc:title>Numerické řešení soustav lineárních rovnic </dc:title>
</cp:coreProperties>
</file>