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3C6-2028-4E65-BCF7-E7C040AD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922-CEE0-49DA-A782-20750292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7D7-994D-46C2-8FE5-BC4FDD14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5D6-A035-4653-9DD1-7066A506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499F-CC53-4420-A492-0F7A2EFB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AE5E-AC3B-4848-A0AD-CEAC2D7D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DFE1-709D-4044-BFA3-55D6FEA7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72F1-2B2C-4552-AA26-9AA9A44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CCF7-6288-404F-8A85-5E7EC29A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E29A-E771-4DAB-BE27-78EC6FBF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8479-5021-4C9E-B35C-A17AC28C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4EF-F882-43A7-A967-0EB6335E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27CD-2776-4966-B776-06374514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FFAD-3BB9-4DFB-A314-62327FD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FADB-A2C4-4566-816E-3E291AB3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AB53-18FA-4B05-946A-DF070455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4227-9947-4ED8-AB66-100E90D6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1A2-1F87-4701-AF24-B59D249A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00D-981A-467A-A47C-EB6DE357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871-1C06-4AF2-97FA-C80D5896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0AD-330C-40B2-9D4A-2F597BB0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958-9FEE-4DDC-B316-54478B2E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F08-918A-4FC7-8BCA-821F3C47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D51-91BE-4854-AEC3-3181EAF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8559-EB76-40A7-9830-D43CD1CCBFF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4B8-825C-4FC0-8A71-DFCCC226C8B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 by měl inženýr vědět o proudě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ypracovali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Martin Labone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Karel Beráne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1819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348000" y="0"/>
            <a:ext cx="5400720" cy="1844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174456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lakovou práci definuje vztah: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laková práce při stlačování kapaliny: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laková práce při stlačování plynu: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aktické závěry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Je-li možnost volby, vždy stlačovat pracovní médium v kapalné formě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lačovat plyny vždy s pokud možno nejnižší počáteční teplotou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ěrná tlaková práce kapalin závisí na tlakovém rozdílu, zatímco u plynů na tlakovém podílu! měrná práce na stlačení plynu o  klesá se stoupající tlakovou úrovní plynu!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19280"/>
            <a:ext cx="9144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508720" y="1773360"/>
                <a:ext cx="19447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719280"/>
            <a:ext cx="9144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667640" y="2060640"/>
                <a:ext cx="863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20" y="92628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19280"/>
            <a:ext cx="9144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643280" y="2924280"/>
                <a:ext cx="1727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719280"/>
            <a:ext cx="9144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372360" y="2924280"/>
                <a:ext cx="26272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719280"/>
            <a:ext cx="9144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851280" y="4005360"/>
                <a:ext cx="50403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ákladní zákony zachování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zákon zachování hmotno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7640" y="198900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euvažujeme-li produkci hmoty v kontrolním objemu, pak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pro proudění nestlačitelné tekutiny dostávám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e zákona zachování hmotnosti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ze také určit rychlost vytékající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kapaliny otvorem v nádobě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kde se potenciální energi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ění na kinetickou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236000" y="2421000"/>
                <a:ext cx="180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380360" y="3213000"/>
                <a:ext cx="1441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08360" y="5516640"/>
            <a:ext cx="2158920" cy="100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00720" y="4338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Zákon zachování hybno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Tenzor napětí </a:t>
            </a:r>
            <a:r>
              <a:rPr b="1" lang="cs-CZ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enzor napětí zavádí do obecné bilanční rovnice materiálové vztahy, charakterizující fyzikální vlastnosti proudící tekutiny. Pro Newtonskou tekutinu platí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de p ... normálová složka napětí (statický tlak působící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           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ti směru normál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 baseline="-25000">
                <a:solidFill>
                  <a:srgbClr val="292929"/>
                </a:solidFill>
                <a:latin typeface="Arial"/>
              </a:rPr>
              <a:t>ij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... tenzor vazkých napětí (v nevazké tekutině je tij = 0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homogenním rychlostním poli nemohou vzniknout vazká napětí, protože zde ani nedochází k výměně hybnosti mezi sousedními částicemi tekutiny. Tenzor napětí je zde symetrický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780000" y="3141720"/>
                <a:ext cx="3240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avier - Stokesova rovni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978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Zákon zachování energi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ilanci všech forem energie uvažovaných ve zvoleném modelu představuje rovnic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d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748560" cy="1385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5157720"/>
                <a:ext cx="23767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932360" y="5157720"/>
            <a:ext cx="345744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i  ... objemová vnější síl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i="1" lang="cs-CZ" sz="2000" spc="-1" strike="noStrike" baseline="-25000">
                <a:solidFill>
                  <a:srgbClr val="292929"/>
                </a:solidFill>
                <a:latin typeface="Arial"/>
              </a:rPr>
              <a:t>ij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.. tenzor napě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qi  ...vektor tepelného tok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udění reálné tekutin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dyž se těleso pohybuje vzhledem k tekutině, v níž je, dojde k 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ték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. Při obtékání působí tření mezi tělesem a tekutinou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hydrodynamická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u kapalin) 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erodynamická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u plynů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dporová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íl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dpo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střed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olné (přirozené) proudění: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i styku s teplejším tělesem dochází v místě styku k ohřívání tekutiny, její měrná váha se zmenší a působením okolní studenější tekutiny vznikne vztlak, ohřáté částice stoupají a na jejich místo přitékají nové, chladnější, které se ohřívají, at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nožství sdíleného tepla závisí hlavně na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ozdílu teplot (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D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ikosti povrchu tělesa (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716360" y="5770440"/>
            <a:ext cx="2521080" cy="1087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0360" y="4437000"/>
            <a:ext cx="230364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né proudění okolo horké skleničk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UDĚNÍ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Nevířivé – LAMINÁRNÍ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Vírnaté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Vířivé – TURBULENTNÍ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92929"/>
                </a:solidFill>
                <a:latin typeface="Arial"/>
              </a:rPr>
              <a:t>Nucené proudění: </a:t>
            </a:r>
            <a:r>
              <a:rPr b="0" lang="cs-CZ" sz="2900" spc="-1" strike="noStrike">
                <a:solidFill>
                  <a:srgbClr val="292929"/>
                </a:solidFill>
                <a:latin typeface="Arial"/>
              </a:rPr>
              <a:t>působením ventilátorů a čerpadel; laminární (pro malé rychlosti tekutiny), turbulentní (pro větší rychlosti)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292929"/>
                </a:solidFill>
                <a:latin typeface="Arial"/>
              </a:rPr>
              <a:t>Laminární proudění převládá pro malý tepelný gradient (do 15ti K). Tvar tělesa je podružný, hlavní je rozměr tělesa. Přechod od laminárního k turbulentnímu proudění popisujeme </a:t>
            </a:r>
            <a:r>
              <a:rPr b="1" lang="cs-CZ" sz="2900" spc="-1" strike="noStrike">
                <a:solidFill>
                  <a:srgbClr val="292929"/>
                </a:solidFill>
                <a:latin typeface="Arial"/>
              </a:rPr>
              <a:t>Reynoldsovým číslem</a:t>
            </a:r>
            <a:r>
              <a:rPr b="0" lang="cs-CZ" sz="29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900" spc="-1" strike="noStrike" u="sng">
                <a:solidFill>
                  <a:srgbClr val="292929"/>
                </a:solidFill>
                <a:uFillTx/>
                <a:latin typeface="Arial"/>
              </a:rPr>
              <a:t>Re</a:t>
            </a:r>
            <a:r>
              <a:rPr b="0" lang="cs-CZ" sz="2900" spc="-1" strike="noStrike">
                <a:solidFill>
                  <a:srgbClr val="292929"/>
                </a:solidFill>
                <a:latin typeface="Arial"/>
              </a:rPr>
              <a:t> (Re</a:t>
            </a:r>
            <a:r>
              <a:rPr b="0" lang="cs-CZ" sz="2900" spc="-1" strike="noStrike" baseline="-25000">
                <a:solidFill>
                  <a:srgbClr val="292929"/>
                </a:solidFill>
                <a:latin typeface="Arial"/>
              </a:rPr>
              <a:t>crit.</a:t>
            </a:r>
            <a:r>
              <a:rPr b="0" lang="cs-CZ" sz="2900" spc="-1" strike="noStrike">
                <a:solidFill>
                  <a:srgbClr val="292929"/>
                </a:solidFill>
                <a:latin typeface="Arial"/>
              </a:rPr>
              <a:t>pro kruhové potrubí je 2300)</a:t>
            </a:r>
            <a:endParaRPr b="0" lang="en-US" sz="2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zdělení rychlosti v průřez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491796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w…rychlost ve vzdálenosti y od osy; w</a:t>
            </a:r>
            <a:r>
              <a:rPr b="0" lang="cs-CZ" sz="3200" spc="-1" strike="noStrike" baseline="-25000">
                <a:solidFill>
                  <a:srgbClr val="292929"/>
                </a:solidFill>
                <a:latin typeface="Arial"/>
              </a:rPr>
              <a:t>max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…rychlost v ose; n…se zvyšuje s 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779640" cy="190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8360" y="3703680"/>
            <a:ext cx="82296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ktické použit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8672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Střední rychlost proudu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w...stř. rychlost proudění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V…sekundový objem proudící     tekutiny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[m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s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A…průřez potrubí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[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m</a:t>
            </a:r>
            <a:r>
              <a:rPr b="0" lang="cs-CZ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Pro laminární proudění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(Re = 2300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Při turbulentním proudění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(poměr je fcí. R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3276720" cy="1171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867280" y="3789360"/>
            <a:ext cx="2232000" cy="1538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688000" y="5556240"/>
            <a:ext cx="34560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vlastnosti tekuti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35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4 skupenství (pevné, kapalné,plynné, plazma)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Tekutina = kapaliny a plyny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Vlastnosti tekutiny: přenáší pouze tlaková napětí, tvar mění vlivem tečného napětí, přenos silového napětí v kolmém směru na nositelku síly se děje skrze viskozitu tekutiny, nemají stálý tvar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Kapaliny zachovávají stálý objem a jsou velmi málo stlačitelné, v tíhovém poli Země vytvářejí volnou hladinu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Plyny nemají stálý objem ani tvar, snadno stlačitelné, </a:t>
            </a:r>
            <a:r>
              <a:rPr b="0" lang="en-US" sz="2300" spc="-1" strike="noStrike" u="sng">
                <a:solidFill>
                  <a:srgbClr val="292929"/>
                </a:solidFill>
                <a:uFillTx/>
                <a:latin typeface="Arial"/>
              </a:rPr>
              <a:t>V</a:t>
            </a: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 a tvar je dán tvarem nádoby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Tekutější kapaliny mají menší vnitřní tření – viskozitu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Viskozita plynů je mnohem menší než viskozita kapalin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ematické odvoze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Navier - Stokesova rce.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008080"/>
            <a:ext cx="88200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d Eulera k Bernoullim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7037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nestlačitelné kapalině je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 po zjednodušení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nevazké tekutině se vztah zjednodušuje n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Tento výraz se nazývá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ulerova rovnic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tegrací Eulerovi rovnice lze, za určitých předpokladů, odvodit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ernoulliho rovni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která má pro stacionární proudění nestlačitelné tekutiny tvar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de konst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obecně pro každou proudnici jiná (zákon zachování mechanické energie proudu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24360" y="1413000"/>
                <a:ext cx="10810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183280" y="1989000"/>
            <a:ext cx="3960720" cy="959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62560" y="2924280"/>
            <a:ext cx="4681440" cy="1225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716360" y="4292640"/>
            <a:ext cx="382932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ernoulliho rovni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ernoulliho rovnice vyjadřuje </a:t>
            </a: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zákon zachování energie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 pro proudění ideální kapalin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rvní člen rovnice je kinetická energie proudící kapaliny o jednotkovém objemu, druhý člen je tlaková potenciální energie proudící kapaliny o jednotkovém objemu (rovná se tlaku kapaliny).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oučet kinetické a tlakové potenciální energie kapaliny o jednotkovém objemu je ve všech částech vodorovné trubice stejný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hceme-li zobecnit Bernoulliho rovnici i pro nevodorovnou trubici, musíme uvažovat i s tíhovou potenciální energií kapaliny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E = m </a:t>
            </a:r>
            <a:r>
              <a:rPr b="0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g </a:t>
            </a:r>
            <a:r>
              <a:rPr b="0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h = </a:t>
            </a:r>
            <a:r>
              <a:rPr b="0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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V </a:t>
            </a:r>
            <a:r>
              <a:rPr b="0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g </a:t>
            </a:r>
            <a:r>
              <a:rPr b="0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evedeno na jednotkový objem získáme člen </a:t>
            </a:r>
            <a:r>
              <a:rPr b="0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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g </a:t>
            </a:r>
            <a:r>
              <a:rPr b="0" lang="cs-CZ" sz="2200" spc="-1" strike="noStrike">
                <a:solidFill>
                  <a:srgbClr val="292929"/>
                </a:solidFill>
                <a:latin typeface="Symbol"/>
                <a:ea typeface="Symbol"/>
              </a:rPr>
              <a:t>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h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79640" y="6130800"/>
            <a:ext cx="53532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o vymyslel pan Reynol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eynoldsova rce. popisuje reálnou tekutinu při turbulentním proudění a byla odvozena z Navier - Stokesovy rce. tak, že okamžitá hodnota bodové rychlosti byla rozdělena střední (časově vyhlazenou) rychlost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     fluktuační (pulsační) rychl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w</a:t>
            </a:r>
            <a:r>
              <a:rPr b="0" i="1" lang="cs-CZ" sz="2000" spc="-1" strike="noStrike" baseline="30000">
                <a:solidFill>
                  <a:srgbClr val="292929"/>
                </a:solidFill>
                <a:latin typeface="Arial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řitom platí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měna proudění z laminárního do turbulentního může nastat při kritické hodnotě Reynoldsova čísla, která určuje meze stability laminárního pohybu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d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l ... charakteristický délkový rozměr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např. u potrubí průmě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... 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řední hodnota rychlosti proudě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.. kinematická viskozi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.. dynamická viskozi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596360" y="2205000"/>
                <a:ext cx="369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276720" y="2492280"/>
                <a:ext cx="21589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3382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liv 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na Navier - Stokesovu rovnic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Re </a:t>
            </a: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→ 0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(velmi malá Re) = setrvačné síly (levá strana rce.) jsou velmi malé oproti silám vazkým. Bezrozměrný tvar  Navier – Stokesovi rce.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  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pro stacionární proudění je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Re → ∞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(velmi velká Re) = v aerodynamice je to nejčastější případ. Pan Prandtl přišel na myšlenku rozdělit proudové pole na dvě části: tzv.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mezní vrstvu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těsně u obtékaného tělesa, kde se proud tekutiny u stěny zastavuje až na 0 → vznik ⁭ grad w → ⁭ působení vazkých sil a na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nější vrstvu,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e velké vzdálenosti od stěny, kde se již vazkost zcela zanedbává = Re → ∞ a mohu škrtnout vazké člen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3032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liv Re na obtékání kuličk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Re &lt;&lt; 1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Obtékání je plně symetrické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Re &gt; 1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Obtékání válce se postupně stává asymetrickým, s protaženějšími proudnicemi (tj. se zpomaleným prouděním) za válcem. Experimentálně bylo zjištěno, že cca od Re ~ 6 se začnou za válcem symetricky k podélné ose vytvářet dvě oblasti s uzavřenými proudnicemi (projevují se jako víry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30 &lt; Re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&lt; 6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Objevuje se slabá asymetrie ve vírech za válečkem. Teoreticky zatím nebyla vypočtena a „čistý“ dvourozměrný experiment prakticky nelze provést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Re &gt; 6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 úplavu za válcem vznikají pravidelné oscilace, spojené se střídavým zvětšováním a odplouváním vírů do úplavu. Vytváří se útvar známý jako Kármánova vírová řada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Re &lt; 10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e udrží laminární struktura proudění i vírové řady do vzdálenosti 100 až 150 D za válcem. Za touto vzdáleností se víry v důsledku velké difuse začnou rozpadat. Vírová řada při Re &gt; 200 přejde na určité vzdálenosti do turbulentního úplavu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ékání kuličk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1500120"/>
            <a:ext cx="75596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kračová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100 &lt; Re &lt; 50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ři vytváření vírové řady a úplavu se začínají uplatňovat první projevy turbulence. Každý z odplouvajících vírů má v sobě zárodek nestability, která postupně vede ke vzniku turbulence. Jakmile se víry stanou turbulentními (Re ~ 400 až 500) i jejich vzdálenost se začne zmenšovat a zřetelný tvar vírové řady se začne ztrácet. Vírová struktura úplavu však nezmiz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Re &gt; cca 100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ůvodní dva víry za válcem se začínají vytrácet a k odtrhávání vírů začne docházet již přímo na povrchu válce. Na válci se už začíná vytvářet mezní vrstv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Re &lt; cca 3 . 10</a:t>
            </a:r>
            <a:r>
              <a:rPr b="1" lang="cs-CZ" sz="3200" spc="-1" strike="noStrike" baseline="30000">
                <a:solidFill>
                  <a:srgbClr val="292929"/>
                </a:solidFill>
                <a:latin typeface="Arial"/>
              </a:rPr>
              <a:t>5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Mezní vrstva na válci je laminární, a to v plném rozsahu až do svého odtržen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3 . 10</a:t>
            </a:r>
            <a:r>
              <a:rPr b="1" lang="cs-CZ" sz="3200" spc="-1" strike="noStrike" baseline="30000">
                <a:solidFill>
                  <a:srgbClr val="292929"/>
                </a:solidFill>
                <a:latin typeface="Arial"/>
              </a:rPr>
              <a:t>5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&lt; Re &lt; 3 . 10</a:t>
            </a:r>
            <a:r>
              <a:rPr b="1" lang="cs-CZ" sz="3200" spc="-1" strike="noStrike" baseline="30000">
                <a:solidFill>
                  <a:srgbClr val="292929"/>
                </a:solidFill>
                <a:latin typeface="Arial"/>
              </a:rPr>
              <a:t>6</a:t>
            </a:r>
            <a:r>
              <a:rPr b="0" lang="cs-CZ" sz="2000" spc="-1" strike="noStrike" baseline="30000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Dochází k nestacionárnímu přechodu laminární mezní vrstvy na turbulentní. Tento přechod nemusí být symetrický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Re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 3 . 10</a:t>
            </a:r>
            <a:r>
              <a:rPr b="1" lang="cs-CZ" sz="3200" spc="-1" strike="noStrike" baseline="30000">
                <a:solidFill>
                  <a:srgbClr val="292929"/>
                </a:solidFill>
                <a:latin typeface="Arial"/>
              </a:rPr>
              <a:t>6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Mezní vrstva je již zcela turbulentní, což se projeví posunutím jejího bodu odtržení do zadní části válc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ékání kuličk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71640" y="1500120"/>
            <a:ext cx="75596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Hmotnostní průtok Q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Z rovnice kontinuity pro výtokový otvor o průřezu </a:t>
            </a:r>
            <a:r>
              <a:rPr b="0" i="1" lang="cs-CZ" sz="2800" spc="-1" strike="noStrike">
                <a:solidFill>
                  <a:srgbClr val="292929"/>
                </a:solidFill>
                <a:latin typeface="Arial"/>
              </a:rPr>
              <a:t>A2 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vyplývá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Dosazením za w2 a za měrný objem z rovnice adiabaty dostanem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Také závisí na poměru tlaků </a:t>
            </a:r>
            <a:r>
              <a:rPr b="0" i="1" lang="cs-CZ" sz="2800" spc="-1" strike="noStrike">
                <a:solidFill>
                  <a:srgbClr val="292929"/>
                </a:solidFill>
                <a:latin typeface="Arial"/>
              </a:rPr>
              <a:t>p2/p1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98560" y="3645000"/>
                <a:ext cx="7345440" cy="18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κ</m:t>
                            </m:r>
                          </m:num>
                          <m:den>
                            <m:r>
                              <m:t xml:space="preserve">κ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κ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κ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κ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38890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tonovská kapali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jjednodušší tekutina a pro ni platí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nedochází-li k deformaci tekutiny pak jediným působícím napětím je statický tla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místní okamžitá hodnota napětí závisí jen rychlosti deform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je izotropní = deformační vlastnosti jsou stejné ve všech směre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neexistuje přímá vazba mezi rychlostním a tepelným polem (jedním nelze vyvolat druhé a naopak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vislost hmotnostního průtoku Q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na poměru tlaků p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cs-CZ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5640" y="1625760"/>
            <a:ext cx="75963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ritický tlak p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a kritická teplota T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Hledáme maximální průto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Zjistíme derivací rovnice pro hmotnostního průtoku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Maximální hmotnostní průtok, nazývaný též kritickým, nastane  tedy tehdy, když klesne tlak v nejužším místě průřezu </a:t>
            </a:r>
            <a:r>
              <a:rPr b="0" i="1" lang="cs-CZ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i="1" lang="cs-CZ" sz="3200" spc="-1" strike="noStrike" baseline="-25000">
                <a:solidFill>
                  <a:srgbClr val="292929"/>
                </a:solidFill>
                <a:latin typeface="Arial"/>
              </a:rPr>
              <a:t>cr</a:t>
            </a:r>
            <a:r>
              <a:rPr b="0" i="1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na tlak kritický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Získáme ze vztahu pro </a:t>
            </a:r>
            <a:r>
              <a:rPr b="0" i="1" lang="cs-CZ" sz="28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cr 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348000" y="2637000"/>
                <a:ext cx="367200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κ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κ</m:t>
                            </m:r>
                          </m:num>
                          <m:den>
                            <m:r>
                              <m:t xml:space="preserve">κ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788000" y="5251320"/>
                <a:ext cx="388764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κ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κ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κ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ritická rychlost w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dpovídá maximálnímu (kritickému) průtoku ideálního plynu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ychlost zvuku závisí na parametrech prostředí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p, </a:t>
            </a:r>
            <a:r>
              <a:rPr b="0" i="1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, T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 můžeme ji vyjádřit rovnicí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03640" y="2276640"/>
                <a:ext cx="30178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κ</m:t>
                            </m:r>
                          </m:num>
                          <m:den>
                            <m:r>
                              <m:t xml:space="preserve">κ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58920" y="3357720"/>
                <a:ext cx="6975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203640" y="5229360"/>
                <a:ext cx="45370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203640" y="6033960"/>
                <a:ext cx="5327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dynamické ucpání a stacionární rá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7037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tav při němž je v minimálním průřezu dosaženo kritické rychlosti je označován jako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aerodynamické ucp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roudící množství se při stacionárním rázu nemění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řed rázem:     Po rázu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2 &gt; pcr                p1 &lt; pcr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w2 &lt; wcr              w1 &gt; wcr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35640" y="1700280"/>
            <a:ext cx="4608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Lavalova trysk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žívá se ke zvýšení rychlosti proudění na rychlost vyšší, než je rychlost kritická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ování některých veličin při subsonickém a supersonickém proudění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2062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211640" y="3284640"/>
            <a:ext cx="3541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cionární ráz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87280" y="1646280"/>
            <a:ext cx="69487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cionární ráz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42920" y="1646280"/>
            <a:ext cx="7236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ší základní pojm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514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Stavová rovnice: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kde v je měrný objem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Ideální plyn: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-řídí se stavovou rcí.: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300" spc="-1" strike="noStrike" u="sng">
                <a:solidFill>
                  <a:srgbClr val="292929"/>
                </a:solidFill>
                <a:uFillTx/>
                <a:latin typeface="Arial"/>
              </a:rPr>
              <a:t>c</a:t>
            </a:r>
            <a:r>
              <a:rPr b="0" lang="cs-CZ" sz="2300" spc="-1" strike="noStrike" u="sng" baseline="-25000">
                <a:solidFill>
                  <a:srgbClr val="292929"/>
                </a:solidFill>
                <a:uFillTx/>
                <a:latin typeface="Arial"/>
              </a:rPr>
              <a:t>v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a</a:t>
            </a:r>
            <a:r>
              <a:rPr b="0" lang="cs-CZ" sz="2300" spc="-1" strike="noStrike" baseline="-25000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300" spc="-1" strike="noStrike" u="sng">
                <a:solidFill>
                  <a:srgbClr val="292929"/>
                </a:solidFill>
                <a:uFillTx/>
                <a:latin typeface="Arial"/>
              </a:rPr>
              <a:t>c</a:t>
            </a:r>
            <a:r>
              <a:rPr b="0" lang="cs-CZ" sz="2300" spc="-1" strike="noStrike" u="sng" baseline="-25000">
                <a:solidFill>
                  <a:srgbClr val="292929"/>
                </a:solidFill>
                <a:uFillTx/>
                <a:latin typeface="Arial"/>
              </a:rPr>
              <a:t>p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nezávisí ani na </a:t>
            </a:r>
            <a:r>
              <a:rPr b="0" lang="cs-CZ" sz="2300" spc="-1" strike="noStrike" u="sng">
                <a:solidFill>
                  <a:srgbClr val="292929"/>
                </a:solidFill>
                <a:uFillTx/>
                <a:latin typeface="Arial"/>
              </a:rPr>
              <a:t>T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ani na </a:t>
            </a:r>
            <a:r>
              <a:rPr b="0" lang="cs-CZ" sz="2300" spc="-1" strike="noStrike" u="sng">
                <a:solidFill>
                  <a:srgbClr val="292929"/>
                </a:solidFill>
                <a:uFillTx/>
                <a:latin typeface="Arial"/>
              </a:rPr>
              <a:t>p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-vnitřní energie závisí    pouze na </a:t>
            </a:r>
            <a:r>
              <a:rPr b="0" lang="cs-CZ" sz="2300" spc="-1" strike="noStrike" u="sng">
                <a:solidFill>
                  <a:srgbClr val="292929"/>
                </a:solidFill>
                <a:uFillTx/>
                <a:latin typeface="Arial"/>
              </a:rPr>
              <a:t>T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u = u (T)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-platí 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Mayerův vztah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(r je plynová konstanta)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-podíl tepelných kapacit je rovný 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Poissonově konstantě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-ostatní plyny označujeme za 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reálné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148360" y="198900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236000" y="1773360"/>
                <a:ext cx="9493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48360" y="2924280"/>
                <a:ext cx="2016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292720" y="4311720"/>
                <a:ext cx="1822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292720" y="5084640"/>
                <a:ext cx="1744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ka tekut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Proudnic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(proudová čára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-vektorová čára rychlostního po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-tečna v libovolném jejím bodě má směr shodný se směrem vektoru rychlosti čás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-obecně nejsou tyto čáry shodné s drahou čás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udni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889440" cy="167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3168720" cy="1701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092480" y="1170000"/>
            <a:ext cx="5051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udnice v programu Flu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649520"/>
            <a:ext cx="73803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udnice v programu Flu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udové pole a proudové vlákn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roudové pol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-popis rovinného, či prostorového proudění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-obvykle se ztotožňuje s rychlostním pol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-u stlačitelné tekutiny zahrnuje i skalární pole tlaku, teploty a husto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roudové vlákno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-je průřez trubice, kterou proudí kapalina, tedy plocha, kterou kapalina proudí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76720" y="3645000"/>
            <a:ext cx="33829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9:12:49Z</dcterms:created>
  <dc:creator>martin.labonek</dc:creator>
  <dc:description/>
  <dc:language>en-US</dc:language>
  <cp:lastModifiedBy>K13115</cp:lastModifiedBy>
  <dcterms:modified xsi:type="dcterms:W3CDTF">2007-04-03T14:34:56Z</dcterms:modified>
  <cp:revision>15</cp:revision>
  <dc:subject/>
  <dc:title>Co by měl inženýr vědět o proudění</dc:title>
</cp:coreProperties>
</file>