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CA13-CD61-4774-951B-9AB6165BC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7864-DA9D-4E83-B60F-1AE481B4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E957-1F13-4890-8D1F-716A4DCA8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F85B-55C6-4CD3-AD8E-2739440E8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1E17-B5B8-4BD3-8B5D-4C05E2EE1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84EB-538A-4D7C-8C62-2E1493EF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0642-3CD8-490D-9E6A-26251E5D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860B9-90B8-4C0E-856E-844211A0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9FCF-5B4D-49EB-AD58-117B2CEC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38F3-1172-48E5-8FE8-CDE26217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F247-9ADC-40C7-BD32-0ADECC74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7764-5C15-4E0D-95F2-C086314E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6265-D609-4C09-BCBB-E3DCCA45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B360-9202-4D92-B5B7-3D10CAF0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F634-4074-4810-8E67-6BE8A4AC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2F27-B25D-419F-AA89-441872272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8EEE-0189-4492-B4EC-B8E14D16A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6E5F-E236-44AB-9840-8C89ADD2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5D8F-3ED9-4CF7-A54A-EE23B942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2811-B2FA-46CF-8209-5B6C4090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5C8C-BDC4-4A34-B623-E0321144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CE0A-AF2C-4CBF-A929-03BEB3E7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6821-0E3E-4169-A199-7ED3279F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664C-67C6-4761-8DC3-9A6B6740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3385-671F-4212-93F2-FCB6F54A7D8A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FDAB-4E67-4340-9ECA-F953E70BD191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dílení tepla při fázových přeměná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Stanislav Bock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Miroslav Šebek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Tomáš Vyhlídk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M. A. Michejev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00000" y="620640"/>
            <a:ext cx="715824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xperimentální řešení určení součinitele přestupu tepla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při va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Vliv rychlosti kapaliny na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α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při varu proudící kapaliny v trubce je tím větší, čím menší je hustota tepelného toku q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=&gt; při vyšší hustotě tepelného toku q je i vyšší mezní rychlost proudění w</a:t>
            </a:r>
            <a:r>
              <a:rPr b="0" lang="cs-CZ" sz="1400" spc="-1" strike="noStrike">
                <a:solidFill>
                  <a:srgbClr val="292929"/>
                </a:solidFill>
                <a:latin typeface="Arial"/>
              </a:rPr>
              <a:t>m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, při jejímž překročení se začne projevovat vliv rychlosti na součinitel přestupu tepla α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Var v trubce při nuceném proudění kapaliny je možné řešit superpozicí dvou samostatných dějů, a to jako přestup tepla konvekcí při nuceném proudění nevroucí kapaliny v trubce (α</a:t>
            </a:r>
            <a:r>
              <a:rPr b="0" lang="cs-CZ" sz="1200" spc="-1" strike="noStrike">
                <a:solidFill>
                  <a:srgbClr val="292929"/>
                </a:solidFill>
                <a:latin typeface="Arial"/>
              </a:rPr>
              <a:t>k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) a přestup tepla při bublinkovém varu klidové kapaliny (α</a:t>
            </a:r>
            <a:r>
              <a:rPr b="0" lang="cs-CZ" sz="1200" spc="-1" strike="noStrike">
                <a:solidFill>
                  <a:srgbClr val="292929"/>
                </a:solidFill>
                <a:latin typeface="Arial"/>
              </a:rPr>
              <a:t>b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15824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xperimentální řešení určení součinitele přestupu tepla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při va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Na základě experimentálních hodnot bublinkového varu proudící vod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v trubce v rozsahu tlaků: 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a rychlostí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0" lang="cs-CZ" sz="1800" spc="-1" strike="noStrike" u="sng">
                <a:solidFill>
                  <a:srgbClr val="292929"/>
                </a:solidFill>
                <a:uFillTx/>
                <a:latin typeface="Arial"/>
              </a:rPr>
              <a:t>byla stanovena závislost: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s platností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Je-li poměr a</a:t>
            </a:r>
            <a:r>
              <a:rPr b="0" lang="cs-CZ" sz="1800" spc="-1" strike="noStrike" baseline="-25000">
                <a:solidFill>
                  <a:srgbClr val="292929"/>
                </a:solidFill>
                <a:latin typeface="Arial"/>
              </a:rPr>
              <a:t>b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/a</a:t>
            </a:r>
            <a:r>
              <a:rPr b="0" lang="cs-CZ" sz="1800" spc="-1" strike="noStrike" baseline="-25000">
                <a:solidFill>
                  <a:srgbClr val="292929"/>
                </a:solidFill>
                <a:latin typeface="Arial"/>
              </a:rPr>
              <a:t>k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&lt; 0,5  je vliv varu na součinitel α zanedbatelný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Je-li poměr a</a:t>
            </a:r>
            <a:r>
              <a:rPr b="0" lang="cs-CZ" sz="1800" spc="-1" strike="noStrike" baseline="-25000">
                <a:solidFill>
                  <a:srgbClr val="292929"/>
                </a:solidFill>
                <a:latin typeface="Arial"/>
              </a:rPr>
              <a:t>b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/a</a:t>
            </a:r>
            <a:r>
              <a:rPr b="0" lang="cs-CZ" sz="1800" spc="-1" strike="noStrike" baseline="-25000">
                <a:solidFill>
                  <a:srgbClr val="292929"/>
                </a:solidFill>
                <a:latin typeface="Arial"/>
              </a:rPr>
              <a:t>k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&gt; 2 převažuje sdílení tepla bublinkovým varem kapaliny nad sdílením tepla konvekcí bez změny skupenství a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Množství sděleného tepla vyjadřuje rovnice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995640" y="2276640"/>
                <a:ext cx="21942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</m:t>
                    </m:r>
                    <m:r>
                      <m:t xml:space="preserve">&lt;</m:t>
                    </m:r>
                    <m:r>
                      <m:t xml:space="preserve">p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924360" y="2637000"/>
                <a:ext cx="24732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5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w</m:t>
                    </m:r>
                    <m:r>
                      <m:t xml:space="preserve">&lt;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211640" y="3213000"/>
                <a:ext cx="29494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f>
                      <m:num>
                        <m:r>
                          <m:t xml:space="preserve">4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5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3276720" y="3860640"/>
                <a:ext cx="144288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5</m:t>
                    </m:r>
                    <m:r>
                      <m:t xml:space="preserve">&lt;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&l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288120" y="5132520"/>
                <a:ext cx="62532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413320" y="5769000"/>
                <a:ext cx="211788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α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,3</m:t>
                            </m:r>
                          </m:sub>
                        </m:sSub>
                      </m:e>
                    </m:d>
                    <m:r>
                      <m:t xml:space="preserve">Sτ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1582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vislost α na dalších činitelíc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ruh kapaliny – velký vliv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var a velikost výhřevné plochy – zanedbatelný vliv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bsorbované plyny – zanedbatelný vliv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ateriál výhřevné plochy – jen při malém q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rsnost výhřevné ploch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71640" y="836280"/>
            <a:ext cx="7632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ritická hustota tepelného toku při bublinkovém varu kapal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 rostoucím </a:t>
            </a:r>
            <a:r>
              <a:rPr b="0" i="1" lang="en-US" sz="1800" spc="-1" strike="noStrike">
                <a:solidFill>
                  <a:srgbClr val="292929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roste: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očet varných jader na výhřevné ploš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rekvence odtrhování parních bublinek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 tím roste součinitel přestupu tepla α při bublinkovém varu kapaliny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rvá kritická hustota tepelného toku </a:t>
            </a:r>
            <a:r>
              <a:rPr b="0" i="1" lang="en-US" sz="1800" spc="-1" strike="noStrike">
                <a:solidFill>
                  <a:srgbClr val="292929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292929"/>
                </a:solidFill>
                <a:latin typeface="Arial"/>
              </a:rPr>
              <a:t>kr1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představuje </a:t>
            </a:r>
            <a:r>
              <a:rPr b="0" i="1" lang="en-US" sz="1800" spc="-1" strike="noStrike">
                <a:solidFill>
                  <a:srgbClr val="292929"/>
                </a:solidFill>
                <a:latin typeface="Arial"/>
              </a:rPr>
              <a:t>maximální hodnotu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a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řísluší jí maximální hodnota součinitele přestupu tepla α</a:t>
            </a:r>
            <a:r>
              <a:rPr b="0" i="1" lang="en-US" sz="1800" spc="-1" strike="noStrike" baseline="-25000">
                <a:solidFill>
                  <a:srgbClr val="292929"/>
                </a:solidFill>
                <a:latin typeface="Arial"/>
              </a:rPr>
              <a:t>kr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Druhá kritická hustota tepelného toku </a:t>
            </a:r>
            <a:r>
              <a:rPr b="0" i="1" lang="en-US" sz="1800" spc="-1" strike="noStrike">
                <a:solidFill>
                  <a:srgbClr val="292929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292929"/>
                </a:solidFill>
                <a:latin typeface="Arial"/>
              </a:rPr>
              <a:t>kr2</a:t>
            </a:r>
            <a:r>
              <a:rPr b="0" i="1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ředstavuje </a:t>
            </a:r>
            <a:r>
              <a:rPr b="0" i="1" lang="en-US" sz="1800" spc="-1" strike="noStrike">
                <a:solidFill>
                  <a:srgbClr val="292929"/>
                </a:solidFill>
                <a:latin typeface="Arial"/>
              </a:rPr>
              <a:t>minimální hodnotu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řísluší jí minimální hodnota součinitele přestupu tepla α</a:t>
            </a:r>
            <a:r>
              <a:rPr b="0" i="1" lang="en-US" sz="1800" spc="-1" strike="noStrike" baseline="-25000">
                <a:solidFill>
                  <a:srgbClr val="292929"/>
                </a:solidFill>
                <a:latin typeface="Arial"/>
              </a:rPr>
              <a:t>kr2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Mezi prvou a druhou kritickou hodnotou tepelného toku </a:t>
            </a:r>
            <a:r>
              <a:rPr b="0" i="1" lang="en-US" sz="1800" spc="-1" strike="noStrike">
                <a:solidFill>
                  <a:srgbClr val="292929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se nachází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řechodová oblast mezi bublinkovým a blánovým varem kapaliny,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harakterizovaná nestabilní tvorbou parní blány na výhřevné ploše.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1582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ritická hustota tepelného toku při bublinkovém varu kapal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Při volném proudění kapaliny závisí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292929"/>
                </a:solidFill>
                <a:latin typeface="Arial"/>
              </a:rPr>
              <a:t>kr1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na tlaku a smáčivých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vlastnostech kapaliny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na jakosti a tvaru výhřevné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ploch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U svislých a šikmých výhřevných ploch je hodnota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292929"/>
                </a:solidFill>
                <a:latin typeface="Arial"/>
              </a:rPr>
              <a:t>kr1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tím nižší, čím hrubší je výhřevný povrch a čím menší úhel sbírá vektor gravitačního zrychlení s normálou k povrchu výhřevné plochy .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715824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ánový v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Je charakterizován stabilní vrstvou přehřáté páry na výhřevném povrchu, která izoluje vroucí kapalinu od výhřevné plochy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Blánový var je energeticky nevýhodný, protože s rostoucím teplotním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ozdílem v parní bláně roste sice hustota tepelného toku </a:t>
            </a:r>
            <a:r>
              <a:rPr b="0" i="1" lang="en-US" sz="1800" spc="-1" strike="noStrike">
                <a:solidFill>
                  <a:srgbClr val="292929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le součinitel přestupu tepla </a:t>
            </a:r>
            <a:r>
              <a:rPr b="0" lang="en-US" sz="1800" spc="-1" strike="noStrike">
                <a:solidFill>
                  <a:srgbClr val="292929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se téměř nemění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924360" y="2637000"/>
                <a:ext cx="122220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,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907560"/>
            <a:ext cx="715824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ílení tepla při kondenzaci pá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4920" y="1915920"/>
            <a:ext cx="799308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Kondenzace páry představuje změnu skupenství plynného v kapalné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v důsledku odvedeného skupenského tepla kondenzačního </a:t>
            </a:r>
            <a:r>
              <a:rPr b="0" i="1" lang="en-US" sz="1800" spc="-1" strike="noStrike">
                <a:solidFill>
                  <a:srgbClr val="292929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292929"/>
                </a:solidFill>
                <a:latin typeface="Arial"/>
              </a:rPr>
              <a:t>2,3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říslušného tlaku páry na ochlazovacím povrchu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týká-li se pára se stěnou, jejíž teplota je menší než teplota syté páry,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ráží se pára na stěně v kapalinu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odle charakteru tvorby kondenzátu na ochlazovací ploše rozeznáváme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292929"/>
                </a:solidFill>
                <a:uFillTx/>
                <a:latin typeface="Arial"/>
              </a:rPr>
              <a:t>kondenzaci blánovou a kondenzaci kapičkovou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71280" y="765000"/>
            <a:ext cx="715788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dílení tepla při kondenzaci pá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Kondenzace blánová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nastane, jestliže kondenzát je smáčivá kapalina, která vytvoří na ochlazovacím povrchu souvislou tenkou vrstvu (blánu, film)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Kondenzace kapičková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nastane v případě, že kondenzát je nesmáčivá kapalina, která vytvoří na ochlazovacím povrchu zprvu jednotlivé mikroskopické kapičky, jejichž objem s časem roste a které se při dotyku slévají ve větší kapky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Protože v energetice i chladící technice používané teplonosné kapaliny se vyznačují snášivostí, nastává při kondenzaci jejich par blánový charakter tvorby kondenzátu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715824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orie blánovité konden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4568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Veškeré teplo uvolněné při srážení páry přechází z páry do stěny vrstvou kondenzátu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Je-li pohyb kapalné blány laminární, je předáváno teplo prouděním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Předané teplo můžeme vyjádřit rovnicí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Jiná řešení vycházejí z rovnice kontinuity, Navier - Stockesovy rovnice a Fourrier – Kirchhoffovy rovnice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580000" y="5229000"/>
            <a:ext cx="3384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Blánová kondenzace – 2D pohled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508720" y="1628640"/>
          <a:ext cx="3017880" cy="34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1628640"/>
                    <a:ext cx="3017880" cy="34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67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908000" y="4437000"/>
          <a:ext cx="2724480" cy="5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4437000"/>
                    <a:ext cx="27244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0" y="371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dílení tepla při varu a kondenz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9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Sdílení tepla při varu kapaliny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Bublinkový var kapalin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Blánový va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9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Sdílení tepla při kondenzaci páry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eorie blánovité kondenzac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Kondenzace přehřáté a vlhké pár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Kapičková kondenzace pár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orie blánovité konden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375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Určení průtoku na základě vztahu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oučinitel přestupu tepla určíme na základě vztahu: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Ve skutečnosti je o 20 – 22% větší vlivem vlnění blány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508360" y="4941720"/>
            <a:ext cx="3251160" cy="3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Blánová kondenzace – 3D pohled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5219640" y="2133720"/>
          <a:ext cx="3313080" cy="236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2133720"/>
                    <a:ext cx="3313080" cy="23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763640" y="2276640"/>
          <a:ext cx="2028960" cy="69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2276640"/>
                    <a:ext cx="202896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195640" y="4005360"/>
          <a:ext cx="1019160" cy="62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95640" y="4005360"/>
                    <a:ext cx="101916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920" y="907920"/>
            <a:ext cx="715824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denzace přehřáté a vlhké pá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Kondenzace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přehřáté páry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o teplotě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T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vyšší než teplota kondenzace T</a:t>
            </a:r>
            <a:r>
              <a:rPr b="0" lang="cs-CZ" sz="1200" spc="-1" strike="noStrike">
                <a:solidFill>
                  <a:srgbClr val="292929"/>
                </a:solidFill>
                <a:latin typeface="Arial"/>
              </a:rPr>
              <a:t>3,2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příslušná tlaku přehřáté páry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p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představuje současný odvod jak přehřívacího tepla q</a:t>
            </a:r>
            <a:r>
              <a:rPr b="0" lang="cs-CZ" sz="1200" spc="-1" strike="noStrike">
                <a:solidFill>
                  <a:srgbClr val="292929"/>
                </a:solidFill>
                <a:latin typeface="Arial"/>
              </a:rPr>
              <a:t>př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konvekcí v mezní vrstvě na fázovém rozhraní tak odvod skupenského tepla kondenzačního l</a:t>
            </a:r>
            <a:r>
              <a:rPr b="0" lang="cs-CZ" sz="1200" spc="-1" strike="noStrike">
                <a:solidFill>
                  <a:srgbClr val="292929"/>
                </a:solidFill>
                <a:latin typeface="Arial"/>
              </a:rPr>
              <a:t>3,2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vrstvou kondenzátu do ochlazovací ploch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Z tepelné bilance plyne pro součinitel přestupu tepla </a:t>
            </a:r>
            <a:r>
              <a:rPr b="0" lang="cs-CZ" sz="1800" spc="-1" strike="noStrike">
                <a:solidFill>
                  <a:srgbClr val="292929"/>
                </a:solidFill>
                <a:latin typeface="Symbol"/>
                <a:ea typeface="Symbol"/>
              </a:rPr>
              <a:t></a:t>
            </a:r>
            <a:r>
              <a:rPr b="0" lang="cs-CZ" sz="1200" spc="-1" strike="noStrike">
                <a:solidFill>
                  <a:srgbClr val="292929"/>
                </a:solidFill>
                <a:latin typeface="Arial"/>
              </a:rPr>
              <a:t>př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při kondenzaci přehřáté páry platí vztah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kde                        - teplotní rozdíl na fázovém rozhraní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T</a:t>
            </a:r>
            <a:r>
              <a:rPr b="0" i="1" lang="cs-CZ" sz="1400" spc="-1" strike="noStrike">
                <a:solidFill>
                  <a:srgbClr val="292929"/>
                </a:solidFill>
                <a:latin typeface="Arial"/>
              </a:rPr>
              <a:t>s</a:t>
            </a:r>
            <a:r>
              <a:rPr b="0" lang="cs-CZ" sz="1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- teplota ochlazovací ploch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292929"/>
                </a:solidFill>
                <a:latin typeface="Arial"/>
                <a:ea typeface="Arial"/>
              </a:rPr>
              <a:t>α</a:t>
            </a:r>
            <a:r>
              <a:rPr b="0" lang="cs-CZ" sz="1200" spc="-1" strike="noStrike">
                <a:solidFill>
                  <a:srgbClr val="292929"/>
                </a:solidFill>
                <a:latin typeface="Arial"/>
                <a:ea typeface="Arial"/>
              </a:rPr>
              <a:t>k,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      - součinitel přestupu pro konvekci přehřáté pár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el-GR" sz="1800" spc="-1" strike="noStrike">
                <a:solidFill>
                  <a:srgbClr val="292929"/>
                </a:solidFill>
                <a:latin typeface="Arial"/>
                <a:ea typeface="Arial"/>
              </a:rPr>
              <a:t>α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      - součinitel přestupu pro kondenzaci syté pár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987640" y="4292640"/>
                <a:ext cx="41911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ř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f>
                      <m:num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,2</m:t>
                            </m:r>
                          </m:sub>
                        </m:sSub>
                      </m:num>
                      <m:den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t xml:space="preserve">α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,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454040" y="4894200"/>
                <a:ext cx="12286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,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715824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denzace přehřáté a vlhké pá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99640" y="2276640"/>
            <a:ext cx="765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Z rovnice                            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plyne, že čím vyšší je teplota přehřáté páry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T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, tím nižší je součinitel přestupu tepla </a:t>
            </a:r>
            <a:r>
              <a:rPr b="0" lang="cs-CZ" sz="1800" spc="-1" strike="noStrike">
                <a:solidFill>
                  <a:srgbClr val="292929"/>
                </a:solidFill>
                <a:latin typeface="Symbol"/>
                <a:ea typeface="Symbol"/>
              </a:rPr>
              <a:t></a:t>
            </a:r>
            <a:r>
              <a:rPr b="0" lang="cs-CZ" sz="1200" spc="-1" strike="noStrike">
                <a:solidFill>
                  <a:srgbClr val="292929"/>
                </a:solidFill>
                <a:latin typeface="Arial"/>
              </a:rPr>
              <a:t>př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. Naopak pro T = T</a:t>
            </a:r>
            <a:r>
              <a:rPr b="0" lang="cs-CZ" sz="1200" spc="-1" strike="noStrike">
                <a:solidFill>
                  <a:srgbClr val="292929"/>
                </a:solidFill>
                <a:latin typeface="Arial"/>
              </a:rPr>
              <a:t>3,2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je  </a:t>
            </a:r>
            <a:r>
              <a:rPr b="0" lang="cs-CZ" sz="1800" spc="-1" strike="noStrike">
                <a:solidFill>
                  <a:srgbClr val="292929"/>
                </a:solidFill>
                <a:latin typeface="Symbol"/>
                <a:ea typeface="Symbol"/>
              </a:rPr>
              <a:t></a:t>
            </a:r>
            <a:r>
              <a:rPr b="0" lang="cs-CZ" sz="1200" spc="-1" strike="noStrike">
                <a:solidFill>
                  <a:srgbClr val="292929"/>
                </a:solidFill>
                <a:latin typeface="Arial"/>
              </a:rPr>
              <a:t>př = </a:t>
            </a:r>
            <a:r>
              <a:rPr b="0" lang="cs-CZ" sz="1800" spc="-1" strike="noStrike">
                <a:solidFill>
                  <a:srgbClr val="292929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Kondenzace přehřáté páry je termokineticky nevýhodná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059280" y="2133720"/>
          <a:ext cx="2809800" cy="57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2133720"/>
                    <a:ext cx="28098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0" y="371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715824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denzace přehřáté a vlhké pá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92929"/>
                </a:solidFill>
                <a:latin typeface="Arial"/>
              </a:rPr>
              <a:t>Vlhká pára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představuje směs syté páry a syté kapaliny o teplotě kondenzace </a:t>
            </a:r>
            <a:r>
              <a:rPr b="0" i="1" lang="en-US" sz="1800" spc="-1" strike="noStrike">
                <a:solidFill>
                  <a:srgbClr val="292929"/>
                </a:solidFill>
                <a:latin typeface="Arial"/>
              </a:rPr>
              <a:t>T</a:t>
            </a:r>
            <a:r>
              <a:rPr b="0" i="1" lang="en-US" sz="1200" spc="-1" strike="noStrike">
                <a:solidFill>
                  <a:srgbClr val="292929"/>
                </a:solidFill>
                <a:latin typeface="Arial"/>
              </a:rPr>
              <a:t>3,2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příslušné tlaku páry </a:t>
            </a:r>
            <a:r>
              <a:rPr b="0" i="1" lang="en-US" sz="1800" spc="-1" strike="noStrike">
                <a:solidFill>
                  <a:srgbClr val="292929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uchost vlhké páry je dána vztahem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 vyjadřuje hmotnostní množství syté páry v kilogramech v 1kg vlhké páry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Vrstvou kondenzátu odvedené kondenzační teplo vlhké páry </a:t>
            </a:r>
            <a:r>
              <a:rPr b="0" i="1" lang="en-US" sz="1800" spc="-1" strike="noStrike">
                <a:solidFill>
                  <a:srgbClr val="292929"/>
                </a:solidFill>
                <a:latin typeface="Arial"/>
              </a:rPr>
              <a:t>l</a:t>
            </a:r>
            <a:r>
              <a:rPr b="0" i="1" lang="en-US" sz="1200" spc="-1" strike="noStrike">
                <a:solidFill>
                  <a:srgbClr val="292929"/>
                </a:solidFill>
                <a:latin typeface="Arial"/>
              </a:rPr>
              <a:t>3,2x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je tím menší, čím menší je suchost páry </a:t>
            </a:r>
            <a:r>
              <a:rPr b="0" i="1" lang="en-US" sz="1800" spc="-1" strike="noStrike">
                <a:solidFill>
                  <a:srgbClr val="292929"/>
                </a:solidFill>
                <a:latin typeface="Arial"/>
              </a:rPr>
              <a:t>x ( 0 &lt; x &lt; 1 )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5724360" y="2852640"/>
                <a:ext cx="10573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'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492360" y="5300640"/>
                <a:ext cx="212436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3,2</m:t>
                        </m:r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3,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715824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denzace přehřáté a vlhké pá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oučinitel přestupu tepla </a:t>
            </a:r>
            <a:r>
              <a:rPr b="0" lang="en-US" sz="1800" spc="-1" strike="noStrike">
                <a:solidFill>
                  <a:srgbClr val="292929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při kondenzaci vlhké páry určíme ze vztahů pro kondenzaci syté páry, kde místo kondenzačního tepla syté páry  dosadíme kondenzační teplo vlhké páry 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To je za předpokladu, že kapalná složka vlhké páry ve tvaru kapiček se nedostane do styku s vrstvou kondenzátu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981000"/>
            <a:ext cx="7158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pičková kondenzace pá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V případech, kdy kondenzát nesmáčí ochlazovací povrch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Nesmáčivé kapaliny se vyznačují velkou hodnotou  povrchového napětí </a:t>
            </a:r>
            <a:r>
              <a:rPr b="0" lang="cs-CZ" sz="1800" spc="-1" strike="noStrike">
                <a:solidFill>
                  <a:srgbClr val="292929"/>
                </a:solidFill>
                <a:latin typeface="Symbol"/>
                <a:ea typeface="Symbol"/>
              </a:rPr>
              <a:t>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292929"/>
                </a:solidFill>
                <a:uFillTx/>
                <a:latin typeface="Arial"/>
              </a:rPr>
              <a:t>Princip: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na ochlazovacím povrchu se vytvářejí drobné kapičky kondenzátu, které v důsledku velkého povrchového napětí </a:t>
            </a:r>
            <a:r>
              <a:rPr b="0" lang="cs-CZ" sz="1800" spc="-1" strike="noStrike">
                <a:solidFill>
                  <a:srgbClr val="292929"/>
                </a:solidFill>
                <a:latin typeface="Symbol"/>
                <a:ea typeface="Symbol"/>
              </a:rPr>
              <a:t>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mají kulový tvar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Z teoretického hlediska je to obrácený děj vůči tvorbě parní bublinky na varném jádře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V obou případech předpokládáme, že fázové rozhraní má tvar kulového povrchu.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71280" y="907920"/>
            <a:ext cx="7157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pičková kondenzace pá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Obdržíme analogické vztahy pro podchlazení páry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ΔT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pro vznik kapičky kondenzátu o počátečním poloměru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R</a:t>
            </a:r>
            <a:r>
              <a:rPr b="0" i="1" lang="cs-CZ" sz="1400" spc="-1" strike="noStrike">
                <a:solidFill>
                  <a:srgbClr val="29292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a pro minimální poloměr kapičky kondenzátu a idealizovaného kondenzačního jádra R</a:t>
            </a:r>
            <a:r>
              <a:rPr b="0" i="1" lang="cs-CZ" sz="1400" spc="-1" strike="noStrike">
                <a:solidFill>
                  <a:srgbClr val="292929"/>
                </a:solidFill>
                <a:latin typeface="Arial"/>
              </a:rPr>
              <a:t>0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276720" y="2781360"/>
                <a:ext cx="29048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σ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,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l</m:t>
                            </m:r>
                          </m:e>
                          <m:sub>
                            <m:r>
                              <m:t xml:space="preserve">3,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,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17928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564000" y="4797360"/>
                <a:ext cx="2400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σ</m:t>
                        </m:r>
                      </m:num>
                      <m:den>
                        <m:sSub>
                          <m:e>
                            <m:r>
                              <m:t xml:space="preserve">ρl</m:t>
                            </m:r>
                          </m:e>
                          <m:sub>
                            <m:r>
                              <m:t xml:space="preserve">3,2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,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,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71280" y="980640"/>
            <a:ext cx="715788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pičková kondenzace pá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292929"/>
                </a:solidFill>
                <a:uFillTx/>
                <a:latin typeface="Arial"/>
              </a:rPr>
              <a:t>Závěr: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tejný jako z teorie tvorby parní bublinky, a to, že čím větší j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odchlazení ochlazovací plochy </a:t>
            </a:r>
            <a:r>
              <a:rPr b="0" i="1" lang="en-US" sz="1800" spc="-1" strike="noStrike">
                <a:solidFill>
                  <a:srgbClr val="292929"/>
                </a:solidFill>
                <a:latin typeface="Symbol"/>
                <a:ea typeface="Symbol"/>
              </a:rPr>
              <a:t></a:t>
            </a:r>
            <a:r>
              <a:rPr b="0" i="1" lang="en-US" sz="1800" spc="-1" strike="noStrike">
                <a:solidFill>
                  <a:srgbClr val="292929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vůči teplotě kondenzující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áry </a:t>
            </a:r>
            <a:r>
              <a:rPr b="0" i="1" lang="en-US" sz="1800" spc="-1" strike="noStrike">
                <a:solidFill>
                  <a:srgbClr val="292929"/>
                </a:solidFill>
                <a:latin typeface="Arial"/>
              </a:rPr>
              <a:t>T</a:t>
            </a:r>
            <a:r>
              <a:rPr b="0" i="1" lang="en-US" sz="1200" spc="-1" strike="noStrike">
                <a:solidFill>
                  <a:srgbClr val="292929"/>
                </a:solidFill>
                <a:latin typeface="Arial"/>
              </a:rPr>
              <a:t>3,2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, tím menší kondenzační jádra na ochlazovacím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ovrchu se aktivují pro tvorbu kapiček kondenzátu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odobně jako s časem roste v důsledku vypařování kapaliny objem parní bublinky na varném jádru, roste v důsledku kondenzace páry objem kapičky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kondenzátu na kondenzačním jádru na svislé ochlazovací ploše až na mezní hodnotu, kdy gravitační síla překoná sílu kapilární a sílu setrvačnou a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kapka kondenzátu sjede po ochlazovací stěně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řitom strhne s sebou kapičky nalézající se v dráze jejího pohybu a n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obnaženém ochlazovacím povrchu se začnou tvořit nové kapičk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kondenzátu a děj se periodicky opakuje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71280" y="836280"/>
            <a:ext cx="715788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pičková kondenzace pá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Čím menší je velikost kapiček, tím větší je jejich počet a tím větší je i povrch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ázového rozhraní a nižší jeho teplota. Kondenzačním teplem se kapičk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ohřívá a klesá rozdíl mezi teplotou páry a povrchem kapičky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roto je intenzita kondenzace páry a rychlost růstu kapičky kondenzátu tím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větší, čím menší je velikost kapičky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V důsledku periodického obnovování tvorby malých kapiček kondenzátu j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oučinitel přestupu tepla </a:t>
            </a:r>
            <a:r>
              <a:rPr b="0" lang="en-US" sz="1800" spc="-1" strike="noStrike">
                <a:solidFill>
                  <a:srgbClr val="292929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u kapičkové kondenzace vyšší než u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kondenzace blánové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71280" y="836280"/>
            <a:ext cx="71578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pičková kondenzace pá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Přestože se při kapičkové kondenzaci dosahuje vysokých hodnot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součinitele přestupu tepla </a:t>
            </a:r>
            <a:r>
              <a:rPr b="0" lang="cs-CZ" sz="1800" spc="-1" strike="noStrike">
                <a:solidFill>
                  <a:srgbClr val="292929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, brání jejímu uplatnění v energetické praxi to, že technicky důležité kapaliny mají malé povrchové napětí, tj. jsou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smáčivé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Úpravy ochlazovacího povrchu, které měly docílit kapičkovou kondenzaci smáčivých kapalin, nevykazovaly i při laboratorních podmínkách dlouhodobou časovou stálost a v technické praxi byl účinek úprav ochlazovacího povrchu potlačen jeho znečištěním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dílení tepla při varu kapali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Var kapaliny představuje změnu skupenství kapalného v plynné na výhřevné ploše v důsledku měrného tepelného toku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q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sděleného konvekcí kapalině při teplotním rozdílu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TS – T2,3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TS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- teplota výhřevné ploch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T2,3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 -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teplota změny skupenství (teplota sytosti), příslušná tlaku kapaliny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na výhřevné ploš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Teplota změny skupenství roste s tlakem kapaliny a platí:            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Ttr </a:t>
            </a:r>
            <a:r>
              <a:rPr b="0" i="1" lang="de-DE" sz="1800" spc="-1" strike="noStrike">
                <a:solidFill>
                  <a:srgbClr val="292929"/>
                </a:solidFill>
                <a:latin typeface="Arial"/>
              </a:rPr>
              <a:t>&lt; T2,3 &lt; Tk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92929"/>
                </a:solidFill>
                <a:latin typeface="Arial"/>
              </a:rPr>
              <a:t>Podle charakteru tvorby plynné fáze na výhřevné ploše rozeznáváme </a:t>
            </a:r>
            <a:r>
              <a:rPr b="1" i="1" lang="de-DE" sz="1800" spc="-1" strike="noStrike" u="sng">
                <a:solidFill>
                  <a:srgbClr val="292929"/>
                </a:solidFill>
                <a:uFillTx/>
                <a:latin typeface="Arial"/>
              </a:rPr>
              <a:t>var</a:t>
            </a:r>
            <a:r>
              <a:rPr b="0" i="1" lang="de-DE" sz="1800" spc="-1" strike="noStrike" u="sng">
                <a:solidFill>
                  <a:srgbClr val="292929"/>
                </a:solidFill>
                <a:uFillTx/>
                <a:latin typeface="Arial"/>
              </a:rPr>
              <a:t> </a:t>
            </a:r>
            <a:r>
              <a:rPr b="1" i="1" lang="de-DE" sz="1800" spc="-1" strike="noStrike" u="sng">
                <a:solidFill>
                  <a:srgbClr val="292929"/>
                </a:solidFill>
                <a:uFillTx/>
                <a:latin typeface="Arial"/>
              </a:rPr>
              <a:t>bublinkový</a:t>
            </a:r>
            <a:r>
              <a:rPr b="0" i="1" lang="de-DE" sz="1800" spc="-1" strike="noStrike" u="sng">
                <a:solidFill>
                  <a:srgbClr val="292929"/>
                </a:solidFill>
                <a:uFillTx/>
                <a:latin typeface="Arial"/>
              </a:rPr>
              <a:t> a </a:t>
            </a:r>
            <a:r>
              <a:rPr b="1" i="1" lang="de-DE" sz="1800" spc="-1" strike="noStrike" u="sng">
                <a:solidFill>
                  <a:srgbClr val="292929"/>
                </a:solidFill>
                <a:uFillTx/>
                <a:latin typeface="Arial"/>
              </a:rPr>
              <a:t>var blánový</a:t>
            </a:r>
            <a:r>
              <a:rPr b="0" i="1" lang="de-DE" sz="1800" spc="-1" strike="noStrike" u="sng">
                <a:solidFill>
                  <a:srgbClr val="292929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ěkujem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dílení tepla při varu kapalin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blinkový v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ředstavuje změnu skupenství kapalného v plynné na výhřevné ploše -&gt; na varných jádre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Čím větší je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mikronerovnost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varného jádra, tím větší je lokální styčná plocha kapaliny s povrchem varného jádra a tím větší je i lokální tok tepla, který způsobí odpaření kapaliny na varném jádru a </a:t>
            </a:r>
            <a:r>
              <a:rPr b="0" i="1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vznik parní bublink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 důsledku vztlakové síly jsou parní bublinky odtrhovány od varného jádra s tím větší frekvencí, čím větší je lokální hustota toku tepla na varném jádru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 důsledku povrchového napětí kapaliny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σ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, které dává parní bublince při jejím vzniku kulový tvar o poloměru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R</a:t>
            </a:r>
            <a:r>
              <a:rPr b="0" i="1" lang="cs-CZ" sz="20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, je v parní bublince přetlak pár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blinkový v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36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Laplace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: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rozdíl tlaků (voda-bublina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Kelvinova korekce tlaku páry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 u="sng">
                <a:solidFill>
                  <a:srgbClr val="292929"/>
                </a:solidFill>
                <a:uFillTx/>
                <a:latin typeface="Arial"/>
              </a:rPr>
              <a:t>Celkový přetlak páry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 v parní bublince: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 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Z rovnice Clausius-Clapeyronovy odpovídá přetlaku 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Δp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 páry v bublince přehřátí 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ΔT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 kapaliny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Rovnice (4) vyjadřuje přehřátí kapaliny 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ΔT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 na varném jádru s teplotou 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TS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 nutné pro vznik parní bublinky o počátečním poloměru 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R0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987640" y="1916280"/>
                <a:ext cx="1562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148360" y="2565360"/>
                <a:ext cx="2133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σ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num>
                      <m:den>
                        <m:r>
                          <m:t xml:space="preserve">ρ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859280" y="4292640"/>
                <a:ext cx="285768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σ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,3</m:t>
                            </m:r>
                          </m:sub>
                        </m:sSub>
                      </m:num>
                      <m:den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,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,3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5219640" y="3429000"/>
                <a:ext cx="19018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σ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ρ</m:t>
                        </m:r>
                      </m:num>
                      <m:den>
                        <m:r>
                          <m:t xml:space="preserve">ρ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blinkový v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29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čím menší je lokální nerovnost výhřevné plochy, tím větší je nutné přehřátí ΔT kapaliny pro vznik parní bublinky o počátečním poloměru R0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Pro var vody při přehřátí </a:t>
            </a:r>
            <a:r>
              <a:rPr b="0" lang="el-GR" sz="1600" spc="-1" strike="noStrike">
                <a:solidFill>
                  <a:srgbClr val="292929"/>
                </a:solidFill>
                <a:latin typeface="Arial"/>
                <a:ea typeface="Arial"/>
              </a:rPr>
              <a:t>Δ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  <a:ea typeface="Arial"/>
              </a:rPr>
              <a:t>T=25K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plynou počáteční poloměry parní                   bublinky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při tlaku p= 10</a:t>
            </a:r>
            <a:r>
              <a:rPr b="0" lang="cs-CZ" sz="1600" spc="-1" strike="noStrike" baseline="30000">
                <a:solidFill>
                  <a:srgbClr val="292929"/>
                </a:solidFill>
                <a:latin typeface="Arial"/>
              </a:rPr>
              <a:t>5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Pa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při tlaku p= 10</a:t>
            </a:r>
            <a:r>
              <a:rPr b="0" lang="cs-CZ" sz="1600" spc="-1" strike="noStrike" baseline="30000">
                <a:solidFill>
                  <a:srgbClr val="292929"/>
                </a:solidFill>
                <a:latin typeface="Arial"/>
              </a:rPr>
              <a:t>7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Pa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Velikost maximálního objemu parní bublinky v okamžiku odtržení od výhřevné plochy plyne z rovnováhy vztlakové a kapilární síly, vyjádřené úhlem smáčení kapaliny φ a Laplaceovou kapilární konstantou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908000" y="3068640"/>
                <a:ext cx="16131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,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835280" y="3357720"/>
                <a:ext cx="17143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492360" y="5157720"/>
                <a:ext cx="22766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σ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ρ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ρ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''</m:t>
                                    </m:r>
                                  </m:e>
                                </m:d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,5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blinkový v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Předpokládáme-li kulový objem parní bublinky v okamžiku odtržení od varného jádra, má její maximální průměr hodnotu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kde φ je úhel smáčení kapaliny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Pro var vody (</a:t>
            </a:r>
            <a:r>
              <a:rPr b="0" lang="el-GR" sz="1800" spc="-1" strike="noStrike">
                <a:solidFill>
                  <a:srgbClr val="292929"/>
                </a:solidFill>
                <a:latin typeface="Arial"/>
                <a:ea typeface="Arial"/>
              </a:rPr>
              <a:t>φ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=45°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) obdržíme z rovnice (7) hodnoty maximálního průměru parní bublinky 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při tlaku 10</a:t>
            </a:r>
            <a:r>
              <a:rPr b="0" lang="cs-CZ" sz="1800" spc="-1" strike="noStrike" baseline="30000">
                <a:solidFill>
                  <a:srgbClr val="292929"/>
                </a:solidFill>
                <a:latin typeface="Arial"/>
              </a:rPr>
              <a:t>5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Pa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při tlaku 10</a:t>
            </a:r>
            <a:r>
              <a:rPr b="0" lang="cs-CZ" sz="1800" spc="-1" strike="noStrike" baseline="30000">
                <a:solidFill>
                  <a:srgbClr val="292929"/>
                </a:solidFill>
                <a:latin typeface="Arial"/>
              </a:rPr>
              <a:t>7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Pa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292929"/>
                </a:solidFill>
                <a:uFillTx/>
                <a:latin typeface="Arial"/>
              </a:rPr>
              <a:t>Doba </a:t>
            </a:r>
            <a:r>
              <a:rPr b="0" lang="en-US" sz="1800" spc="-1" strike="noStrike" u="sng">
                <a:solidFill>
                  <a:srgbClr val="292929"/>
                </a:solidFill>
                <a:uFillTx/>
                <a:latin typeface="Arial"/>
              </a:rPr>
              <a:t>růstu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parní bublinky stoupá s tlakem a klesá s přehřátím kapaliny </a:t>
            </a:r>
            <a:r>
              <a:rPr b="0" lang="el-GR" sz="1800" spc="-1" strike="noStrike">
                <a:solidFill>
                  <a:srgbClr val="292929"/>
                </a:solidFill>
                <a:latin typeface="Arial"/>
                <a:ea typeface="Arial"/>
              </a:rPr>
              <a:t>Δ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T. Pro var vody (p=10</a:t>
            </a:r>
            <a:r>
              <a:rPr b="0" lang="cs-CZ" sz="1800" spc="-1" strike="noStrike" baseline="30000">
                <a:solidFill>
                  <a:srgbClr val="292929"/>
                </a:solidFill>
                <a:latin typeface="Arial"/>
                <a:ea typeface="Arial"/>
              </a:rPr>
              <a:t>5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 Pa, </a:t>
            </a:r>
            <a:r>
              <a:rPr b="0" lang="el-GR" sz="1800" spc="-1" strike="noStrike">
                <a:solidFill>
                  <a:srgbClr val="292929"/>
                </a:solidFill>
                <a:latin typeface="Arial"/>
                <a:ea typeface="Arial"/>
              </a:rPr>
              <a:t>Δ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T=25K) dostaneme hodnotu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771640" y="2708280"/>
                <a:ext cx="23497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2088</m:t>
                    </m:r>
                    <m:r>
                      <m:t xml:space="preserve">⋅</m:t>
                    </m:r>
                    <m:r>
                      <m:t xml:space="preserve">ϕ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124000" y="4005360"/>
                <a:ext cx="12956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050920" y="4508640"/>
                <a:ext cx="12621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427640" y="5516640"/>
                <a:ext cx="104616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67</m:t>
                    </m:r>
                    <m:r>
                      <m:t xml:space="preserve"> 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560" y="69228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xperimentální řešení určení součinitele přestupu tepla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při va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Základní experimentální veličiny:  </a:t>
            </a:r>
            <a:r>
              <a:rPr b="0" i="1" lang="el-GR" sz="1800" spc="-1" strike="noStrike">
                <a:solidFill>
                  <a:srgbClr val="292929"/>
                </a:solidFill>
                <a:latin typeface="Arial"/>
                <a:ea typeface="Arial"/>
              </a:rPr>
              <a:t>Δ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T  - přehřátí kapalin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   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p  - tlak na výhřevné ploš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   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q  - hustota tepelného toku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Bublinkový var vody při atmosférickém tlaku je omezen hodnotami </a:t>
            </a:r>
            <a:r>
              <a:rPr b="0" i="1" lang="el-GR" sz="1800" spc="-1" strike="noStrike">
                <a:solidFill>
                  <a:srgbClr val="292929"/>
                </a:solidFill>
                <a:latin typeface="Arial"/>
                <a:ea typeface="Arial"/>
              </a:rPr>
              <a:t>Δ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T, q       =&gt;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odpovídající hodnoty </a:t>
            </a:r>
            <a:r>
              <a:rPr b="0" lang="el-GR" sz="2000" spc="-1" strike="noStrike">
                <a:solidFill>
                  <a:srgbClr val="292929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Pro bublinkový var vody při volné konvekci v rozsahu tlaků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   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  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byli navrženy rovnice pro součinitel přestupu tepla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912960" y="4264200"/>
                <a:ext cx="26082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</m:t>
                    </m:r>
                    <m:r>
                      <m:t xml:space="preserve">&lt;</m:t>
                    </m:r>
                    <m:r>
                      <m:t xml:space="preserve">p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276720" y="4869000"/>
                <a:ext cx="348768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2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276720" y="5372280"/>
                <a:ext cx="32605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60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0,7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5T10:09:14Z</dcterms:created>
  <dc:creator>Tom</dc:creator>
  <dc:description/>
  <dc:language>en-US</dc:language>
  <cp:lastModifiedBy>Tom</cp:lastModifiedBy>
  <dcterms:modified xsi:type="dcterms:W3CDTF">2007-04-10T12:08:23Z</dcterms:modified>
  <cp:revision>7</cp:revision>
  <dc:subject/>
  <dc:title>Sdílení tepla při fázových přeměnách</dc:title>
</cp:coreProperties>
</file>