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8656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B51-AB27-45B3-BD5B-364B32A6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CB5-7915-457A-86D3-9CB30B79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940-1BE1-4DE1-B15F-3AE1F812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E30-A5AC-4E7B-8058-FCB63665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900-193E-469F-8BFE-22EFEDA6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611-7F2D-4F9C-8246-333EBE2D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31C-677A-47AB-B3D0-2E72C22E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F6B-5B8C-464C-B328-7AEBB39B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CB6-A973-4510-A144-F7DC51EC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97D-CA98-47AD-980F-6EFB5AC3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469-89F9-4ACE-A796-8636C730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3E1-62CF-4B17-9474-B0912B9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54A5-D9D3-4A88-9361-214B3057E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6948000" y="580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tin KOŠTÍ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35640" y="119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ické Tep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848720" cy="563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éma elektrárny s MHD generátor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62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ýhody MHD zaříze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628640"/>
            <a:ext cx="84247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žnost výstavby velkých jednotek – 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retická Carnotova účinnost až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 spojení s klasickou turbínou a generátorem až 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epší využití p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nší e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lká a rychlá regulační schop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duc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výhody MHD zaříze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628640"/>
            <a:ext cx="84247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lké rozm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nášení elektrod struskou a ionizačními přísad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tráty v ka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pájení supravodivého magnetu + chla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třeba vysokoteplotních ohřívačů vzduc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třeba stínění značných rozptylových p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olnost materi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34136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SSR – pro výzkum vlastností zemské ků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100MW po dobu několika sek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duchá konstrukce:  raketový motor, kanál, magnet a připojení k zátěž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ulsní MHD generát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111320"/>
            <a:ext cx="8229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542880"/>
            <a:ext cx="8229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837072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 pohyblivé čá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potřebují zvláštní vyhřívací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 náchylná ke kavi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nadná regulace průt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ižší ú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timum účinnosti v úzkém pásu  kolem pracovního b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lektromagnetická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82296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erpání čistého Na do 100 m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ní přetlak 49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ximální teplota čerpaného kovu 500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lazení aktivních částí vzduc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charakteristi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640" y="443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duk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duk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5798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typ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dukční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82296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ejnosměrn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měrně velká ú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lké proudy a napět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žití : jako průtokom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řída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lké parazitní vířivé proudy -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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, co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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žití : pro malá množství a malé přetl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5872" r="0" b="16015"/>
          <a:stretch/>
        </p:blipFill>
        <p:spPr>
          <a:xfrm>
            <a:off x="468360" y="1268280"/>
            <a:ext cx="8342280" cy="5256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20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princip kondukčního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25360"/>
            <a:ext cx="4751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atematik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HD gener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HD čerpad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20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uspořádání kondukčního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29312" t="5641" r="24139" b="24680"/>
          <a:stretch/>
        </p:blipFill>
        <p:spPr>
          <a:xfrm>
            <a:off x="755640" y="1700280"/>
            <a:ext cx="4821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Indukční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širší použití, nejčastěji vyrábě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incip indukčního mo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62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141720"/>
            <a:ext cx="2089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álcová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loch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roub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0" b="5459"/>
          <a:stretch/>
        </p:blipFill>
        <p:spPr>
          <a:xfrm>
            <a:off x="611280" y="1006560"/>
            <a:ext cx="7848360" cy="5532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9640" y="620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ladní princip indukčního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1461" t="0" r="0" b="20793"/>
          <a:stretch/>
        </p:blipFill>
        <p:spPr>
          <a:xfrm>
            <a:off x="324000" y="1484280"/>
            <a:ext cx="8377200" cy="41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6206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rincip plochého Indukčního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4514" r="0" b="15798"/>
          <a:stretch/>
        </p:blipFill>
        <p:spPr>
          <a:xfrm>
            <a:off x="468360" y="1197000"/>
            <a:ext cx="8207280" cy="5581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9640" y="6206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rincip válcového Indukčního čerpad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125360"/>
            <a:ext cx="81360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2251"/>
              </a:spcBef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udoucno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měna energie plazmy v Tokamaku na el. energ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při řízené termonukleární reak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u NERVA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Energy for Rocket Vehicle Applicat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využití MHD generátoru v kombinaci s jaderným reaktorem pro pohon kosmických ra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HD pohony lodí a pon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rodní MHD generátory – atmosféra, příliv a odliv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20640"/>
            <a:ext cx="84250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efin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gnetohydrodynamika je nauka o chování vodivé tekutiny (kapaliny nebo plazmatu) v magnetickém p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620640"/>
            <a:ext cx="57610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istori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831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aday popsal funkci MHD generátor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832  - Základní MHD generátor – tokomě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0 – 50 léta inspiroval další rozvoj řešení  kosmických problé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946  - První energie z MHD (Westingho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956  - HMD generátor 10k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963  - HMD generátor 33M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970  - Přednost má já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ichael Faraday"/>
          <p:cNvPicPr/>
          <p:nvPr/>
        </p:nvPicPr>
        <p:blipFill>
          <a:blip r:embed="rId1"/>
          <a:stretch/>
        </p:blipFill>
        <p:spPr>
          <a:xfrm>
            <a:off x="6353280" y="981000"/>
            <a:ext cx="2539800" cy="354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91280" y="465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Fara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62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atematik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0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39640" y="1268280"/>
                <a:ext cx="1602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800" y="24440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00360" y="1411200"/>
                <a:ext cx="2311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800" y="29566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80000" y="1411200"/>
                <a:ext cx="1575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347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5360" y="2276640"/>
                <a:ext cx="73897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rPr>
                            <m:lit/>
                            <m:nor/>
                          </m:rPr>
                          <m:t xml:space="preserve">  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]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σ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rPr>
                            <m:lit/>
                            <m:nor/>
                          </m:rPr>
                          <m:t xml:space="preserve">  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σμ</m:t>
                        </m:r>
                      </m:den>
                    </m:f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σ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grad</m:t>
                    </m:r>
                    <m:r>
                      <m:rPr>
                        <m:lit/>
                        <m:nor/>
                      </m:rPr>
                      <m:t xml:space="preserve">  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43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09760" y="4292640"/>
                <a:ext cx="3198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σμ</m:t>
                        </m:r>
                      </m:den>
                    </m:f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500720" y="43639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ná rovnice pro změnu magnetického pole ve vodivém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62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allův Je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7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38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90920" y="1447920"/>
          <a:ext cx="5763960" cy="41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576396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95280" y="1628640"/>
            <a:ext cx="4786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psán 18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62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HD generátory - princi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11280" y="1628640"/>
          <a:ext cx="365760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365760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500720" y="1628640"/>
          <a:ext cx="399096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628640"/>
                    <a:ext cx="399096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620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HD generátory – různé typ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628640"/>
          <a:ext cx="40384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4038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1628640"/>
          <a:ext cx="399744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628640"/>
                    <a:ext cx="3997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ohydr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élka kanálu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ška kanál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,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zduchová mezer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0,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nitřní průměr vinut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lota plazm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 8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gnetická indukc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plazm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 000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odivost plazm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00 S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ustota výkon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0 až 500 MW/c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livo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nědé uhlí, ropa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emní ply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á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620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arametry kanálu cca 500M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26920" y="5661000"/>
                <a:ext cx="3168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8:58:23Z</dcterms:created>
  <dc:creator>Angel</dc:creator>
  <dc:description/>
  <dc:language>en-US</dc:language>
  <cp:lastModifiedBy>Eva</cp:lastModifiedBy>
  <dcterms:modified xsi:type="dcterms:W3CDTF">2004-05-10T19:52:28Z</dcterms:modified>
  <cp:revision>22</cp:revision>
  <dc:subject/>
  <dc:title>Magnetohydrodynamika</dc:title>
</cp:coreProperties>
</file>