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5AC-5E2D-4B6A-956A-50C068A5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C02-667B-44AA-BB2F-F56ECFF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2B6-EC4A-45A6-A44F-4CD28945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820-268C-4AB2-8F3B-907A807F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F11-5FCF-4D7A-80E3-2B9D298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F2E-151F-4426-A4DD-F4D8D8FE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19B-6740-4AD8-AC89-6293ADBB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E4B-B1B7-496D-BCDF-2140922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175-6710-4103-9BE5-EC7938FA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08A-B53B-4763-A415-58A70B1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6B6-0C97-42A8-A6BD-5BB587C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1AD-B0C3-416E-B106-0923918B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3F7B-B3BB-4A4D-9879-521A0BFD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č numerické met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ký způsob vytváření matematického mod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69260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133720"/>
            <a:ext cx="42670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ém se chová dle fyzikálních zák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členění podstatných procesů     v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matematickém popisu zanedbáváme méně podstatné vl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érium kvality = souhlas s realit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esnost numerického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a konverg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kové meto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nost resp. chyba metody vyjádřena mocnino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řád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á chyba = diskretizační chyba + zaokrouhlovací chy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2421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270828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105080" cy="318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33920" y="1523880"/>
                <a:ext cx="2800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h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lim/>
                    </m:limLow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p pro určení skutečné chy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e požadované přesnosti a řádu přesnosti metody odhadneme velikost kroku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lezneme řešení s tímto kro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enšíme k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ět nalezneme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dnoty závislé proměnné z obou řešení ve stejných bodech nezávisle proměnné porovnáme        správné jsou ty dekadické řády výsledků, které se u obou řešení neli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me-li se získanou přesností spokojeni opět zmenšíme krok a porovnáváme výsledky dvou posledních kr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429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ta numerického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ní numerické řešení       chyby vnášené do výpočtu se vhodně utlumují a nerost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bilní numerické řešení        chyby se kumulují         výsledky jsou zcela nepouž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a závisí na volbě velikosti h        pokud h         větší pravděpodobnost ne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ním kroku stability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1197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844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1844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565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43640" y="2565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6100560" y="2547360"/>
            <a:ext cx="360360" cy="106560"/>
          </a:xfrm>
          <a:prstGeom prst="rightArrow">
            <a:avLst>
              <a:gd name="adj1" fmla="val 50000"/>
              <a:gd name="adj2" fmla="val 845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446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ční programovací jazy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icově orient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lokově orient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ulově orientov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60" y="3428640"/>
            <a:ext cx="8136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 výpočtu lineárních OD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popis dynamického modelu daná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jednodušší metodou je Eulerov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mi metodami js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nge – K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krokové metody (proložení interpolačním polynom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xplicitní Adams – Bashw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mplicitní Adams – Mou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incip Eulerovy metody řešení O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a poměrně hrubá, ilustruje využíti Taylorova polyno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a jednokroková, prvního řádu pře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ešíme funkci typ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124080" y="2362320"/>
                <a:ext cx="1905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00400" y="3657600"/>
                <a:ext cx="1682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3429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90920" y="4572000"/>
                <a:ext cx="3047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408600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fické znázornění Eulerovy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oda Runge - K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a z nejpoužívanějších met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kroková, metoda 4. řádu pře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jednom kroku vypočítáme 4 pomoc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7200" y="2666880"/>
                <a:ext cx="342900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981080" y="5495760"/>
                <a:ext cx="54864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krokové 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ají i starší historii než pouze předchozí k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ams – Bashfortov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myšlenkou je fci g(t,y) nahradit aproximačním polyn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ný vzorec pro náhradu kubickým polyno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a poměrně jednoduch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ýhodou je nutnost nastartování metody pomocí jednokrokové metody a nestabilita v určitých případ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514600" y="2057400"/>
                <a:ext cx="304812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3429000"/>
                <a:ext cx="6826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46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pravená metoda Adams - Moulto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4600" y="990720"/>
            <a:ext cx="83055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rincip prediktor – kor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výr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diktor vypočteme z předchozího výrazu     získá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66680" y="1828800"/>
                <a:ext cx="6191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3974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63760" y="3733920"/>
                <a:ext cx="243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33520" y="4572000"/>
            <a:ext cx="8305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ět metoda 4. řádu přes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implementována do počítačových progra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hem přesnější než samotná Adams – Bashfothov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ericky stabilní s poměrně jednoduchým řízením k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žití metod pro řešení soustav 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95280"/>
            <a:ext cx="8381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yčejné diferenciální rovnice vyšších řád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počáteč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 rovnici lze jednoduše převést pokud položí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1600200"/>
                <a:ext cx="41907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''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76720" y="3048120"/>
                <a:ext cx="1608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57200" y="4038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ulerova metoda řešení soustavy O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90920" y="4648320"/>
                <a:ext cx="31845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066680" y="1219320"/>
                <a:ext cx="5334120" cy="50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g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g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g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g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a Runge - K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2:28:51Z</dcterms:created>
  <dc:creator>tchor</dc:creator>
  <dc:description/>
  <dc:language>en-US</dc:language>
  <cp:lastModifiedBy>Hrusa</cp:lastModifiedBy>
  <dcterms:modified xsi:type="dcterms:W3CDTF">2007-03-06T12:44:54Z</dcterms:modified>
  <cp:revision>18</cp:revision>
  <dc:subject/>
  <dc:title>Přesnost numerického řešení</dc:title>
</cp:coreProperties>
</file>