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5.png" ContentType="image/png"/>
  <Override PartName="/ppt/media/image14.png" ContentType="image/png"/>
  <Override PartName="/ppt/media/image13.png" ContentType="image/png"/>
  <Override PartName="/ppt/media/image8.png" ContentType="image/png"/>
  <Override PartName="/ppt/media/image1.png" ContentType="image/png"/>
  <Override PartName="/ppt/media/image2.png" ContentType="image/png"/>
  <Override PartName="/ppt/media/image4.png" ContentType="image/png"/>
  <Override PartName="/ppt/media/camera.wav" ContentType="audio/x-wav"/>
  <Override PartName="/ppt/media/image11.png" ContentType="image/png"/>
  <Override PartName="/ppt/media/image6.png" ContentType="image/png"/>
  <Override PartName="/ppt/media/image3.gif" ContentType="image/gif"/>
  <Override PartName="/ppt/media/image7.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CC7AB-836E-4A77-8F12-0E27170D94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F3776-7DC9-4043-B243-38DA28BD56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0F92AF-B744-4E07-85AE-E18DAEF193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0518D-42F0-4746-8E36-678DEB4DB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3429CC-41AC-422B-B165-376B872543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84EBB-DE1F-47E9-9FFB-68441462DE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1C6F0-AA24-440B-9DD6-B9A19E4E5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87E5C-DFC5-4D84-9E61-2580DF35B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1E177-117E-4FC8-BE4E-804054E22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E3BBB-BD61-4512-80E5-E112E24A6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9A53C-8C05-46A9-AAB7-329E9456F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4A551-AFD8-463B-9AC2-6BCD7651C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0E7FC-5776-4E9C-86E6-8F1B41095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D2791-91C4-49AF-AF64-AE80906969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8A8A3-7429-4630-9221-B4F4698710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genemco.com/acatalog/Equipment_Catalog_Heat_Exchangers___HTST_20.html" TargetMode="External"/><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2"/>
          <p:cNvSpPr/>
          <p:nvPr/>
        </p:nvSpPr>
        <p:spPr>
          <a:xfrm>
            <a:off x="1219320" y="4800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456840" y="304920"/>
            <a:ext cx="8381880" cy="914400"/>
          </a:xfrm>
          <a:prstGeom prst="rect">
            <a:avLst/>
          </a:prstGeom>
          <a:solidFill>
            <a:srgbClr val="ffffff"/>
          </a:solidFill>
          <a:ln w="9360">
            <a:solidFill>
              <a:srgbClr val="ff33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late Heat Exchangers </a:t>
            </a:r>
            <a:endParaRPr b="0" lang="en-US" sz="2800" spc="-1" strike="noStrike">
              <a:solidFill>
                <a:srgbClr val="000000"/>
              </a:solidFill>
              <a:latin typeface="Times New Roman"/>
            </a:endParaRPr>
          </a:p>
        </p:txBody>
      </p:sp>
      <p:sp>
        <p:nvSpPr>
          <p:cNvPr id="50" name="PlaceHolder 2"/>
          <p:cNvSpPr>
            <a:spLocks noGrp="1"/>
          </p:cNvSpPr>
          <p:nvPr>
            <p:ph type="subTitle"/>
          </p:nvPr>
        </p:nvSpPr>
        <p:spPr>
          <a:xfrm>
            <a:off x="1371600" y="3276360"/>
            <a:ext cx="6400800" cy="1143000"/>
          </a:xfrm>
          <a:prstGeom prst="rect">
            <a:avLst/>
          </a:prstGeom>
          <a:noFill/>
          <a:ln w="0">
            <a:noFill/>
          </a:ln>
        </p:spPr>
        <p:txBody>
          <a:bodyPr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ript MT Bold"/>
              </a:rPr>
              <a:t>P M V Subbarao</a:t>
            </a:r>
            <a:endParaRPr b="0" lang="en-US" sz="16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ript MT Bold"/>
              </a:rPr>
              <a:t>Professor</a:t>
            </a:r>
            <a:endParaRPr b="0"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echanical Engineering Department</a:t>
            </a:r>
            <a:endParaRPr b="0"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 I T Delhi</a:t>
            </a:r>
            <a:endParaRPr b="0" lang="en-US" sz="1600" spc="-1" strike="noStrike">
              <a:solidFill>
                <a:srgbClr val="000000"/>
              </a:solidFill>
              <a:latin typeface="Times New Roman"/>
            </a:endParaRPr>
          </a:p>
        </p:txBody>
      </p:sp>
      <p:sp>
        <p:nvSpPr>
          <p:cNvPr id="51" name="Text Box 6"/>
          <p:cNvSpPr/>
          <p:nvPr/>
        </p:nvSpPr>
        <p:spPr>
          <a:xfrm>
            <a:off x="228600" y="4419720"/>
            <a:ext cx="853452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Creators of Turbulent Flows at Low Reynolds Number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egoe Script"/>
              </a:rPr>
              <a:t>Overall heat transfer coefficients (U) for plate type exchangers are three to four times those of shell and tube units ……</a:t>
            </a:r>
            <a:endParaRPr b="0" lang="en-US" sz="2800" spc="-1" strike="noStrike">
              <a:solidFill>
                <a:srgbClr val="000000"/>
              </a:solidFill>
              <a:latin typeface="Times New Roman"/>
            </a:endParaRPr>
          </a:p>
        </p:txBody>
      </p:sp>
      <p:grpSp>
        <p:nvGrpSpPr>
          <p:cNvPr id="52" name="Group 7"/>
          <p:cNvGrpSpPr/>
          <p:nvPr/>
        </p:nvGrpSpPr>
        <p:grpSpPr>
          <a:xfrm>
            <a:off x="0" y="0"/>
            <a:ext cx="9144000" cy="6858000"/>
            <a:chOff x="0" y="0"/>
            <a:chExt cx="9144000" cy="6858000"/>
          </a:xfrm>
        </p:grpSpPr>
        <p:grpSp>
          <p:nvGrpSpPr>
            <p:cNvPr id="53" name="Group 8"/>
            <p:cNvGrpSpPr/>
            <p:nvPr/>
          </p:nvGrpSpPr>
          <p:grpSpPr>
            <a:xfrm>
              <a:off x="0" y="0"/>
              <a:ext cx="304560" cy="6857640"/>
              <a:chOff x="0" y="0"/>
              <a:chExt cx="304560" cy="6857640"/>
            </a:xfrm>
          </p:grpSpPr>
          <p:sp>
            <p:nvSpPr>
              <p:cNvPr id="54" name="Rectangle 9"/>
              <p:cNvSpPr/>
              <p:nvPr/>
            </p:nvSpPr>
            <p:spPr>
              <a:xfrm>
                <a:off x="0" y="0"/>
                <a:ext cx="304560" cy="3692520"/>
              </a:xfrm>
              <a:prstGeom prst="rect">
                <a:avLst/>
              </a:prstGeom>
              <a:gradFill rotWithShape="0">
                <a:gsLst>
                  <a:gs pos="0">
                    <a:srgbClr val="ff9900"/>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10"/>
              <p:cNvSpPr/>
              <p:nvPr/>
            </p:nvSpPr>
            <p:spPr>
              <a:xfrm>
                <a:off x="0" y="3466440"/>
                <a:ext cx="304560" cy="3391200"/>
              </a:xfrm>
              <a:prstGeom prst="rect">
                <a:avLst/>
              </a:prstGeom>
              <a:gradFill rotWithShape="0">
                <a:gsLst>
                  <a:gs pos="0">
                    <a:srgbClr val="ffffff"/>
                  </a:gs>
                  <a:gs pos="100000">
                    <a:srgbClr val="00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 name="Group 11"/>
            <p:cNvGrpSpPr/>
            <p:nvPr/>
          </p:nvGrpSpPr>
          <p:grpSpPr>
            <a:xfrm>
              <a:off x="9007560" y="38160"/>
              <a:ext cx="136440" cy="6819480"/>
              <a:chOff x="9007560" y="38160"/>
              <a:chExt cx="136440" cy="6819480"/>
            </a:xfrm>
          </p:grpSpPr>
          <p:sp>
            <p:nvSpPr>
              <p:cNvPr id="57" name="Rectangle 12"/>
              <p:cNvSpPr/>
              <p:nvPr/>
            </p:nvSpPr>
            <p:spPr>
              <a:xfrm>
                <a:off x="9007560" y="38160"/>
                <a:ext cx="136440" cy="3672000"/>
              </a:xfrm>
              <a:prstGeom prst="rect">
                <a:avLst/>
              </a:prstGeom>
              <a:gradFill rotWithShape="0">
                <a:gsLst>
                  <a:gs pos="0">
                    <a:srgbClr val="00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13"/>
              <p:cNvSpPr/>
              <p:nvPr/>
            </p:nvSpPr>
            <p:spPr>
              <a:xfrm>
                <a:off x="9007560" y="3485520"/>
                <a:ext cx="136440" cy="3372120"/>
              </a:xfrm>
              <a:prstGeom prst="rect">
                <a:avLst/>
              </a:prstGeom>
              <a:gradFill rotWithShape="0">
                <a:gsLst>
                  <a:gs pos="0">
                    <a:srgbClr val="ffffff"/>
                  </a:gs>
                  <a:gs pos="100000">
                    <a:srgbClr val="ff99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 name="Group 14"/>
            <p:cNvGrpSpPr/>
            <p:nvPr/>
          </p:nvGrpSpPr>
          <p:grpSpPr>
            <a:xfrm>
              <a:off x="228600" y="0"/>
              <a:ext cx="8915040" cy="228600"/>
              <a:chOff x="228600" y="0"/>
              <a:chExt cx="8915040" cy="228600"/>
            </a:xfrm>
          </p:grpSpPr>
          <p:sp>
            <p:nvSpPr>
              <p:cNvPr id="60" name="Rectangle 15"/>
              <p:cNvSpPr/>
              <p:nvPr/>
            </p:nvSpPr>
            <p:spPr>
              <a:xfrm>
                <a:off x="228600" y="0"/>
                <a:ext cx="4418640" cy="228600"/>
              </a:xfrm>
              <a:prstGeom prst="rect">
                <a:avLst/>
              </a:prstGeom>
              <a:gradFill rotWithShape="0">
                <a:gsLst>
                  <a:gs pos="0">
                    <a:srgbClr val="ff99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16"/>
              <p:cNvSpPr/>
              <p:nvPr/>
            </p:nvSpPr>
            <p:spPr>
              <a:xfrm>
                <a:off x="4647240" y="0"/>
                <a:ext cx="4496400" cy="228600"/>
              </a:xfrm>
              <a:prstGeom prst="rect">
                <a:avLst/>
              </a:prstGeom>
              <a:gradFill rotWithShape="0">
                <a:gsLst>
                  <a:gs pos="0">
                    <a:srgbClr val="ffffff"/>
                  </a:gs>
                  <a:gs pos="100000">
                    <a:srgbClr val="0066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 name="Group 17"/>
            <p:cNvGrpSpPr/>
            <p:nvPr/>
          </p:nvGrpSpPr>
          <p:grpSpPr>
            <a:xfrm>
              <a:off x="228600" y="6721560"/>
              <a:ext cx="8915040" cy="136440"/>
              <a:chOff x="228600" y="6721560"/>
              <a:chExt cx="8915040" cy="136440"/>
            </a:xfrm>
          </p:grpSpPr>
          <p:sp>
            <p:nvSpPr>
              <p:cNvPr id="63" name="Rectangle 18"/>
              <p:cNvSpPr/>
              <p:nvPr/>
            </p:nvSpPr>
            <p:spPr>
              <a:xfrm>
                <a:off x="228600" y="6721560"/>
                <a:ext cx="4418640" cy="136440"/>
              </a:xfrm>
              <a:prstGeom prst="rect">
                <a:avLst/>
              </a:prstGeom>
              <a:gradFill rotWithShape="0">
                <a:gsLst>
                  <a:gs pos="0">
                    <a:srgbClr val="0066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Rectangle 19"/>
              <p:cNvSpPr/>
              <p:nvPr/>
            </p:nvSpPr>
            <p:spPr>
              <a:xfrm>
                <a:off x="4647240" y="6721560"/>
                <a:ext cx="4496400" cy="136440"/>
              </a:xfrm>
              <a:prstGeom prst="rect">
                <a:avLst/>
              </a:prstGeom>
              <a:gradFill rotWithShape="0">
                <a:gsLst>
                  <a:gs pos="0">
                    <a:srgbClr val="ffffff"/>
                  </a:gs>
                  <a:gs pos="100000">
                    <a:srgbClr val="ff99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65" name="Rectangle 19458" descr=""/>
          <p:cNvPicPr/>
          <p:nvPr/>
        </p:nvPicPr>
        <p:blipFill>
          <a:blip r:embed="rId1"/>
          <a:stretch/>
        </p:blipFill>
        <p:spPr>
          <a:xfrm>
            <a:off x="2895480" y="927000"/>
            <a:ext cx="3834000" cy="4540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7" dur="500"/>
                                        <p:tgtEl>
                                          <p:spTgt spid="5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1">
                                            <p:txEl>
                                              <p:pRg st="1" end="1"/>
                                            </p:txEl>
                                          </p:spTgt>
                                        </p:tgtEl>
                                        <p:attrNameLst>
                                          <p:attrName>style.visibility</p:attrName>
                                        </p:attrNameLst>
                                      </p:cBhvr>
                                      <p:to>
                                        <p:strVal val="visible"/>
                                      </p:to>
                                    </p:set>
                                    <p:animEffect filter="dissolve" transition="in">
                                      <p:cBhvr additive="repl">
                                        <p:cTn id="12" dur="500"/>
                                        <p:tgtEl>
                                          <p:spTgt spid="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led Designs</a:t>
            </a:r>
            <a:endParaRPr b="0" lang="en-US" sz="2800" spc="-1" strike="noStrike">
              <a:solidFill>
                <a:srgbClr val="000000"/>
              </a:solidFill>
              <a:latin typeface="Times New Roman"/>
            </a:endParaRPr>
          </a:p>
        </p:txBody>
      </p:sp>
      <p:sp>
        <p:nvSpPr>
          <p:cNvPr id="124" name=""/>
          <p:cNvSpPr txBox="1"/>
          <p:nvPr/>
        </p:nvSpPr>
        <p:spPr>
          <a:xfrm>
            <a:off x="685800" y="1752480"/>
            <a:ext cx="7772400" cy="45720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mally Controlled Desig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design exceeds the allowable pressure drop for a given thermal dut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re plates be added and pressure drop is reduced by lowering the velocity.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ch a design is termed thermally controll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ydraulically Controlled Desig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design pressure drop is than the allowable pressure dro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results in a greater temperature change across the plate than required, or over-dimensioning.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w plates be removed and pressure drop is increased by increasing the velocit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ch a design is termed pressure drop controlled.</a:t>
            </a:r>
            <a:endParaRPr b="0" lang="en-US" sz="2000" spc="-1" strike="noStrike">
              <a:solidFill>
                <a:srgbClr val="000000"/>
              </a:solidFill>
              <a:latin typeface="Times New Roman"/>
            </a:endParaRPr>
          </a:p>
        </p:txBody>
      </p:sp>
      <p:sp>
        <p:nvSpPr>
          <p:cNvPr id="125" name="Ink 4"/>
          <p:cNvSpPr/>
          <p:nvPr/>
        </p:nvSpPr>
        <p:spPr>
          <a:xfrm>
            <a:off x="4046400" y="4037040"/>
            <a:ext cx="546120" cy="598320"/>
          </a:xfrm>
          <a:custGeom>
            <a:avLst/>
            <a:gdLst/>
            <a:ahLst/>
            <a:rect l="l" t="t" r="r" b="b"/>
            <a:pathLst>
              <a:path w="1518" h="1663">
                <a:moveTo>
                  <a:pt x="11268" y="11624"/>
                </a:moveTo>
                <a:cubicBezTo>
                  <a:pt x="11260" y="11641"/>
                  <a:pt x="11252" y="11639"/>
                  <a:pt x="11250" y="11664"/>
                </a:cubicBezTo>
                <a:cubicBezTo>
                  <a:pt x="11243" y="11748"/>
                  <a:pt x="11256" y="11835"/>
                  <a:pt x="11260" y="11919"/>
                </a:cubicBezTo>
                <a:cubicBezTo>
                  <a:pt x="11271" y="12132"/>
                  <a:pt x="11271" y="12347"/>
                  <a:pt x="11261" y="12560"/>
                </a:cubicBezTo>
                <a:cubicBezTo>
                  <a:pt x="11257" y="12643"/>
                  <a:pt x="11249" y="12725"/>
                  <a:pt x="11246" y="12808"/>
                </a:cubicBezTo>
                <a:cubicBezTo>
                  <a:pt x="11245" y="12832"/>
                  <a:pt x="11244" y="12853"/>
                  <a:pt x="11242" y="12877"/>
                </a:cubicBezTo>
                <a:cubicBezTo>
                  <a:pt x="11241" y="12837"/>
                  <a:pt x="11239" y="12797"/>
                  <a:pt x="11239" y="12757"/>
                </a:cubicBezTo>
                <a:cubicBezTo>
                  <a:pt x="11239" y="12707"/>
                  <a:pt x="11221" y="12558"/>
                  <a:pt x="11274" y="12526"/>
                </a:cubicBezTo>
                <a:cubicBezTo>
                  <a:pt x="11305" y="12507"/>
                  <a:pt x="11346" y="12550"/>
                  <a:pt x="11364" y="12567"/>
                </a:cubicBezTo>
                <a:cubicBezTo>
                  <a:pt x="11407" y="12609"/>
                  <a:pt x="11445" y="12656"/>
                  <a:pt x="11484" y="12702"/>
                </a:cubicBezTo>
                <a:cubicBezTo>
                  <a:pt x="11522" y="12747"/>
                  <a:pt x="11564" y="12811"/>
                  <a:pt x="11621" y="12829"/>
                </a:cubicBezTo>
                <a:cubicBezTo>
                  <a:pt x="11648" y="12835"/>
                  <a:pt x="11655" y="12838"/>
                  <a:pt x="11669" y="12823"/>
                </a:cubicBezTo>
              </a:path>
              <a:path w="1518" h="1663">
                <a:moveTo>
                  <a:pt x="12010" y="11759"/>
                </a:moveTo>
                <a:cubicBezTo>
                  <a:pt x="12012" y="11743"/>
                  <a:pt x="12020" y="11743"/>
                  <a:pt x="12016" y="11727"/>
                </a:cubicBezTo>
                <a:cubicBezTo>
                  <a:pt x="12006" y="11683"/>
                  <a:pt x="11997" y="11641"/>
                  <a:pt x="11992" y="11596"/>
                </a:cubicBezTo>
                <a:cubicBezTo>
                  <a:pt x="11983" y="11524"/>
                  <a:pt x="11978" y="11453"/>
                  <a:pt x="11972" y="11381"/>
                </a:cubicBezTo>
                <a:cubicBezTo>
                  <a:pt x="11968" y="11330"/>
                  <a:pt x="11964" y="11280"/>
                  <a:pt x="11960" y="11229"/>
                </a:cubicBezTo>
                <a:cubicBezTo>
                  <a:pt x="11960" y="11224"/>
                  <a:pt x="11959" y="11220"/>
                  <a:pt x="11959" y="11215"/>
                </a:cubicBezTo>
                <a:cubicBezTo>
                  <a:pt x="11956" y="11254"/>
                  <a:pt x="11954" y="11293"/>
                  <a:pt x="11959" y="11333"/>
                </a:cubicBezTo>
                <a:cubicBezTo>
                  <a:pt x="11969" y="11423"/>
                  <a:pt x="11987" y="11513"/>
                  <a:pt x="12008" y="11601"/>
                </a:cubicBezTo>
                <a:cubicBezTo>
                  <a:pt x="12028" y="11684"/>
                  <a:pt x="12055" y="11765"/>
                  <a:pt x="12089" y="11843"/>
                </a:cubicBezTo>
                <a:cubicBezTo>
                  <a:pt x="12109" y="11889"/>
                  <a:pt x="12126" y="11920"/>
                  <a:pt x="12168" y="11946"/>
                </a:cubicBezTo>
                <a:cubicBezTo>
                  <a:pt x="12206" y="11922"/>
                  <a:pt x="12222" y="11913"/>
                  <a:pt x="12240" y="11863"/>
                </a:cubicBezTo>
                <a:cubicBezTo>
                  <a:pt x="12260" y="11807"/>
                  <a:pt x="12272" y="11748"/>
                  <a:pt x="12279" y="11689"/>
                </a:cubicBezTo>
                <a:cubicBezTo>
                  <a:pt x="12282" y="11658"/>
                  <a:pt x="12283" y="11650"/>
                  <a:pt x="12283" y="11630"/>
                </a:cubicBezTo>
                <a:cubicBezTo>
                  <a:pt x="12283" y="11651"/>
                  <a:pt x="12282" y="11643"/>
                  <a:pt x="12282" y="11664"/>
                </a:cubicBezTo>
                <a:cubicBezTo>
                  <a:pt x="12282" y="11704"/>
                  <a:pt x="12283" y="11740"/>
                  <a:pt x="12292" y="11779"/>
                </a:cubicBezTo>
                <a:cubicBezTo>
                  <a:pt x="12299" y="11812"/>
                  <a:pt x="12312" y="11821"/>
                  <a:pt x="12330" y="11845"/>
                </a:cubicBezTo>
                <a:cubicBezTo>
                  <a:pt x="12359" y="11833"/>
                  <a:pt x="12361" y="11841"/>
                  <a:pt x="12380" y="11805"/>
                </a:cubicBezTo>
                <a:cubicBezTo>
                  <a:pt x="12399" y="11768"/>
                  <a:pt x="12411" y="11725"/>
                  <a:pt x="12422" y="11685"/>
                </a:cubicBezTo>
                <a:cubicBezTo>
                  <a:pt x="12427" y="11665"/>
                  <a:pt x="12434" y="11649"/>
                  <a:pt x="12441" y="11631"/>
                </a:cubicBezTo>
                <a:cubicBezTo>
                  <a:pt x="12447" y="11660"/>
                  <a:pt x="12454" y="11687"/>
                  <a:pt x="12457" y="11717"/>
                </a:cubicBezTo>
                <a:cubicBezTo>
                  <a:pt x="12462" y="11762"/>
                  <a:pt x="12461" y="11807"/>
                  <a:pt x="12459" y="11852"/>
                </a:cubicBezTo>
                <a:cubicBezTo>
                  <a:pt x="12459" y="11856"/>
                  <a:pt x="12458" y="11861"/>
                  <a:pt x="12458" y="11865"/>
                </a:cubicBezTo>
                <a:cubicBezTo>
                  <a:pt x="12470" y="11821"/>
                  <a:pt x="12482" y="11778"/>
                  <a:pt x="12498" y="11735"/>
                </a:cubicBezTo>
                <a:cubicBezTo>
                  <a:pt x="12536" y="11630"/>
                  <a:pt x="12582" y="11528"/>
                  <a:pt x="12632" y="11428"/>
                </a:cubicBezTo>
                <a:cubicBezTo>
                  <a:pt x="12641" y="11446"/>
                  <a:pt x="12652" y="11472"/>
                  <a:pt x="12658" y="11500"/>
                </a:cubicBezTo>
                <a:cubicBezTo>
                  <a:pt x="12670" y="11553"/>
                  <a:pt x="12685" y="11605"/>
                  <a:pt x="12700" y="11658"/>
                </a:cubicBezTo>
                <a:cubicBezTo>
                  <a:pt x="12715" y="11711"/>
                  <a:pt x="12730" y="11763"/>
                  <a:pt x="12743" y="11817"/>
                </a:cubicBezTo>
                <a:cubicBezTo>
                  <a:pt x="12750" y="11847"/>
                  <a:pt x="12764" y="11894"/>
                  <a:pt x="12755" y="11926"/>
                </a:cubicBezTo>
                <a:cubicBezTo>
                  <a:pt x="12747" y="11956"/>
                  <a:pt x="12721" y="11967"/>
                  <a:pt x="12691" y="11961"/>
                </a:cubicBezTo>
                <a:cubicBezTo>
                  <a:pt x="12667" y="11948"/>
                  <a:pt x="12660" y="11944"/>
                  <a:pt x="12646" y="1193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4" presetSubtype="32">
                                  <p:stCondLst>
                                    <p:cond delay="0"/>
                                  </p:stCondLst>
                                  <p:childTnLst>
                                    <p:audio isNarration="0">
                                      <p:cMediaNode showWhenStopped="1">
                                        <p:cTn/>
                                        <p:tgtEl>
                                          <p:sndTgt r:embed="rId1" name="camera.wav"/>
                                        </p:tgtEl>
                                      </p:cMediaNode>
                                    </p:audio>
                                    <p:set>
                                      <p:cBhvr>
                                        <p:cTn id="145" dur="1" fill="hold">
                                          <p:stCondLst>
                                            <p:cond delay="0"/>
                                          </p:stCondLst>
                                        </p:cTn>
                                        <p:tgtEl>
                                          <p:spTgt spid="124">
                                            <p:txEl>
                                              <p:pRg st="0" end="0"/>
                                            </p:txEl>
                                          </p:spTgt>
                                        </p:tgtEl>
                                        <p:attrNameLst>
                                          <p:attrName>style.visibility</p:attrName>
                                        </p:attrNameLst>
                                      </p:cBhvr>
                                      <p:to>
                                        <p:strVal val="visible"/>
                                      </p:to>
                                    </p:set>
                                    <p:animEffect filter="box(out)" transition="in">
                                      <p:cBhvr additive="repl">
                                        <p:cTn id="146" dur="500"/>
                                        <p:tgtEl>
                                          <p:spTgt spid="124">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 presetSubtype="32">
                                  <p:stCondLst>
                                    <p:cond delay="0"/>
                                  </p:stCondLst>
                                  <p:childTnLst>
                                    <p:audio isNarration="0">
                                      <p:cMediaNode showWhenStopped="1">
                                        <p:cTn/>
                                        <p:tgtEl>
                                          <p:sndTgt r:embed="rId2" name="camera.wav"/>
                                        </p:tgtEl>
                                      </p:cMediaNode>
                                    </p:audio>
                                    <p:set>
                                      <p:cBhvr>
                                        <p:cTn id="150" dur="1" fill="hold">
                                          <p:stCondLst>
                                            <p:cond delay="0"/>
                                          </p:stCondLst>
                                        </p:cTn>
                                        <p:tgtEl>
                                          <p:spTgt spid="124">
                                            <p:txEl>
                                              <p:pRg st="1" end="1"/>
                                            </p:txEl>
                                          </p:spTgt>
                                        </p:tgtEl>
                                        <p:attrNameLst>
                                          <p:attrName>style.visibility</p:attrName>
                                        </p:attrNameLst>
                                      </p:cBhvr>
                                      <p:to>
                                        <p:strVal val="visible"/>
                                      </p:to>
                                    </p:set>
                                    <p:animEffect filter="box(out)" transition="in">
                                      <p:cBhvr additive="repl">
                                        <p:cTn id="151" dur="500"/>
                                        <p:tgtEl>
                                          <p:spTgt spid="124">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 presetSubtype="32">
                                  <p:stCondLst>
                                    <p:cond delay="0"/>
                                  </p:stCondLst>
                                  <p:childTnLst>
                                    <p:audio isNarration="0">
                                      <p:cMediaNode showWhenStopped="1">
                                        <p:cTn/>
                                        <p:tgtEl>
                                          <p:sndTgt r:embed="rId3" name="camera.wav"/>
                                        </p:tgtEl>
                                      </p:cMediaNode>
                                    </p:audio>
                                    <p:set>
                                      <p:cBhvr>
                                        <p:cTn id="155" dur="1" fill="hold">
                                          <p:stCondLst>
                                            <p:cond delay="0"/>
                                          </p:stCondLst>
                                        </p:cTn>
                                        <p:tgtEl>
                                          <p:spTgt spid="124">
                                            <p:txEl>
                                              <p:pRg st="2" end="2"/>
                                            </p:txEl>
                                          </p:spTgt>
                                        </p:tgtEl>
                                        <p:attrNameLst>
                                          <p:attrName>style.visibility</p:attrName>
                                        </p:attrNameLst>
                                      </p:cBhvr>
                                      <p:to>
                                        <p:strVal val="visible"/>
                                      </p:to>
                                    </p:set>
                                    <p:animEffect filter="box(out)" transition="in">
                                      <p:cBhvr additive="repl">
                                        <p:cTn id="156" dur="500"/>
                                        <p:tgtEl>
                                          <p:spTgt spid="124">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32">
                                  <p:stCondLst>
                                    <p:cond delay="0"/>
                                  </p:stCondLst>
                                  <p:childTnLst>
                                    <p:audio isNarration="0">
                                      <p:cMediaNode showWhenStopped="1">
                                        <p:cTn/>
                                        <p:tgtEl>
                                          <p:sndTgt r:embed="rId4" name="camera.wav"/>
                                        </p:tgtEl>
                                      </p:cMediaNode>
                                    </p:audio>
                                    <p:set>
                                      <p:cBhvr>
                                        <p:cTn id="160" dur="1" fill="hold">
                                          <p:stCondLst>
                                            <p:cond delay="0"/>
                                          </p:stCondLst>
                                        </p:cTn>
                                        <p:tgtEl>
                                          <p:spTgt spid="124">
                                            <p:txEl>
                                              <p:pRg st="3" end="3"/>
                                            </p:txEl>
                                          </p:spTgt>
                                        </p:tgtEl>
                                        <p:attrNameLst>
                                          <p:attrName>style.visibility</p:attrName>
                                        </p:attrNameLst>
                                      </p:cBhvr>
                                      <p:to>
                                        <p:strVal val="visible"/>
                                      </p:to>
                                    </p:set>
                                    <p:animEffect filter="box(out)" transition="in">
                                      <p:cBhvr additive="repl">
                                        <p:cTn id="161" dur="500"/>
                                        <p:tgtEl>
                                          <p:spTgt spid="124">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32">
                                  <p:stCondLst>
                                    <p:cond delay="0"/>
                                  </p:stCondLst>
                                  <p:childTnLst>
                                    <p:audio isNarration="0">
                                      <p:cMediaNode showWhenStopped="1">
                                        <p:cTn/>
                                        <p:tgtEl>
                                          <p:sndTgt r:embed="rId5" name="camera.wav"/>
                                        </p:tgtEl>
                                      </p:cMediaNode>
                                    </p:audio>
                                    <p:set>
                                      <p:cBhvr>
                                        <p:cTn id="165" dur="1" fill="hold">
                                          <p:stCondLst>
                                            <p:cond delay="0"/>
                                          </p:stCondLst>
                                        </p:cTn>
                                        <p:tgtEl>
                                          <p:spTgt spid="124">
                                            <p:txEl>
                                              <p:pRg st="4" end="4"/>
                                            </p:txEl>
                                          </p:spTgt>
                                        </p:tgtEl>
                                        <p:attrNameLst>
                                          <p:attrName>style.visibility</p:attrName>
                                        </p:attrNameLst>
                                      </p:cBhvr>
                                      <p:to>
                                        <p:strVal val="visible"/>
                                      </p:to>
                                    </p:set>
                                    <p:animEffect filter="box(out)" transition="in">
                                      <p:cBhvr additive="repl">
                                        <p:cTn id="166" dur="500"/>
                                        <p:tgtEl>
                                          <p:spTgt spid="124">
                                            <p:txEl>
                                              <p:pRg st="4" end="4"/>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32">
                                  <p:stCondLst>
                                    <p:cond delay="0"/>
                                  </p:stCondLst>
                                  <p:childTnLst>
                                    <p:audio isNarration="0">
                                      <p:cMediaNode showWhenStopped="1">
                                        <p:cTn/>
                                        <p:tgtEl>
                                          <p:sndTgt r:embed="rId6" name="camera.wav"/>
                                        </p:tgtEl>
                                      </p:cMediaNode>
                                    </p:audio>
                                    <p:set>
                                      <p:cBhvr>
                                        <p:cTn id="170" dur="1" fill="hold">
                                          <p:stCondLst>
                                            <p:cond delay="0"/>
                                          </p:stCondLst>
                                        </p:cTn>
                                        <p:tgtEl>
                                          <p:spTgt spid="124">
                                            <p:txEl>
                                              <p:pRg st="5" end="5"/>
                                            </p:txEl>
                                          </p:spTgt>
                                        </p:tgtEl>
                                        <p:attrNameLst>
                                          <p:attrName>style.visibility</p:attrName>
                                        </p:attrNameLst>
                                      </p:cBhvr>
                                      <p:to>
                                        <p:strVal val="visible"/>
                                      </p:to>
                                    </p:set>
                                    <p:animEffect filter="box(out)" transition="in">
                                      <p:cBhvr additive="repl">
                                        <p:cTn id="171" dur="500"/>
                                        <p:tgtEl>
                                          <p:spTgt spid="124">
                                            <p:txEl>
                                              <p:pRg st="5" end="5"/>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32">
                                  <p:stCondLst>
                                    <p:cond delay="0"/>
                                  </p:stCondLst>
                                  <p:childTnLst>
                                    <p:audio isNarration="0">
                                      <p:cMediaNode showWhenStopped="1">
                                        <p:cTn/>
                                        <p:tgtEl>
                                          <p:sndTgt r:embed="rId7" name="camera.wav"/>
                                        </p:tgtEl>
                                      </p:cMediaNode>
                                    </p:audio>
                                    <p:set>
                                      <p:cBhvr>
                                        <p:cTn id="175" dur="1" fill="hold">
                                          <p:stCondLst>
                                            <p:cond delay="0"/>
                                          </p:stCondLst>
                                        </p:cTn>
                                        <p:tgtEl>
                                          <p:spTgt spid="124">
                                            <p:txEl>
                                              <p:pRg st="6" end="6"/>
                                            </p:txEl>
                                          </p:spTgt>
                                        </p:tgtEl>
                                        <p:attrNameLst>
                                          <p:attrName>style.visibility</p:attrName>
                                        </p:attrNameLst>
                                      </p:cBhvr>
                                      <p:to>
                                        <p:strVal val="visible"/>
                                      </p:to>
                                    </p:set>
                                    <p:animEffect filter="box(out)" transition="in">
                                      <p:cBhvr additive="repl">
                                        <p:cTn id="176" dur="500"/>
                                        <p:tgtEl>
                                          <p:spTgt spid="124">
                                            <p:txEl>
                                              <p:pRg st="6" end="6"/>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 presetSubtype="32">
                                  <p:stCondLst>
                                    <p:cond delay="0"/>
                                  </p:stCondLst>
                                  <p:childTnLst>
                                    <p:audio isNarration="0">
                                      <p:cMediaNode showWhenStopped="1">
                                        <p:cTn/>
                                        <p:tgtEl>
                                          <p:sndTgt r:embed="rId8" name="camera.wav"/>
                                        </p:tgtEl>
                                      </p:cMediaNode>
                                    </p:audio>
                                    <p:set>
                                      <p:cBhvr>
                                        <p:cTn id="180" dur="1" fill="hold">
                                          <p:stCondLst>
                                            <p:cond delay="0"/>
                                          </p:stCondLst>
                                        </p:cTn>
                                        <p:tgtEl>
                                          <p:spTgt spid="124">
                                            <p:txEl>
                                              <p:pRg st="7" end="7"/>
                                            </p:txEl>
                                          </p:spTgt>
                                        </p:tgtEl>
                                        <p:attrNameLst>
                                          <p:attrName>style.visibility</p:attrName>
                                        </p:attrNameLst>
                                      </p:cBhvr>
                                      <p:to>
                                        <p:strVal val="visible"/>
                                      </p:to>
                                    </p:set>
                                    <p:animEffect filter="box(out)" transition="in">
                                      <p:cBhvr additive="repl">
                                        <p:cTn id="181" dur="500"/>
                                        <p:tgtEl>
                                          <p:spTgt spid="124">
                                            <p:txEl>
                                              <p:pRg st="7" end="7"/>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32">
                                  <p:stCondLst>
                                    <p:cond delay="0"/>
                                  </p:stCondLst>
                                  <p:childTnLst>
                                    <p:audio isNarration="0">
                                      <p:cMediaNode showWhenStopped="1">
                                        <p:cTn/>
                                        <p:tgtEl>
                                          <p:sndTgt r:embed="rId9" name="camera.wav"/>
                                        </p:tgtEl>
                                      </p:cMediaNode>
                                    </p:audio>
                                    <p:set>
                                      <p:cBhvr>
                                        <p:cTn id="185" dur="1" fill="hold">
                                          <p:stCondLst>
                                            <p:cond delay="0"/>
                                          </p:stCondLst>
                                        </p:cTn>
                                        <p:tgtEl>
                                          <p:spTgt spid="124">
                                            <p:txEl>
                                              <p:pRg st="8" end="8"/>
                                            </p:txEl>
                                          </p:spTgt>
                                        </p:tgtEl>
                                        <p:attrNameLst>
                                          <p:attrName>style.visibility</p:attrName>
                                        </p:attrNameLst>
                                      </p:cBhvr>
                                      <p:to>
                                        <p:strVal val="visible"/>
                                      </p:to>
                                    </p:set>
                                    <p:animEffect filter="box(out)" transition="in">
                                      <p:cBhvr additive="repl">
                                        <p:cTn id="186" dur="500"/>
                                        <p:tgtEl>
                                          <p:spTgt spid="12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conomic Design</a:t>
            </a:r>
            <a:endParaRPr b="0" lang="en-US" sz="2800" spc="-1" strike="noStrike">
              <a:solidFill>
                <a:srgbClr val="000000"/>
              </a:solidFill>
              <a:latin typeface="Times New Roman"/>
            </a:endParaRPr>
          </a:p>
        </p:txBody>
      </p:sp>
      <p:sp>
        <p:nvSpPr>
          <p:cNvPr id="127"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have the most economical and efficient exchanger it is critical to choose, for each fluid, a channel geometry that matches the thermal length requirement of each flui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rmal length achievable by a channel depends on the physical properties of the fluid, correction factors must be considered when the fluid’s physical properties differ from those for standard fluid (w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193" dur="500"/>
                                        <p:tgtEl>
                                          <p:spTgt spid="127">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127">
                                            <p:txEl>
                                              <p:pRg st="1" end="1"/>
                                            </p:txEl>
                                          </p:spTgt>
                                        </p:tgtEl>
                                        <p:attrNameLst>
                                          <p:attrName>style.visibility</p:attrName>
                                        </p:attrNameLst>
                                      </p:cBhvr>
                                      <p:to>
                                        <p:strVal val="visible"/>
                                      </p:to>
                                    </p:set>
                                    <p:animEffect filter="dissolve" transition="in">
                                      <p:cBhvr additive="repl">
                                        <p:cTn id="198" dur="5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45720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amp; Analysis of Plate HXs</a:t>
            </a:r>
            <a:endParaRPr b="0" lang="en-US" sz="2800" spc="-1" strike="noStrike">
              <a:solidFill>
                <a:srgbClr val="000000"/>
              </a:solidFill>
              <a:latin typeface="Times New Roman"/>
            </a:endParaRPr>
          </a:p>
        </p:txBody>
      </p:sp>
      <p:sp>
        <p:nvSpPr>
          <p:cNvPr id="129" name="PlaceHolder 2"/>
          <p:cNvSpPr>
            <a:spLocks noGrp="1"/>
          </p:cNvSpPr>
          <p:nvPr>
            <p:ph/>
          </p:nvPr>
        </p:nvSpPr>
        <p:spPr>
          <a:xfrm>
            <a:off x="152280" y="1295280"/>
            <a:ext cx="8763120" cy="5105520"/>
          </a:xfrm>
          <a:prstGeom prst="rect">
            <a:avLst/>
          </a:prstGeom>
          <a:noFill/>
          <a:ln w="0">
            <a:noFill/>
          </a:ln>
        </p:spPr>
        <p:txBody>
          <a:bodyPr anchor="t">
            <a:normAutofit/>
          </a:bodyPr>
          <a:p>
            <a:pPr marL="343080" indent="-34308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like tubular heat exchangers for which design data and methods are easily available, a plate heat exchanger design continues to be proprietary in nature. </a:t>
            </a:r>
            <a:endParaRPr b="0" lang="en-US" sz="2000" spc="-1" strike="noStrike">
              <a:solidFill>
                <a:srgbClr val="000000"/>
              </a:solidFill>
              <a:latin typeface="Times New Roman"/>
            </a:endParaRPr>
          </a:p>
          <a:p>
            <a:pPr marL="343080" indent="-34308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ufacturers have developed their own computerized design procedures applicable to the exchangers marketed by them. </a:t>
            </a:r>
            <a:endParaRPr b="0" lang="en-US" sz="2000" spc="-1" strike="noStrike">
              <a:solidFill>
                <a:srgbClr val="000000"/>
              </a:solidFill>
              <a:latin typeface="Times New Roman"/>
            </a:endParaRPr>
          </a:p>
          <a:p>
            <a:pPr marL="343080" indent="-34308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ufacturers of plate heat exchangers have, until recently, been criticised for not publishing their heat transfer and pressure loss correlations. </a:t>
            </a:r>
            <a:endParaRPr b="0" lang="en-US" sz="2000" spc="-1" strike="noStrike">
              <a:solidFill>
                <a:srgbClr val="000000"/>
              </a:solidFill>
              <a:latin typeface="Times New Roman"/>
            </a:endParaRPr>
          </a:p>
          <a:p>
            <a:pPr marL="343080" indent="-34308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 which was published usually related to only one plate model or was of a generalized nature. </a:t>
            </a:r>
            <a:endParaRPr b="0" lang="en-US" sz="2000" spc="-1" strike="noStrike">
              <a:solidFill>
                <a:srgbClr val="000000"/>
              </a:solidFill>
              <a:latin typeface="Times New Roman"/>
            </a:endParaRPr>
          </a:p>
          <a:p>
            <a:pPr marL="343080" indent="-34308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lates are mass-produced but the design of each plate pattern requires considerable research and investment, plus sound technical and commercial judgment, to achieve market success. </a:t>
            </a:r>
            <a:endParaRPr b="0" lang="en-US" sz="2000" spc="-1" strike="noStrike">
              <a:solidFill>
                <a:srgbClr val="000000"/>
              </a:solidFill>
              <a:latin typeface="Times New Roman"/>
            </a:endParaRPr>
          </a:p>
          <a:p>
            <a:pPr marL="343080" indent="-34308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the market is highly competitive the manufacturer’s attitude is not unreasonable. </a:t>
            </a:r>
            <a:endParaRPr b="0" lang="en-US" sz="2000" spc="-1" strike="noStrike">
              <a:solidFill>
                <a:srgbClr val="000000"/>
              </a:solidFill>
              <a:latin typeface="Times New Roman"/>
            </a:endParaRPr>
          </a:p>
          <a:p>
            <a:pPr marL="343080" indent="-34308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hevron plate is the most common type in use today. </a:t>
            </a:r>
            <a:endParaRPr b="0" lang="en-US" sz="2000" spc="-1" strike="noStrike">
              <a:solidFill>
                <a:srgbClr val="000000"/>
              </a:solidFill>
              <a:latin typeface="Times New Roman"/>
            </a:endParaRPr>
          </a:p>
          <a:p>
            <a:pPr marL="343080" indent="-34308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rrelation enables a thermal design engineer to calculate heat transfer and pressure drop for a variety of Chevron plates.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4" presetSubtype="32">
                                  <p:stCondLst>
                                    <p:cond delay="0"/>
                                  </p:stCondLst>
                                  <p:childTnLst>
                                    <p:audio isNarration="0">
                                      <p:cMediaNode showWhenStopped="1">
                                        <p:cTn/>
                                        <p:tgtEl>
                                          <p:sndTgt r:embed="rId1" name="camera.wav"/>
                                        </p:tgtEl>
                                      </p:cMediaNode>
                                    </p:audio>
                                    <p:set>
                                      <p:cBhvr>
                                        <p:cTn id="204" dur="1" fill="hold">
                                          <p:stCondLst>
                                            <p:cond delay="0"/>
                                          </p:stCondLst>
                                        </p:cTn>
                                        <p:tgtEl>
                                          <p:spTgt spid="129">
                                            <p:txEl>
                                              <p:pRg st="0" end="0"/>
                                            </p:txEl>
                                          </p:spTgt>
                                        </p:tgtEl>
                                        <p:attrNameLst>
                                          <p:attrName>style.visibility</p:attrName>
                                        </p:attrNameLst>
                                      </p:cBhvr>
                                      <p:to>
                                        <p:strVal val="visible"/>
                                      </p:to>
                                    </p:set>
                                    <p:animEffect filter="box(out)" transition="in">
                                      <p:cBhvr additive="repl">
                                        <p:cTn id="205" dur="500"/>
                                        <p:tgtEl>
                                          <p:spTgt spid="129">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32">
                                  <p:stCondLst>
                                    <p:cond delay="0"/>
                                  </p:stCondLst>
                                  <p:childTnLst>
                                    <p:audio isNarration="0">
                                      <p:cMediaNode showWhenStopped="1">
                                        <p:cTn/>
                                        <p:tgtEl>
                                          <p:sndTgt r:embed="rId2" name="camera.wav"/>
                                        </p:tgtEl>
                                      </p:cMediaNode>
                                    </p:audio>
                                    <p:set>
                                      <p:cBhvr>
                                        <p:cTn id="209" dur="1" fill="hold">
                                          <p:stCondLst>
                                            <p:cond delay="0"/>
                                          </p:stCondLst>
                                        </p:cTn>
                                        <p:tgtEl>
                                          <p:spTgt spid="129">
                                            <p:txEl>
                                              <p:pRg st="1" end="1"/>
                                            </p:txEl>
                                          </p:spTgt>
                                        </p:tgtEl>
                                        <p:attrNameLst>
                                          <p:attrName>style.visibility</p:attrName>
                                        </p:attrNameLst>
                                      </p:cBhvr>
                                      <p:to>
                                        <p:strVal val="visible"/>
                                      </p:to>
                                    </p:set>
                                    <p:animEffect filter="box(out)" transition="in">
                                      <p:cBhvr additive="repl">
                                        <p:cTn id="210" dur="500"/>
                                        <p:tgtEl>
                                          <p:spTgt spid="129">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32">
                                  <p:stCondLst>
                                    <p:cond delay="0"/>
                                  </p:stCondLst>
                                  <p:childTnLst>
                                    <p:audio isNarration="0">
                                      <p:cMediaNode showWhenStopped="1">
                                        <p:cTn/>
                                        <p:tgtEl>
                                          <p:sndTgt r:embed="rId3" name="camera.wav"/>
                                        </p:tgtEl>
                                      </p:cMediaNode>
                                    </p:audio>
                                    <p:set>
                                      <p:cBhvr>
                                        <p:cTn id="214" dur="1" fill="hold">
                                          <p:stCondLst>
                                            <p:cond delay="0"/>
                                          </p:stCondLst>
                                        </p:cTn>
                                        <p:tgtEl>
                                          <p:spTgt spid="129">
                                            <p:txEl>
                                              <p:pRg st="2" end="2"/>
                                            </p:txEl>
                                          </p:spTgt>
                                        </p:tgtEl>
                                        <p:attrNameLst>
                                          <p:attrName>style.visibility</p:attrName>
                                        </p:attrNameLst>
                                      </p:cBhvr>
                                      <p:to>
                                        <p:strVal val="visible"/>
                                      </p:to>
                                    </p:set>
                                    <p:animEffect filter="box(out)" transition="in">
                                      <p:cBhvr additive="repl">
                                        <p:cTn id="215" dur="500"/>
                                        <p:tgtEl>
                                          <p:spTgt spid="129">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32">
                                  <p:stCondLst>
                                    <p:cond delay="0"/>
                                  </p:stCondLst>
                                  <p:childTnLst>
                                    <p:audio isNarration="0">
                                      <p:cMediaNode showWhenStopped="1">
                                        <p:cTn/>
                                        <p:tgtEl>
                                          <p:sndTgt r:embed="rId4" name="camera.wav"/>
                                        </p:tgtEl>
                                      </p:cMediaNode>
                                    </p:audio>
                                    <p:set>
                                      <p:cBhvr>
                                        <p:cTn id="219" dur="1" fill="hold">
                                          <p:stCondLst>
                                            <p:cond delay="0"/>
                                          </p:stCondLst>
                                        </p:cTn>
                                        <p:tgtEl>
                                          <p:spTgt spid="129">
                                            <p:txEl>
                                              <p:pRg st="3" end="3"/>
                                            </p:txEl>
                                          </p:spTgt>
                                        </p:tgtEl>
                                        <p:attrNameLst>
                                          <p:attrName>style.visibility</p:attrName>
                                        </p:attrNameLst>
                                      </p:cBhvr>
                                      <p:to>
                                        <p:strVal val="visible"/>
                                      </p:to>
                                    </p:set>
                                    <p:animEffect filter="box(out)" transition="in">
                                      <p:cBhvr additive="repl">
                                        <p:cTn id="220" dur="500"/>
                                        <p:tgtEl>
                                          <p:spTgt spid="129">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 presetSubtype="32">
                                  <p:stCondLst>
                                    <p:cond delay="0"/>
                                  </p:stCondLst>
                                  <p:childTnLst>
                                    <p:audio isNarration="0">
                                      <p:cMediaNode showWhenStopped="1">
                                        <p:cTn/>
                                        <p:tgtEl>
                                          <p:sndTgt r:embed="rId5" name="camera.wav"/>
                                        </p:tgtEl>
                                      </p:cMediaNode>
                                    </p:audio>
                                    <p:set>
                                      <p:cBhvr>
                                        <p:cTn id="224" dur="1" fill="hold">
                                          <p:stCondLst>
                                            <p:cond delay="0"/>
                                          </p:stCondLst>
                                        </p:cTn>
                                        <p:tgtEl>
                                          <p:spTgt spid="129">
                                            <p:txEl>
                                              <p:pRg st="4" end="4"/>
                                            </p:txEl>
                                          </p:spTgt>
                                        </p:tgtEl>
                                        <p:attrNameLst>
                                          <p:attrName>style.visibility</p:attrName>
                                        </p:attrNameLst>
                                      </p:cBhvr>
                                      <p:to>
                                        <p:strVal val="visible"/>
                                      </p:to>
                                    </p:set>
                                    <p:animEffect filter="box(out)" transition="in">
                                      <p:cBhvr additive="repl">
                                        <p:cTn id="225" dur="500"/>
                                        <p:tgtEl>
                                          <p:spTgt spid="129">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32">
                                  <p:stCondLst>
                                    <p:cond delay="0"/>
                                  </p:stCondLst>
                                  <p:childTnLst>
                                    <p:audio isNarration="0">
                                      <p:cMediaNode showWhenStopped="1">
                                        <p:cTn/>
                                        <p:tgtEl>
                                          <p:sndTgt r:embed="rId6" name="camera.wav"/>
                                        </p:tgtEl>
                                      </p:cMediaNode>
                                    </p:audio>
                                    <p:set>
                                      <p:cBhvr>
                                        <p:cTn id="229" dur="1" fill="hold">
                                          <p:stCondLst>
                                            <p:cond delay="0"/>
                                          </p:stCondLst>
                                        </p:cTn>
                                        <p:tgtEl>
                                          <p:spTgt spid="129">
                                            <p:txEl>
                                              <p:pRg st="5" end="5"/>
                                            </p:txEl>
                                          </p:spTgt>
                                        </p:tgtEl>
                                        <p:attrNameLst>
                                          <p:attrName>style.visibility</p:attrName>
                                        </p:attrNameLst>
                                      </p:cBhvr>
                                      <p:to>
                                        <p:strVal val="visible"/>
                                      </p:to>
                                    </p:set>
                                    <p:animEffect filter="box(out)" transition="in">
                                      <p:cBhvr additive="repl">
                                        <p:cTn id="230" dur="500"/>
                                        <p:tgtEl>
                                          <p:spTgt spid="129">
                                            <p:txEl>
                                              <p:pRg st="5" end="5"/>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 presetSubtype="32">
                                  <p:stCondLst>
                                    <p:cond delay="0"/>
                                  </p:stCondLst>
                                  <p:childTnLst>
                                    <p:audio isNarration="0">
                                      <p:cMediaNode showWhenStopped="1">
                                        <p:cTn/>
                                        <p:tgtEl>
                                          <p:sndTgt r:embed="rId7" name="camera.wav"/>
                                        </p:tgtEl>
                                      </p:cMediaNode>
                                    </p:audio>
                                    <p:set>
                                      <p:cBhvr>
                                        <p:cTn id="234" dur="1" fill="hold">
                                          <p:stCondLst>
                                            <p:cond delay="0"/>
                                          </p:stCondLst>
                                        </p:cTn>
                                        <p:tgtEl>
                                          <p:spTgt spid="129">
                                            <p:txEl>
                                              <p:pRg st="6" end="6"/>
                                            </p:txEl>
                                          </p:spTgt>
                                        </p:tgtEl>
                                        <p:attrNameLst>
                                          <p:attrName>style.visibility</p:attrName>
                                        </p:attrNameLst>
                                      </p:cBhvr>
                                      <p:to>
                                        <p:strVal val="visible"/>
                                      </p:to>
                                    </p:set>
                                    <p:animEffect filter="box(out)" transition="in">
                                      <p:cBhvr additive="repl">
                                        <p:cTn id="235" dur="500"/>
                                        <p:tgtEl>
                                          <p:spTgt spid="129">
                                            <p:txEl>
                                              <p:pRg st="6" end="6"/>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 presetSubtype="32">
                                  <p:stCondLst>
                                    <p:cond delay="0"/>
                                  </p:stCondLst>
                                  <p:childTnLst>
                                    <p:audio isNarration="0">
                                      <p:cMediaNode showWhenStopped="1">
                                        <p:cTn/>
                                        <p:tgtEl>
                                          <p:sndTgt r:embed="rId8" name="camera.wav"/>
                                        </p:tgtEl>
                                      </p:cMediaNode>
                                    </p:audio>
                                    <p:set>
                                      <p:cBhvr>
                                        <p:cTn id="239" dur="1" fill="hold">
                                          <p:stCondLst>
                                            <p:cond delay="0"/>
                                          </p:stCondLst>
                                        </p:cTn>
                                        <p:tgtEl>
                                          <p:spTgt spid="129">
                                            <p:txEl>
                                              <p:pRg st="7" end="7"/>
                                            </p:txEl>
                                          </p:spTgt>
                                        </p:tgtEl>
                                        <p:attrNameLst>
                                          <p:attrName>style.visibility</p:attrName>
                                        </p:attrNameLst>
                                      </p:cBhvr>
                                      <p:to>
                                        <p:strVal val="visible"/>
                                      </p:to>
                                    </p:set>
                                    <p:animEffect filter="box(out)" transition="in">
                                      <p:cBhvr additive="repl">
                                        <p:cTn id="240" dur="500"/>
                                        <p:tgtEl>
                                          <p:spTgt spid="12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 PLATE HEAT EXCHANGERS</a:t>
            </a:r>
            <a:endParaRPr b="0" lang="en-US" sz="2800" spc="-1" strike="noStrike">
              <a:solidFill>
                <a:srgbClr val="000000"/>
              </a:solidFill>
              <a:latin typeface="Times New Roman"/>
            </a:endParaRPr>
          </a:p>
        </p:txBody>
      </p:sp>
      <p:sp>
        <p:nvSpPr>
          <p:cNvPr id="131"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day’s conventional heat transfer plate designs are classified as chevron or herringbone type, with the corrugations forming a series of pattern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plate size is pressed with two different chevron angles,  the low theta plate and high theta plate, and have acute and obtuse apex angles, respective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247" dur="500"/>
                                        <p:tgtEl>
                                          <p:spTgt spid="13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31">
                                            <p:txEl>
                                              <p:pRg st="1" end="1"/>
                                            </p:txEl>
                                          </p:spTgt>
                                        </p:tgtEl>
                                        <p:attrNameLst>
                                          <p:attrName>style.visibility</p:attrName>
                                        </p:attrNameLst>
                                      </p:cBhvr>
                                      <p:to>
                                        <p:strVal val="visible"/>
                                      </p:to>
                                    </p:set>
                                    <p:animEffect filter="dissolve" transition="in">
                                      <p:cBhvr additive="repl">
                                        <p:cTn id="252" dur="500"/>
                                        <p:tgtEl>
                                          <p:spTgt spid="1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4" descr=""/>
          <p:cNvPicPr/>
          <p:nvPr/>
        </p:nvPicPr>
        <p:blipFill>
          <a:blip r:embed="rId1"/>
          <a:stretch/>
        </p:blipFill>
        <p:spPr>
          <a:xfrm>
            <a:off x="2743200" y="914400"/>
            <a:ext cx="3124080" cy="5568840"/>
          </a:xfrm>
          <a:prstGeom prst="rect">
            <a:avLst/>
          </a:prstGeom>
          <a:ln w="0">
            <a:noFill/>
          </a:ln>
        </p:spPr>
      </p:pic>
      <p:sp>
        <p:nvSpPr>
          <p:cNvPr id="133" name="Rectangle 5"/>
          <p:cNvSpPr/>
          <p:nvPr/>
        </p:nvSpPr>
        <p:spPr>
          <a:xfrm>
            <a:off x="2438280" y="63360"/>
            <a:ext cx="3905280" cy="78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4000" spc="-1" strike="noStrike">
                <a:solidFill>
                  <a:srgbClr val="000000"/>
                </a:solidFill>
                <a:latin typeface="Palatino Linotype"/>
              </a:rPr>
              <a:t>Plates</a:t>
            </a:r>
            <a:endParaRPr b="0" lang="en-US" sz="4000" spc="-1" strike="noStrike">
              <a:solidFill>
                <a:srgbClr val="000000"/>
              </a:solidFill>
              <a:latin typeface="Times New Roman"/>
            </a:endParaRPr>
          </a:p>
        </p:txBody>
      </p:sp>
      <p:sp>
        <p:nvSpPr>
          <p:cNvPr id="134" name="Text Box 6"/>
          <p:cNvSpPr/>
          <p:nvPr/>
        </p:nvSpPr>
        <p:spPr>
          <a:xfrm>
            <a:off x="6095880" y="1752480"/>
            <a:ext cx="2210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Distribution area</a:t>
            </a:r>
            <a:endParaRPr b="0" lang="en-US" sz="2000" spc="-1" strike="noStrike">
              <a:solidFill>
                <a:srgbClr val="000000"/>
              </a:solidFill>
              <a:latin typeface="Times New Roman"/>
            </a:endParaRPr>
          </a:p>
        </p:txBody>
      </p:sp>
      <p:sp>
        <p:nvSpPr>
          <p:cNvPr id="135" name="Text Box 7"/>
          <p:cNvSpPr/>
          <p:nvPr/>
        </p:nvSpPr>
        <p:spPr>
          <a:xfrm>
            <a:off x="6095880" y="1143000"/>
            <a:ext cx="28195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Inlet / outlet Media 1</a:t>
            </a:r>
            <a:endParaRPr b="0" lang="en-US" sz="2000" spc="-1" strike="noStrike">
              <a:solidFill>
                <a:srgbClr val="000000"/>
              </a:solidFill>
              <a:latin typeface="Times New Roman"/>
            </a:endParaRPr>
          </a:p>
        </p:txBody>
      </p:sp>
      <p:sp>
        <p:nvSpPr>
          <p:cNvPr id="136" name="Text Box 8"/>
          <p:cNvSpPr/>
          <p:nvPr/>
        </p:nvSpPr>
        <p:spPr>
          <a:xfrm>
            <a:off x="6095880" y="3657600"/>
            <a:ext cx="23623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Heat transfer area</a:t>
            </a:r>
            <a:endParaRPr b="0" lang="en-US" sz="2000" spc="-1" strike="noStrike">
              <a:solidFill>
                <a:srgbClr val="000000"/>
              </a:solidFill>
              <a:latin typeface="Times New Roman"/>
            </a:endParaRPr>
          </a:p>
        </p:txBody>
      </p:sp>
      <p:sp>
        <p:nvSpPr>
          <p:cNvPr id="137" name="Text Box 9"/>
          <p:cNvSpPr/>
          <p:nvPr/>
        </p:nvSpPr>
        <p:spPr>
          <a:xfrm>
            <a:off x="6477120" y="5334120"/>
            <a:ext cx="1447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Distribution area</a:t>
            </a:r>
            <a:endParaRPr b="0" lang="en-US" sz="2000" spc="-1" strike="noStrike">
              <a:solidFill>
                <a:srgbClr val="000000"/>
              </a:solidFill>
              <a:latin typeface="Times New Roman"/>
            </a:endParaRPr>
          </a:p>
        </p:txBody>
      </p:sp>
      <p:sp>
        <p:nvSpPr>
          <p:cNvPr id="138" name="Text Box 10"/>
          <p:cNvSpPr/>
          <p:nvPr/>
        </p:nvSpPr>
        <p:spPr>
          <a:xfrm>
            <a:off x="6095880" y="5715000"/>
            <a:ext cx="28195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Inlet / outlet Media 1</a:t>
            </a:r>
            <a:endParaRPr b="0" lang="en-US" sz="2000" spc="-1" strike="noStrike">
              <a:solidFill>
                <a:srgbClr val="000000"/>
              </a:solidFill>
              <a:latin typeface="Times New Roman"/>
            </a:endParaRPr>
          </a:p>
        </p:txBody>
      </p:sp>
      <p:sp>
        <p:nvSpPr>
          <p:cNvPr id="139" name="Text Box 11"/>
          <p:cNvSpPr/>
          <p:nvPr/>
        </p:nvSpPr>
        <p:spPr>
          <a:xfrm>
            <a:off x="138240" y="5589720"/>
            <a:ext cx="27432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Inlet / outlet Media 2</a:t>
            </a:r>
            <a:endParaRPr b="0" lang="en-US" sz="2000" spc="-1" strike="noStrike">
              <a:solidFill>
                <a:srgbClr val="000000"/>
              </a:solidFill>
              <a:latin typeface="Times New Roman"/>
            </a:endParaRPr>
          </a:p>
        </p:txBody>
      </p:sp>
      <p:sp>
        <p:nvSpPr>
          <p:cNvPr id="140" name="Text Box 12"/>
          <p:cNvSpPr/>
          <p:nvPr/>
        </p:nvSpPr>
        <p:spPr>
          <a:xfrm>
            <a:off x="0" y="1143000"/>
            <a:ext cx="27432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Inlet / outlet Media 2</a:t>
            </a:r>
            <a:endParaRPr b="0" lang="en-US" sz="2000" spc="-1" strike="noStrike">
              <a:solidFill>
                <a:srgbClr val="000000"/>
              </a:solidFill>
              <a:latin typeface="Times New Roman"/>
            </a:endParaRPr>
          </a:p>
        </p:txBody>
      </p:sp>
      <p:sp>
        <p:nvSpPr>
          <p:cNvPr id="141" name="Line 13"/>
          <p:cNvSpPr/>
          <p:nvPr/>
        </p:nvSpPr>
        <p:spPr>
          <a:xfrm>
            <a:off x="2438280" y="137160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Line 14"/>
          <p:cNvSpPr/>
          <p:nvPr/>
        </p:nvSpPr>
        <p:spPr>
          <a:xfrm>
            <a:off x="2585880" y="5805360"/>
            <a:ext cx="690840" cy="21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Line 15"/>
          <p:cNvSpPr/>
          <p:nvPr/>
        </p:nvSpPr>
        <p:spPr>
          <a:xfrm flipH="1">
            <a:off x="5333760" y="137160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Line 16"/>
          <p:cNvSpPr/>
          <p:nvPr/>
        </p:nvSpPr>
        <p:spPr>
          <a:xfrm flipH="1">
            <a:off x="5410080" y="6019920"/>
            <a:ext cx="609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17"/>
          <p:cNvSpPr/>
          <p:nvPr/>
        </p:nvSpPr>
        <p:spPr>
          <a:xfrm flipH="1" flipV="1">
            <a:off x="4571640" y="1828440"/>
            <a:ext cx="152388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Line 18"/>
          <p:cNvSpPr/>
          <p:nvPr/>
        </p:nvSpPr>
        <p:spPr>
          <a:xfrm flipH="1">
            <a:off x="4572000" y="556272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Line 19"/>
          <p:cNvSpPr/>
          <p:nvPr/>
        </p:nvSpPr>
        <p:spPr>
          <a:xfrm flipH="1">
            <a:off x="5181120" y="388620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Text Box 20"/>
          <p:cNvSpPr/>
          <p:nvPr/>
        </p:nvSpPr>
        <p:spPr>
          <a:xfrm>
            <a:off x="0" y="2819520"/>
            <a:ext cx="2743200" cy="4356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Fully supported gasket groove</a:t>
            </a:r>
            <a:endParaRPr b="0" lang="en-US" sz="2000" spc="-1" strike="noStrike">
              <a:solidFill>
                <a:srgbClr val="000000"/>
              </a:solidFill>
              <a:latin typeface="Times New Roman"/>
            </a:endParaRPr>
          </a:p>
        </p:txBody>
      </p:sp>
      <p:sp>
        <p:nvSpPr>
          <p:cNvPr id="149" name="Line 21"/>
          <p:cNvSpPr/>
          <p:nvPr/>
        </p:nvSpPr>
        <p:spPr>
          <a:xfrm>
            <a:off x="1523880" y="3429000"/>
            <a:ext cx="1524240" cy="0"/>
          </a:xfrm>
          <a:prstGeom prst="line">
            <a:avLst/>
          </a:prstGeom>
          <a:ln w="381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50" name="Footer Placeholder 2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gineering-resource.com</a:t>
            </a:r>
            <a:endParaRPr b="0" lang="en-US" sz="1400" spc="-1" strike="noStrike">
              <a:solidFill>
                <a:srgbClr val="000000"/>
              </a:solidFill>
              <a:latin typeface="Times New Roman"/>
            </a:endParaRPr>
          </a:p>
        </p:txBody>
      </p:sp>
      <p:sp>
        <p:nvSpPr>
          <p:cNvPr id="151" name="Ink 21"/>
          <p:cNvSpPr/>
          <p:nvPr/>
        </p:nvSpPr>
        <p:spPr>
          <a:xfrm>
            <a:off x="4427640" y="2084400"/>
            <a:ext cx="69840" cy="3832200"/>
          </a:xfrm>
          <a:custGeom>
            <a:avLst/>
            <a:gdLst/>
            <a:ahLst/>
            <a:rect l="l" t="t" r="r" b="b"/>
            <a:pathLst>
              <a:path w="193" h="10647">
                <a:moveTo>
                  <a:pt x="12320" y="5798"/>
                </a:moveTo>
                <a:cubicBezTo>
                  <a:pt x="12319" y="5812"/>
                  <a:pt x="12299" y="5795"/>
                  <a:pt x="12299" y="5809"/>
                </a:cubicBezTo>
                <a:cubicBezTo>
                  <a:pt x="12290" y="6204"/>
                  <a:pt x="12347" y="6611"/>
                  <a:pt x="12367" y="7005"/>
                </a:cubicBezTo>
                <a:cubicBezTo>
                  <a:pt x="12410" y="7832"/>
                  <a:pt x="12390" y="8664"/>
                  <a:pt x="12391" y="9492"/>
                </a:cubicBezTo>
                <a:cubicBezTo>
                  <a:pt x="12392" y="10412"/>
                  <a:pt x="12463" y="11330"/>
                  <a:pt x="12464" y="12251"/>
                </a:cubicBezTo>
                <a:cubicBezTo>
                  <a:pt x="12465" y="13068"/>
                  <a:pt x="12473" y="13884"/>
                  <a:pt x="12476" y="14700"/>
                </a:cubicBezTo>
                <a:cubicBezTo>
                  <a:pt x="12478" y="15163"/>
                  <a:pt x="12435" y="15640"/>
                  <a:pt x="12464" y="16102"/>
                </a:cubicBezTo>
                <a:cubicBezTo>
                  <a:pt x="12470" y="16195"/>
                  <a:pt x="12489" y="16348"/>
                  <a:pt x="12484" y="16406"/>
                </a:cubicBezTo>
                <a:cubicBezTo>
                  <a:pt x="12479" y="16399"/>
                  <a:pt x="12474" y="16391"/>
                  <a:pt x="12469" y="16384"/>
                </a:cubicBezTo>
              </a:path>
              <a:path w="193" h="10647">
                <a:moveTo>
                  <a:pt x="12324" y="16232"/>
                </a:moveTo>
                <a:cubicBezTo>
                  <a:pt x="12334" y="16277"/>
                  <a:pt x="12345" y="16324"/>
                  <a:pt x="12363" y="16367"/>
                </a:cubicBezTo>
                <a:cubicBezTo>
                  <a:pt x="12379" y="16403"/>
                  <a:pt x="12383" y="16412"/>
                  <a:pt x="12393" y="1643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Ink 22"/>
          <p:cNvSpPr/>
          <p:nvPr/>
        </p:nvSpPr>
        <p:spPr>
          <a:xfrm>
            <a:off x="4734000" y="1082520"/>
            <a:ext cx="428400" cy="474840"/>
          </a:xfrm>
          <a:custGeom>
            <a:avLst/>
            <a:gdLst/>
            <a:ahLst/>
            <a:rect l="l" t="t" r="r" b="b"/>
            <a:pathLst>
              <a:path w="1193" h="1317">
                <a:moveTo>
                  <a:pt x="13959" y="3112"/>
                </a:moveTo>
                <a:cubicBezTo>
                  <a:pt x="13948" y="3111"/>
                  <a:pt x="13936" y="3102"/>
                  <a:pt x="13917" y="3104"/>
                </a:cubicBezTo>
                <a:cubicBezTo>
                  <a:pt x="13836" y="3111"/>
                  <a:pt x="13776" y="3119"/>
                  <a:pt x="13693" y="3102"/>
                </a:cubicBezTo>
                <a:cubicBezTo>
                  <a:pt x="13574" y="3078"/>
                  <a:pt x="13468" y="3051"/>
                  <a:pt x="13356" y="3111"/>
                </a:cubicBezTo>
                <a:cubicBezTo>
                  <a:pt x="13251" y="3168"/>
                  <a:pt x="13191" y="3261"/>
                  <a:pt x="13166" y="3376"/>
                </a:cubicBezTo>
                <a:cubicBezTo>
                  <a:pt x="13133" y="3524"/>
                  <a:pt x="13146" y="3687"/>
                  <a:pt x="13169" y="3835"/>
                </a:cubicBezTo>
                <a:cubicBezTo>
                  <a:pt x="13186" y="3943"/>
                  <a:pt x="13204" y="4020"/>
                  <a:pt x="13289" y="4093"/>
                </a:cubicBezTo>
                <a:cubicBezTo>
                  <a:pt x="13326" y="4125"/>
                  <a:pt x="13368" y="4152"/>
                  <a:pt x="13409" y="4179"/>
                </a:cubicBezTo>
                <a:cubicBezTo>
                  <a:pt x="13529" y="4258"/>
                  <a:pt x="13636" y="4323"/>
                  <a:pt x="13784" y="4325"/>
                </a:cubicBezTo>
                <a:cubicBezTo>
                  <a:pt x="13853" y="4326"/>
                  <a:pt x="13913" y="4305"/>
                  <a:pt x="13975" y="4277"/>
                </a:cubicBezTo>
                <a:cubicBezTo>
                  <a:pt x="14039" y="4248"/>
                  <a:pt x="14091" y="4206"/>
                  <a:pt x="14136" y="4153"/>
                </a:cubicBezTo>
                <a:cubicBezTo>
                  <a:pt x="14244" y="4027"/>
                  <a:pt x="14281" y="3841"/>
                  <a:pt x="14313" y="3683"/>
                </a:cubicBezTo>
                <a:cubicBezTo>
                  <a:pt x="14329" y="3603"/>
                  <a:pt x="14339" y="3522"/>
                  <a:pt x="14341" y="3440"/>
                </a:cubicBezTo>
                <a:cubicBezTo>
                  <a:pt x="14343" y="3332"/>
                  <a:pt x="14303" y="3218"/>
                  <a:pt x="14226" y="3141"/>
                </a:cubicBezTo>
                <a:cubicBezTo>
                  <a:pt x="14081" y="2995"/>
                  <a:pt x="13857" y="2984"/>
                  <a:pt x="13675" y="3048"/>
                </a:cubicBezTo>
                <a:cubicBezTo>
                  <a:pt x="13582" y="3080"/>
                  <a:pt x="13508" y="3131"/>
                  <a:pt x="13437" y="3199"/>
                </a:cubicBezTo>
                <a:cubicBezTo>
                  <a:pt x="13423" y="3214"/>
                  <a:pt x="13409" y="3230"/>
                  <a:pt x="13395" y="324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Ink 23"/>
          <p:cNvSpPr/>
          <p:nvPr/>
        </p:nvSpPr>
        <p:spPr>
          <a:xfrm>
            <a:off x="4278240" y="1273320"/>
            <a:ext cx="428760" cy="249120"/>
          </a:xfrm>
          <a:custGeom>
            <a:avLst/>
            <a:gdLst/>
            <a:ahLst/>
            <a:rect l="l" t="t" r="r" b="b"/>
            <a:pathLst>
              <a:path w="1193" h="694">
                <a:moveTo>
                  <a:pt x="13075" y="3535"/>
                </a:moveTo>
                <a:cubicBezTo>
                  <a:pt x="13044" y="3558"/>
                  <a:pt x="13016" y="3585"/>
                  <a:pt x="12986" y="3608"/>
                </a:cubicBezTo>
                <a:cubicBezTo>
                  <a:pt x="12952" y="3634"/>
                  <a:pt x="12915" y="3658"/>
                  <a:pt x="12879" y="3681"/>
                </a:cubicBezTo>
                <a:cubicBezTo>
                  <a:pt x="12830" y="3712"/>
                  <a:pt x="12781" y="3744"/>
                  <a:pt x="12732" y="3775"/>
                </a:cubicBezTo>
                <a:cubicBezTo>
                  <a:pt x="12684" y="3805"/>
                  <a:pt x="12635" y="3832"/>
                  <a:pt x="12587" y="3862"/>
                </a:cubicBezTo>
                <a:cubicBezTo>
                  <a:pt x="12545" y="3888"/>
                  <a:pt x="12501" y="3906"/>
                  <a:pt x="12456" y="3926"/>
                </a:cubicBezTo>
                <a:cubicBezTo>
                  <a:pt x="12409" y="3947"/>
                  <a:pt x="12360" y="3962"/>
                  <a:pt x="12312" y="3982"/>
                </a:cubicBezTo>
                <a:cubicBezTo>
                  <a:pt x="12163" y="4043"/>
                  <a:pt x="12038" y="4139"/>
                  <a:pt x="11900" y="4219"/>
                </a:cubicBezTo>
                <a:cubicBezTo>
                  <a:pt x="11894" y="4222"/>
                  <a:pt x="11889" y="4225"/>
                  <a:pt x="11883" y="422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Ink 24"/>
          <p:cNvSpPr/>
          <p:nvPr/>
        </p:nvSpPr>
        <p:spPr>
          <a:xfrm>
            <a:off x="4229280" y="1386000"/>
            <a:ext cx="441000" cy="342720"/>
          </a:xfrm>
          <a:custGeom>
            <a:avLst/>
            <a:gdLst/>
            <a:ahLst/>
            <a:rect l="l" t="t" r="r" b="b"/>
            <a:pathLst>
              <a:path w="1228" h="951">
                <a:moveTo>
                  <a:pt x="12974" y="3850"/>
                </a:moveTo>
                <a:cubicBezTo>
                  <a:pt x="12959" y="3867"/>
                  <a:pt x="12943" y="3879"/>
                  <a:pt x="12928" y="3902"/>
                </a:cubicBezTo>
                <a:cubicBezTo>
                  <a:pt x="12873" y="3987"/>
                  <a:pt x="12814" y="4048"/>
                  <a:pt x="12727" y="4102"/>
                </a:cubicBezTo>
                <a:cubicBezTo>
                  <a:pt x="12670" y="4138"/>
                  <a:pt x="12609" y="4173"/>
                  <a:pt x="12547" y="4201"/>
                </a:cubicBezTo>
                <a:cubicBezTo>
                  <a:pt x="12477" y="4232"/>
                  <a:pt x="12409" y="4268"/>
                  <a:pt x="12338" y="4297"/>
                </a:cubicBezTo>
                <a:cubicBezTo>
                  <a:pt x="12267" y="4326"/>
                  <a:pt x="12197" y="4351"/>
                  <a:pt x="12128" y="4385"/>
                </a:cubicBezTo>
                <a:cubicBezTo>
                  <a:pt x="11983" y="4456"/>
                  <a:pt x="11879" y="4557"/>
                  <a:pt x="11797" y="4694"/>
                </a:cubicBezTo>
                <a:cubicBezTo>
                  <a:pt x="11781" y="4720"/>
                  <a:pt x="11764" y="4749"/>
                  <a:pt x="11753" y="4777"/>
                </a:cubicBezTo>
                <a:cubicBezTo>
                  <a:pt x="11751" y="4785"/>
                  <a:pt x="11749" y="4792"/>
                  <a:pt x="11747" y="480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Ink 25"/>
          <p:cNvSpPr/>
          <p:nvPr/>
        </p:nvSpPr>
        <p:spPr>
          <a:xfrm>
            <a:off x="4248000" y="1463760"/>
            <a:ext cx="478080" cy="303120"/>
          </a:xfrm>
          <a:custGeom>
            <a:avLst/>
            <a:gdLst/>
            <a:ahLst/>
            <a:rect l="l" t="t" r="r" b="b"/>
            <a:pathLst>
              <a:path w="1327" h="842">
                <a:moveTo>
                  <a:pt x="13126" y="4081"/>
                </a:moveTo>
                <a:cubicBezTo>
                  <a:pt x="13122" y="4081"/>
                  <a:pt x="13118" y="4065"/>
                  <a:pt x="13093" y="4079"/>
                </a:cubicBezTo>
                <a:cubicBezTo>
                  <a:pt x="13031" y="4115"/>
                  <a:pt x="12980" y="4181"/>
                  <a:pt x="12924" y="4227"/>
                </a:cubicBezTo>
                <a:cubicBezTo>
                  <a:pt x="12882" y="4262"/>
                  <a:pt x="12837" y="4293"/>
                  <a:pt x="12791" y="4322"/>
                </a:cubicBezTo>
                <a:cubicBezTo>
                  <a:pt x="12643" y="4416"/>
                  <a:pt x="12488" y="4506"/>
                  <a:pt x="12333" y="4587"/>
                </a:cubicBezTo>
                <a:cubicBezTo>
                  <a:pt x="12257" y="4627"/>
                  <a:pt x="12180" y="4667"/>
                  <a:pt x="12104" y="4708"/>
                </a:cubicBezTo>
                <a:cubicBezTo>
                  <a:pt x="12026" y="4750"/>
                  <a:pt x="11946" y="4791"/>
                  <a:pt x="11873" y="4842"/>
                </a:cubicBezTo>
                <a:cubicBezTo>
                  <a:pt x="11845" y="4862"/>
                  <a:pt x="11823" y="4886"/>
                  <a:pt x="11801" y="490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Ink 26"/>
          <p:cNvSpPr/>
          <p:nvPr/>
        </p:nvSpPr>
        <p:spPr>
          <a:xfrm>
            <a:off x="4357800" y="1509840"/>
            <a:ext cx="453960" cy="380880"/>
          </a:xfrm>
          <a:custGeom>
            <a:avLst/>
            <a:gdLst/>
            <a:ahLst/>
            <a:rect l="l" t="t" r="r" b="b"/>
            <a:pathLst>
              <a:path w="1259" h="1060">
                <a:moveTo>
                  <a:pt x="13364" y="4199"/>
                </a:moveTo>
                <a:cubicBezTo>
                  <a:pt x="13343" y="4206"/>
                  <a:pt x="13331" y="4204"/>
                  <a:pt x="13307" y="4222"/>
                </a:cubicBezTo>
                <a:cubicBezTo>
                  <a:pt x="13259" y="4258"/>
                  <a:pt x="13215" y="4304"/>
                  <a:pt x="13173" y="4347"/>
                </a:cubicBezTo>
                <a:cubicBezTo>
                  <a:pt x="13072" y="4450"/>
                  <a:pt x="12988" y="4569"/>
                  <a:pt x="12879" y="4665"/>
                </a:cubicBezTo>
                <a:cubicBezTo>
                  <a:pt x="12737" y="4790"/>
                  <a:pt x="12564" y="4868"/>
                  <a:pt x="12427" y="5000"/>
                </a:cubicBezTo>
                <a:cubicBezTo>
                  <a:pt x="12394" y="5032"/>
                  <a:pt x="12362" y="5066"/>
                  <a:pt x="12327" y="5097"/>
                </a:cubicBezTo>
                <a:cubicBezTo>
                  <a:pt x="12296" y="5125"/>
                  <a:pt x="12263" y="5151"/>
                  <a:pt x="12230" y="5176"/>
                </a:cubicBezTo>
                <a:cubicBezTo>
                  <a:pt x="12198" y="5201"/>
                  <a:pt x="12167" y="5220"/>
                  <a:pt x="12133" y="5238"/>
                </a:cubicBezTo>
                <a:cubicBezTo>
                  <a:pt x="12122" y="5252"/>
                  <a:pt x="12119" y="5256"/>
                  <a:pt x="12106" y="525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Ink 27"/>
          <p:cNvSpPr/>
          <p:nvPr/>
        </p:nvSpPr>
        <p:spPr>
          <a:xfrm>
            <a:off x="4537080" y="1547640"/>
            <a:ext cx="309600" cy="338400"/>
          </a:xfrm>
          <a:custGeom>
            <a:avLst/>
            <a:gdLst/>
            <a:ahLst/>
            <a:rect l="l" t="t" r="r" b="b"/>
            <a:pathLst>
              <a:path w="859" h="939">
                <a:moveTo>
                  <a:pt x="13463" y="4301"/>
                </a:moveTo>
                <a:cubicBezTo>
                  <a:pt x="13435" y="4336"/>
                  <a:pt x="13407" y="4371"/>
                  <a:pt x="13383" y="4408"/>
                </a:cubicBezTo>
                <a:cubicBezTo>
                  <a:pt x="13357" y="4449"/>
                  <a:pt x="13327" y="4487"/>
                  <a:pt x="13297" y="4525"/>
                </a:cubicBezTo>
                <a:cubicBezTo>
                  <a:pt x="13256" y="4577"/>
                  <a:pt x="13215" y="4630"/>
                  <a:pt x="13170" y="4678"/>
                </a:cubicBezTo>
                <a:cubicBezTo>
                  <a:pt x="13126" y="4726"/>
                  <a:pt x="13080" y="4774"/>
                  <a:pt x="13034" y="4820"/>
                </a:cubicBezTo>
                <a:cubicBezTo>
                  <a:pt x="12961" y="4893"/>
                  <a:pt x="12883" y="4963"/>
                  <a:pt x="12803" y="5028"/>
                </a:cubicBezTo>
                <a:cubicBezTo>
                  <a:pt x="12764" y="5060"/>
                  <a:pt x="12726" y="5092"/>
                  <a:pt x="12691" y="5129"/>
                </a:cubicBezTo>
                <a:cubicBezTo>
                  <a:pt x="12662" y="5159"/>
                  <a:pt x="12641" y="5195"/>
                  <a:pt x="12614" y="5227"/>
                </a:cubicBezTo>
                <a:cubicBezTo>
                  <a:pt x="12608" y="5234"/>
                  <a:pt x="12612" y="5225"/>
                  <a:pt x="12606" y="523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Ink 28"/>
          <p:cNvSpPr/>
          <p:nvPr/>
        </p:nvSpPr>
        <p:spPr>
          <a:xfrm>
            <a:off x="4718160" y="1541520"/>
            <a:ext cx="212760" cy="314280"/>
          </a:xfrm>
          <a:custGeom>
            <a:avLst/>
            <a:gdLst/>
            <a:ahLst/>
            <a:rect l="l" t="t" r="r" b="b"/>
            <a:pathLst>
              <a:path w="591" h="873">
                <a:moveTo>
                  <a:pt x="13696" y="4282"/>
                </a:moveTo>
                <a:cubicBezTo>
                  <a:pt x="13664" y="4343"/>
                  <a:pt x="13640" y="4409"/>
                  <a:pt x="13604" y="4469"/>
                </a:cubicBezTo>
                <a:cubicBezTo>
                  <a:pt x="13515" y="4618"/>
                  <a:pt x="13417" y="4765"/>
                  <a:pt x="13307" y="4899"/>
                </a:cubicBezTo>
                <a:cubicBezTo>
                  <a:pt x="13253" y="4965"/>
                  <a:pt x="13182" y="5026"/>
                  <a:pt x="13137" y="5098"/>
                </a:cubicBezTo>
                <a:cubicBezTo>
                  <a:pt x="13124" y="5119"/>
                  <a:pt x="13115" y="5137"/>
                  <a:pt x="13106" y="515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Ink 29"/>
          <p:cNvSpPr/>
          <p:nvPr/>
        </p:nvSpPr>
        <p:spPr>
          <a:xfrm>
            <a:off x="4816440" y="1541520"/>
            <a:ext cx="212760" cy="334800"/>
          </a:xfrm>
          <a:custGeom>
            <a:avLst/>
            <a:gdLst/>
            <a:ahLst/>
            <a:rect l="l" t="t" r="r" b="b"/>
            <a:pathLst>
              <a:path w="590" h="932">
                <a:moveTo>
                  <a:pt x="13968" y="4295"/>
                </a:moveTo>
                <a:cubicBezTo>
                  <a:pt x="13952" y="4292"/>
                  <a:pt x="13962" y="4273"/>
                  <a:pt x="13935" y="4289"/>
                </a:cubicBezTo>
                <a:cubicBezTo>
                  <a:pt x="13917" y="4299"/>
                  <a:pt x="13900" y="4341"/>
                  <a:pt x="13891" y="4358"/>
                </a:cubicBezTo>
                <a:cubicBezTo>
                  <a:pt x="13851" y="4437"/>
                  <a:pt x="13816" y="4518"/>
                  <a:pt x="13776" y="4597"/>
                </a:cubicBezTo>
                <a:cubicBezTo>
                  <a:pt x="13750" y="4649"/>
                  <a:pt x="13721" y="4698"/>
                  <a:pt x="13690" y="4748"/>
                </a:cubicBezTo>
                <a:cubicBezTo>
                  <a:pt x="13662" y="4794"/>
                  <a:pt x="13633" y="4839"/>
                  <a:pt x="13604" y="4884"/>
                </a:cubicBezTo>
                <a:cubicBezTo>
                  <a:pt x="13550" y="4969"/>
                  <a:pt x="13486" y="5047"/>
                  <a:pt x="13431" y="5132"/>
                </a:cubicBezTo>
                <a:cubicBezTo>
                  <a:pt x="13417" y="5153"/>
                  <a:pt x="13403" y="5175"/>
                  <a:pt x="13389" y="5196"/>
                </a:cubicBezTo>
                <a:cubicBezTo>
                  <a:pt x="13387" y="5209"/>
                  <a:pt x="13389" y="5215"/>
                  <a:pt x="13379" y="521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Ink 30"/>
          <p:cNvSpPr/>
          <p:nvPr/>
        </p:nvSpPr>
        <p:spPr>
          <a:xfrm>
            <a:off x="4997520" y="1565280"/>
            <a:ext cx="125280" cy="262080"/>
          </a:xfrm>
          <a:custGeom>
            <a:avLst/>
            <a:gdLst/>
            <a:ahLst/>
            <a:rect l="l" t="t" r="r" b="b"/>
            <a:pathLst>
              <a:path w="345" h="725">
                <a:moveTo>
                  <a:pt x="14227" y="4353"/>
                </a:moveTo>
                <a:cubicBezTo>
                  <a:pt x="14203" y="4360"/>
                  <a:pt x="14209" y="4350"/>
                  <a:pt x="14192" y="4381"/>
                </a:cubicBezTo>
                <a:cubicBezTo>
                  <a:pt x="14178" y="4407"/>
                  <a:pt x="14168" y="4436"/>
                  <a:pt x="14158" y="4463"/>
                </a:cubicBezTo>
                <a:cubicBezTo>
                  <a:pt x="14139" y="4513"/>
                  <a:pt x="14120" y="4564"/>
                  <a:pt x="14102" y="4615"/>
                </a:cubicBezTo>
                <a:cubicBezTo>
                  <a:pt x="14080" y="4676"/>
                  <a:pt x="14056" y="4736"/>
                  <a:pt x="14030" y="4795"/>
                </a:cubicBezTo>
                <a:cubicBezTo>
                  <a:pt x="14007" y="4847"/>
                  <a:pt x="13982" y="4897"/>
                  <a:pt x="13957" y="4948"/>
                </a:cubicBezTo>
                <a:cubicBezTo>
                  <a:pt x="13942" y="4977"/>
                  <a:pt x="13928" y="5024"/>
                  <a:pt x="13906" y="5049"/>
                </a:cubicBezTo>
                <a:cubicBezTo>
                  <a:pt x="13897" y="5059"/>
                  <a:pt x="13887" y="5068"/>
                  <a:pt x="13883" y="507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Ink 31"/>
          <p:cNvSpPr/>
          <p:nvPr/>
        </p:nvSpPr>
        <p:spPr>
          <a:xfrm>
            <a:off x="5141880" y="1595520"/>
            <a:ext cx="46080" cy="285840"/>
          </a:xfrm>
          <a:custGeom>
            <a:avLst/>
            <a:gdLst/>
            <a:ahLst/>
            <a:rect l="l" t="t" r="r" b="b"/>
            <a:pathLst>
              <a:path w="128" h="794">
                <a:moveTo>
                  <a:pt x="14409" y="4432"/>
                </a:moveTo>
                <a:cubicBezTo>
                  <a:pt x="14407" y="4458"/>
                  <a:pt x="14404" y="4485"/>
                  <a:pt x="14402" y="4511"/>
                </a:cubicBezTo>
                <a:cubicBezTo>
                  <a:pt x="14400" y="4550"/>
                  <a:pt x="14396" y="4590"/>
                  <a:pt x="14393" y="4629"/>
                </a:cubicBezTo>
                <a:cubicBezTo>
                  <a:pt x="14389" y="4695"/>
                  <a:pt x="14383" y="4762"/>
                  <a:pt x="14375" y="4828"/>
                </a:cubicBezTo>
                <a:cubicBezTo>
                  <a:pt x="14367" y="4893"/>
                  <a:pt x="14353" y="4958"/>
                  <a:pt x="14338" y="5022"/>
                </a:cubicBezTo>
                <a:cubicBezTo>
                  <a:pt x="14327" y="5069"/>
                  <a:pt x="14314" y="5117"/>
                  <a:pt x="14298" y="5163"/>
                </a:cubicBezTo>
                <a:cubicBezTo>
                  <a:pt x="14291" y="5184"/>
                  <a:pt x="14286" y="5203"/>
                  <a:pt x="14282" y="522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Times New Roman"/>
            </a:endParaRPr>
          </a:p>
        </p:txBody>
      </p:sp>
      <p:pic>
        <p:nvPicPr>
          <p:cNvPr id="163" name="Picture 3" descr=""/>
          <p:cNvPicPr/>
          <p:nvPr/>
        </p:nvPicPr>
        <p:blipFill>
          <a:blip r:embed="rId1"/>
          <a:stretch/>
        </p:blipFill>
        <p:spPr>
          <a:xfrm>
            <a:off x="1219320" y="0"/>
            <a:ext cx="5638680" cy="6858000"/>
          </a:xfrm>
          <a:prstGeom prst="rect">
            <a:avLst/>
          </a:prstGeom>
          <a:ln w="0">
            <a:noFill/>
          </a:ln>
        </p:spPr>
      </p:pic>
      <p:sp>
        <p:nvSpPr>
          <p:cNvPr id="164" name="Ink 6"/>
          <p:cNvSpPr/>
          <p:nvPr/>
        </p:nvSpPr>
        <p:spPr>
          <a:xfrm>
            <a:off x="2089080" y="4189320"/>
            <a:ext cx="509760" cy="257400"/>
          </a:xfrm>
          <a:custGeom>
            <a:avLst/>
            <a:gdLst/>
            <a:ahLst/>
            <a:rect l="l" t="t" r="r" b="b"/>
            <a:pathLst>
              <a:path w="1414" h="715">
                <a:moveTo>
                  <a:pt x="6061" y="11681"/>
                </a:moveTo>
                <a:cubicBezTo>
                  <a:pt x="6070" y="11666"/>
                  <a:pt x="6078" y="11652"/>
                  <a:pt x="6087" y="11637"/>
                </a:cubicBezTo>
                <a:cubicBezTo>
                  <a:pt x="6077" y="11670"/>
                  <a:pt x="6061" y="11699"/>
                  <a:pt x="6046" y="11730"/>
                </a:cubicBezTo>
                <a:cubicBezTo>
                  <a:pt x="6014" y="11794"/>
                  <a:pt x="5980" y="11858"/>
                  <a:pt x="5943" y="11920"/>
                </a:cubicBezTo>
                <a:cubicBezTo>
                  <a:pt x="5910" y="11975"/>
                  <a:pt x="5876" y="12029"/>
                  <a:pt x="5841" y="12083"/>
                </a:cubicBezTo>
                <a:cubicBezTo>
                  <a:pt x="5829" y="12101"/>
                  <a:pt x="5817" y="12118"/>
                  <a:pt x="5805" y="12135"/>
                </a:cubicBezTo>
                <a:cubicBezTo>
                  <a:pt x="5819" y="12147"/>
                  <a:pt x="5833" y="12156"/>
                  <a:pt x="5851" y="12167"/>
                </a:cubicBezTo>
                <a:cubicBezTo>
                  <a:pt x="5886" y="12188"/>
                  <a:pt x="5916" y="12214"/>
                  <a:pt x="5945" y="12242"/>
                </a:cubicBezTo>
                <a:cubicBezTo>
                  <a:pt x="5975" y="12270"/>
                  <a:pt x="6006" y="12301"/>
                  <a:pt x="6040" y="12325"/>
                </a:cubicBezTo>
                <a:cubicBezTo>
                  <a:pt x="6058" y="12338"/>
                  <a:pt x="6088" y="12361"/>
                  <a:pt x="6113" y="12351"/>
                </a:cubicBezTo>
                <a:cubicBezTo>
                  <a:pt x="6115" y="12347"/>
                  <a:pt x="6116" y="12342"/>
                  <a:pt x="6118" y="12338"/>
                </a:cubicBezTo>
              </a:path>
              <a:path w="1414" h="715">
                <a:moveTo>
                  <a:pt x="5968" y="12003"/>
                </a:moveTo>
                <a:cubicBezTo>
                  <a:pt x="5960" y="12003"/>
                  <a:pt x="5952" y="12003"/>
                  <a:pt x="5944" y="12003"/>
                </a:cubicBezTo>
                <a:cubicBezTo>
                  <a:pt x="5965" y="12006"/>
                  <a:pt x="5958" y="12005"/>
                  <a:pt x="5979" y="12009"/>
                </a:cubicBezTo>
                <a:cubicBezTo>
                  <a:pt x="6028" y="12018"/>
                  <a:pt x="6076" y="12029"/>
                  <a:pt x="6125" y="12035"/>
                </a:cubicBezTo>
                <a:cubicBezTo>
                  <a:pt x="6209" y="12045"/>
                  <a:pt x="6293" y="12046"/>
                  <a:pt x="6377" y="12046"/>
                </a:cubicBezTo>
                <a:cubicBezTo>
                  <a:pt x="6481" y="12046"/>
                  <a:pt x="6584" y="12043"/>
                  <a:pt x="6687" y="12037"/>
                </a:cubicBezTo>
                <a:cubicBezTo>
                  <a:pt x="6796" y="12031"/>
                  <a:pt x="6907" y="12024"/>
                  <a:pt x="7015" y="12012"/>
                </a:cubicBezTo>
                <a:cubicBezTo>
                  <a:pt x="7066" y="12006"/>
                  <a:pt x="7121" y="12002"/>
                  <a:pt x="7171" y="11989"/>
                </a:cubicBezTo>
                <a:cubicBezTo>
                  <a:pt x="7196" y="11983"/>
                  <a:pt x="7215" y="11980"/>
                  <a:pt x="7217" y="11955"/>
                </a:cubicBezTo>
                <a:cubicBezTo>
                  <a:pt x="7214" y="11946"/>
                  <a:pt x="7210" y="11938"/>
                  <a:pt x="7207" y="1192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Ink 5"/>
          <p:cNvSpPr/>
          <p:nvPr/>
        </p:nvSpPr>
        <p:spPr>
          <a:xfrm>
            <a:off x="2041560" y="2598840"/>
            <a:ext cx="3257640" cy="996840"/>
          </a:xfrm>
          <a:custGeom>
            <a:avLst/>
            <a:gdLst/>
            <a:ahLst/>
            <a:rect l="l" t="t" r="r" b="b"/>
            <a:pathLst>
              <a:path w="9051" h="2770">
                <a:moveTo>
                  <a:pt x="5669" y="7552"/>
                </a:moveTo>
                <a:cubicBezTo>
                  <a:pt x="5682" y="7545"/>
                  <a:pt x="5666" y="7457"/>
                  <a:pt x="5679" y="7454"/>
                </a:cubicBezTo>
                <a:cubicBezTo>
                  <a:pt x="5736" y="7443"/>
                  <a:pt x="5817" y="7472"/>
                  <a:pt x="5877" y="7479"/>
                </a:cubicBezTo>
                <a:cubicBezTo>
                  <a:pt x="5938" y="7486"/>
                  <a:pt x="6100" y="7492"/>
                  <a:pt x="6152" y="7521"/>
                </a:cubicBezTo>
                <a:cubicBezTo>
                  <a:pt x="6229" y="7565"/>
                  <a:pt x="6279" y="7667"/>
                  <a:pt x="6350" y="7724"/>
                </a:cubicBezTo>
                <a:cubicBezTo>
                  <a:pt x="6520" y="7860"/>
                  <a:pt x="6701" y="7975"/>
                  <a:pt x="6865" y="8121"/>
                </a:cubicBezTo>
                <a:cubicBezTo>
                  <a:pt x="7033" y="8270"/>
                  <a:pt x="7192" y="8425"/>
                  <a:pt x="7369" y="8564"/>
                </a:cubicBezTo>
                <a:cubicBezTo>
                  <a:pt x="7654" y="8787"/>
                  <a:pt x="8002" y="8994"/>
                  <a:pt x="8321" y="9164"/>
                </a:cubicBezTo>
                <a:cubicBezTo>
                  <a:pt x="8568" y="9296"/>
                  <a:pt x="8826" y="9410"/>
                  <a:pt x="9068" y="9554"/>
                </a:cubicBezTo>
                <a:cubicBezTo>
                  <a:pt x="9257" y="9666"/>
                  <a:pt x="9412" y="9758"/>
                  <a:pt x="9626" y="9820"/>
                </a:cubicBezTo>
                <a:cubicBezTo>
                  <a:pt x="9847" y="9884"/>
                  <a:pt x="10079" y="9947"/>
                  <a:pt x="10307" y="9974"/>
                </a:cubicBezTo>
                <a:cubicBezTo>
                  <a:pt x="11093" y="10068"/>
                  <a:pt x="11885" y="9627"/>
                  <a:pt x="12466" y="9138"/>
                </a:cubicBezTo>
                <a:cubicBezTo>
                  <a:pt x="12770" y="8883"/>
                  <a:pt x="13060" y="8640"/>
                  <a:pt x="13322" y="8341"/>
                </a:cubicBezTo>
                <a:cubicBezTo>
                  <a:pt x="13583" y="8043"/>
                  <a:pt x="13891" y="7810"/>
                  <a:pt x="14165" y="7528"/>
                </a:cubicBezTo>
                <a:cubicBezTo>
                  <a:pt x="14313" y="7376"/>
                  <a:pt x="14417" y="7281"/>
                  <a:pt x="14624" y="7228"/>
                </a:cubicBezTo>
                <a:cubicBezTo>
                  <a:pt x="14660" y="7219"/>
                  <a:pt x="14666" y="7233"/>
                  <a:pt x="14703" y="722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Ink 6"/>
          <p:cNvSpPr/>
          <p:nvPr/>
        </p:nvSpPr>
        <p:spPr>
          <a:xfrm>
            <a:off x="1941480" y="1874880"/>
            <a:ext cx="752400" cy="1384200"/>
          </a:xfrm>
          <a:custGeom>
            <a:avLst/>
            <a:gdLst/>
            <a:ahLst/>
            <a:rect l="l" t="t" r="r" b="b"/>
            <a:pathLst>
              <a:path w="2091" h="3847">
                <a:moveTo>
                  <a:pt x="7471" y="5320"/>
                </a:moveTo>
                <a:cubicBezTo>
                  <a:pt x="7458" y="5255"/>
                  <a:pt x="7457" y="5259"/>
                  <a:pt x="7429" y="5208"/>
                </a:cubicBezTo>
                <a:cubicBezTo>
                  <a:pt x="7382" y="5261"/>
                  <a:pt x="7342" y="5295"/>
                  <a:pt x="7305" y="5377"/>
                </a:cubicBezTo>
                <a:cubicBezTo>
                  <a:pt x="6815" y="6462"/>
                  <a:pt x="6276" y="7477"/>
                  <a:pt x="5685" y="8512"/>
                </a:cubicBezTo>
                <a:cubicBezTo>
                  <a:pt x="5583" y="8691"/>
                  <a:pt x="5489" y="8872"/>
                  <a:pt x="5392" y="905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Ink 7"/>
          <p:cNvSpPr/>
          <p:nvPr/>
        </p:nvSpPr>
        <p:spPr>
          <a:xfrm>
            <a:off x="2198520" y="1855800"/>
            <a:ext cx="1679760" cy="2624040"/>
          </a:xfrm>
          <a:custGeom>
            <a:avLst/>
            <a:gdLst/>
            <a:ahLst/>
            <a:rect l="l" t="t" r="r" b="b"/>
            <a:pathLst>
              <a:path w="4665" h="7291">
                <a:moveTo>
                  <a:pt x="10725" y="5175"/>
                </a:moveTo>
                <a:cubicBezTo>
                  <a:pt x="10704" y="5244"/>
                  <a:pt x="10733" y="5238"/>
                  <a:pt x="10703" y="5303"/>
                </a:cubicBezTo>
                <a:cubicBezTo>
                  <a:pt x="10109" y="6585"/>
                  <a:pt x="9119" y="7801"/>
                  <a:pt x="8340" y="8973"/>
                </a:cubicBezTo>
                <a:cubicBezTo>
                  <a:pt x="7862" y="9692"/>
                  <a:pt x="7395" y="10415"/>
                  <a:pt x="6920" y="11135"/>
                </a:cubicBezTo>
                <a:cubicBezTo>
                  <a:pt x="6713" y="11449"/>
                  <a:pt x="6494" y="11765"/>
                  <a:pt x="6296" y="12082"/>
                </a:cubicBezTo>
                <a:cubicBezTo>
                  <a:pt x="6224" y="12198"/>
                  <a:pt x="6173" y="12326"/>
                  <a:pt x="6107" y="1244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Ink 8"/>
          <p:cNvSpPr/>
          <p:nvPr/>
        </p:nvSpPr>
        <p:spPr>
          <a:xfrm>
            <a:off x="2816280" y="2036880"/>
            <a:ext cx="1987560" cy="2641320"/>
          </a:xfrm>
          <a:custGeom>
            <a:avLst/>
            <a:gdLst/>
            <a:ahLst/>
            <a:rect l="l" t="t" r="r" b="b"/>
            <a:pathLst>
              <a:path w="5521" h="7339">
                <a:moveTo>
                  <a:pt x="13214" y="5704"/>
                </a:moveTo>
                <a:cubicBezTo>
                  <a:pt x="13289" y="5667"/>
                  <a:pt x="13295" y="5651"/>
                  <a:pt x="13343" y="5656"/>
                </a:cubicBezTo>
                <a:cubicBezTo>
                  <a:pt x="13023" y="6146"/>
                  <a:pt x="12647" y="6590"/>
                  <a:pt x="12276" y="7043"/>
                </a:cubicBezTo>
                <a:cubicBezTo>
                  <a:pt x="11777" y="7652"/>
                  <a:pt x="11312" y="8284"/>
                  <a:pt x="10829" y="8906"/>
                </a:cubicBezTo>
                <a:cubicBezTo>
                  <a:pt x="10419" y="9434"/>
                  <a:pt x="9998" y="9951"/>
                  <a:pt x="9587" y="10476"/>
                </a:cubicBezTo>
                <a:cubicBezTo>
                  <a:pt x="8954" y="11284"/>
                  <a:pt x="8381" y="12135"/>
                  <a:pt x="7823" y="1299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Ink 9"/>
          <p:cNvSpPr/>
          <p:nvPr/>
        </p:nvSpPr>
        <p:spPr>
          <a:xfrm>
            <a:off x="3540240" y="2878200"/>
            <a:ext cx="1773000" cy="2104920"/>
          </a:xfrm>
          <a:custGeom>
            <a:avLst/>
            <a:gdLst/>
            <a:ahLst/>
            <a:rect l="l" t="t" r="r" b="b"/>
            <a:pathLst>
              <a:path w="4926" h="5847">
                <a:moveTo>
                  <a:pt x="14645" y="8029"/>
                </a:moveTo>
                <a:cubicBezTo>
                  <a:pt x="14712" y="8004"/>
                  <a:pt x="14718" y="7992"/>
                  <a:pt x="14758" y="7995"/>
                </a:cubicBezTo>
                <a:cubicBezTo>
                  <a:pt x="14432" y="8460"/>
                  <a:pt x="14049" y="8873"/>
                  <a:pt x="13675" y="9301"/>
                </a:cubicBezTo>
                <a:cubicBezTo>
                  <a:pt x="12371" y="10794"/>
                  <a:pt x="11167" y="12376"/>
                  <a:pt x="9833" y="1384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Ink 10"/>
          <p:cNvSpPr/>
          <p:nvPr/>
        </p:nvSpPr>
        <p:spPr>
          <a:xfrm>
            <a:off x="4216320" y="3754440"/>
            <a:ext cx="1287720" cy="1406520"/>
          </a:xfrm>
          <a:custGeom>
            <a:avLst/>
            <a:gdLst/>
            <a:ahLst/>
            <a:rect l="l" t="t" r="r" b="b"/>
            <a:pathLst>
              <a:path w="3575" h="3906">
                <a:moveTo>
                  <a:pt x="15258" y="10430"/>
                </a:moveTo>
                <a:cubicBezTo>
                  <a:pt x="15238" y="10494"/>
                  <a:pt x="15264" y="10512"/>
                  <a:pt x="15199" y="10601"/>
                </a:cubicBezTo>
                <a:cubicBezTo>
                  <a:pt x="14878" y="11041"/>
                  <a:pt x="14475" y="11435"/>
                  <a:pt x="14122" y="11850"/>
                </a:cubicBezTo>
                <a:cubicBezTo>
                  <a:pt x="13703" y="12343"/>
                  <a:pt x="13263" y="12812"/>
                  <a:pt x="12805" y="13268"/>
                </a:cubicBezTo>
                <a:cubicBezTo>
                  <a:pt x="12481" y="13591"/>
                  <a:pt x="12148" y="13909"/>
                  <a:pt x="11820" y="14227"/>
                </a:cubicBezTo>
                <a:cubicBezTo>
                  <a:pt x="11784" y="14263"/>
                  <a:pt x="11748" y="14299"/>
                  <a:pt x="11712" y="1433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22860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Conventional heat transfer plates and channel</a:t>
            </a:r>
            <a:br>
              <a:rPr sz="2800"/>
            </a:br>
            <a:r>
              <a:rPr b="0" lang="en-US" sz="2800" spc="-1" strike="noStrike">
                <a:solidFill>
                  <a:srgbClr val="000000"/>
                </a:solidFill>
                <a:latin typeface="Times New Roman"/>
              </a:rPr>
              <a:t>combinations.</a:t>
            </a:r>
            <a:endParaRPr b="0" lang="en-US" sz="2800" spc="-1" strike="noStrike">
              <a:solidFill>
                <a:srgbClr val="000000"/>
              </a:solidFill>
              <a:latin typeface="Times New Roman"/>
            </a:endParaRPr>
          </a:p>
        </p:txBody>
      </p:sp>
      <p:pic>
        <p:nvPicPr>
          <p:cNvPr id="172" name="Picture 4" descr=""/>
          <p:cNvPicPr/>
          <p:nvPr/>
        </p:nvPicPr>
        <p:blipFill>
          <a:blip r:embed="rId1"/>
          <a:stretch/>
        </p:blipFill>
        <p:spPr>
          <a:xfrm>
            <a:off x="0" y="1757520"/>
            <a:ext cx="9144000" cy="3881160"/>
          </a:xfrm>
          <a:prstGeom prst="rect">
            <a:avLst/>
          </a:prstGeom>
          <a:ln w="0">
            <a:noFill/>
          </a:ln>
        </p:spPr>
      </p:pic>
      <p:sp>
        <p:nvSpPr>
          <p:cNvPr id="173" name="Ink 4"/>
          <p:cNvSpPr/>
          <p:nvPr/>
        </p:nvSpPr>
        <p:spPr>
          <a:xfrm>
            <a:off x="1208160" y="5265720"/>
            <a:ext cx="2009880" cy="860400"/>
          </a:xfrm>
          <a:custGeom>
            <a:avLst/>
            <a:gdLst/>
            <a:ahLst/>
            <a:rect l="l" t="t" r="r" b="b"/>
            <a:pathLst>
              <a:path w="5583" h="2388">
                <a:moveTo>
                  <a:pt x="3602" y="16014"/>
                </a:moveTo>
                <a:cubicBezTo>
                  <a:pt x="3582" y="15991"/>
                  <a:pt x="3567" y="15972"/>
                  <a:pt x="3551" y="15947"/>
                </a:cubicBezTo>
                <a:cubicBezTo>
                  <a:pt x="3531" y="15964"/>
                  <a:pt x="3518" y="15976"/>
                  <a:pt x="3502" y="16000"/>
                </a:cubicBezTo>
                <a:cubicBezTo>
                  <a:pt x="3417" y="16126"/>
                  <a:pt x="3375" y="16273"/>
                  <a:pt x="3361" y="16423"/>
                </a:cubicBezTo>
                <a:cubicBezTo>
                  <a:pt x="3345" y="16597"/>
                  <a:pt x="3355" y="16828"/>
                  <a:pt x="3489" y="16959"/>
                </a:cubicBezTo>
                <a:cubicBezTo>
                  <a:pt x="3534" y="17003"/>
                  <a:pt x="3595" y="17021"/>
                  <a:pt x="3657" y="17015"/>
                </a:cubicBezTo>
                <a:cubicBezTo>
                  <a:pt x="3749" y="17006"/>
                  <a:pt x="3815" y="16919"/>
                  <a:pt x="3853" y="16843"/>
                </a:cubicBezTo>
                <a:cubicBezTo>
                  <a:pt x="3945" y="16658"/>
                  <a:pt x="3967" y="16411"/>
                  <a:pt x="3912" y="16212"/>
                </a:cubicBezTo>
                <a:cubicBezTo>
                  <a:pt x="3894" y="16145"/>
                  <a:pt x="3860" y="16080"/>
                  <a:pt x="3805" y="16037"/>
                </a:cubicBezTo>
                <a:cubicBezTo>
                  <a:pt x="3766" y="16006"/>
                  <a:pt x="3713" y="15992"/>
                  <a:pt x="3664" y="16002"/>
                </a:cubicBezTo>
                <a:cubicBezTo>
                  <a:pt x="3613" y="16013"/>
                  <a:pt x="3567" y="16053"/>
                  <a:pt x="3535" y="16093"/>
                </a:cubicBezTo>
                <a:cubicBezTo>
                  <a:pt x="3479" y="16163"/>
                  <a:pt x="3462" y="16256"/>
                  <a:pt x="3476" y="16344"/>
                </a:cubicBezTo>
                <a:cubicBezTo>
                  <a:pt x="3495" y="16466"/>
                  <a:pt x="3585" y="16590"/>
                  <a:pt x="3690" y="16653"/>
                </a:cubicBezTo>
                <a:cubicBezTo>
                  <a:pt x="3735" y="16680"/>
                  <a:pt x="3780" y="16692"/>
                  <a:pt x="3831" y="16694"/>
                </a:cubicBezTo>
                <a:cubicBezTo>
                  <a:pt x="3877" y="16696"/>
                  <a:pt x="3935" y="16687"/>
                  <a:pt x="3974" y="16660"/>
                </a:cubicBezTo>
                <a:cubicBezTo>
                  <a:pt x="4018" y="16630"/>
                  <a:pt x="4056" y="16582"/>
                  <a:pt x="4086" y="16540"/>
                </a:cubicBezTo>
                <a:cubicBezTo>
                  <a:pt x="4093" y="16530"/>
                  <a:pt x="4099" y="16521"/>
                  <a:pt x="4106" y="16511"/>
                </a:cubicBezTo>
              </a:path>
              <a:path w="5583" h="2388">
                <a:moveTo>
                  <a:pt x="4504" y="16162"/>
                </a:moveTo>
                <a:cubicBezTo>
                  <a:pt x="4529" y="16152"/>
                  <a:pt x="4548" y="16137"/>
                  <a:pt x="4571" y="16121"/>
                </a:cubicBezTo>
                <a:cubicBezTo>
                  <a:pt x="4596" y="16104"/>
                  <a:pt x="4616" y="16086"/>
                  <a:pt x="4643" y="16071"/>
                </a:cubicBezTo>
              </a:path>
              <a:path w="5583" h="2388">
                <a:moveTo>
                  <a:pt x="4683" y="16287"/>
                </a:moveTo>
                <a:cubicBezTo>
                  <a:pt x="4680" y="16299"/>
                  <a:pt x="4649" y="16388"/>
                  <a:pt x="4655" y="16404"/>
                </a:cubicBezTo>
                <a:cubicBezTo>
                  <a:pt x="4693" y="16384"/>
                  <a:pt x="4721" y="16350"/>
                  <a:pt x="4752" y="16316"/>
                </a:cubicBezTo>
              </a:path>
              <a:path w="5583" h="2388">
                <a:moveTo>
                  <a:pt x="5712" y="14946"/>
                </a:moveTo>
                <a:cubicBezTo>
                  <a:pt x="5711" y="14922"/>
                  <a:pt x="5710" y="14897"/>
                  <a:pt x="5709" y="14873"/>
                </a:cubicBezTo>
                <a:cubicBezTo>
                  <a:pt x="5709" y="14868"/>
                  <a:pt x="5709" y="14862"/>
                  <a:pt x="5709" y="14857"/>
                </a:cubicBezTo>
                <a:cubicBezTo>
                  <a:pt x="5716" y="14905"/>
                  <a:pt x="5721" y="14954"/>
                  <a:pt x="5726" y="15002"/>
                </a:cubicBezTo>
                <a:cubicBezTo>
                  <a:pt x="5738" y="15109"/>
                  <a:pt x="5744" y="15217"/>
                  <a:pt x="5748" y="15325"/>
                </a:cubicBezTo>
                <a:cubicBezTo>
                  <a:pt x="5752" y="15437"/>
                  <a:pt x="5752" y="15550"/>
                  <a:pt x="5752" y="15662"/>
                </a:cubicBezTo>
                <a:cubicBezTo>
                  <a:pt x="5752" y="15727"/>
                  <a:pt x="5754" y="15793"/>
                  <a:pt x="5750" y="15858"/>
                </a:cubicBezTo>
                <a:cubicBezTo>
                  <a:pt x="5748" y="15893"/>
                  <a:pt x="5743" y="15822"/>
                  <a:pt x="5741" y="15787"/>
                </a:cubicBezTo>
              </a:path>
              <a:path w="5583" h="2388">
                <a:moveTo>
                  <a:pt x="5379" y="14831"/>
                </a:moveTo>
                <a:cubicBezTo>
                  <a:pt x="5341" y="14825"/>
                  <a:pt x="5335" y="14822"/>
                  <a:pt x="5312" y="14823"/>
                </a:cubicBezTo>
                <a:cubicBezTo>
                  <a:pt x="5350" y="14838"/>
                  <a:pt x="5377" y="14829"/>
                  <a:pt x="5417" y="14822"/>
                </a:cubicBezTo>
                <a:cubicBezTo>
                  <a:pt x="5493" y="14809"/>
                  <a:pt x="5564" y="14786"/>
                  <a:pt x="5638" y="14766"/>
                </a:cubicBezTo>
                <a:cubicBezTo>
                  <a:pt x="5758" y="14733"/>
                  <a:pt x="5877" y="14701"/>
                  <a:pt x="6000" y="14681"/>
                </a:cubicBezTo>
                <a:cubicBezTo>
                  <a:pt x="6039" y="14675"/>
                  <a:pt x="6079" y="14670"/>
                  <a:pt x="6119" y="14668"/>
                </a:cubicBezTo>
                <a:cubicBezTo>
                  <a:pt x="6143" y="14667"/>
                  <a:pt x="6142" y="14671"/>
                  <a:pt x="6136" y="14695"/>
                </a:cubicBezTo>
                <a:cubicBezTo>
                  <a:pt x="6132" y="14701"/>
                  <a:pt x="6129" y="14706"/>
                  <a:pt x="6125" y="14712"/>
                </a:cubicBezTo>
              </a:path>
              <a:path w="5583" h="2388">
                <a:moveTo>
                  <a:pt x="6144" y="15515"/>
                </a:moveTo>
                <a:cubicBezTo>
                  <a:pt x="6155" y="15479"/>
                  <a:pt x="6159" y="15566"/>
                  <a:pt x="6160" y="15578"/>
                </a:cubicBezTo>
                <a:cubicBezTo>
                  <a:pt x="6168" y="15647"/>
                  <a:pt x="6172" y="15717"/>
                  <a:pt x="6177" y="15786"/>
                </a:cubicBezTo>
                <a:cubicBezTo>
                  <a:pt x="6182" y="15848"/>
                  <a:pt x="6184" y="15911"/>
                  <a:pt x="6187" y="15973"/>
                </a:cubicBezTo>
                <a:cubicBezTo>
                  <a:pt x="6189" y="16005"/>
                  <a:pt x="6183" y="16024"/>
                  <a:pt x="6213" y="16008"/>
                </a:cubicBezTo>
              </a:path>
              <a:path w="5583" h="2388">
                <a:moveTo>
                  <a:pt x="6493" y="15506"/>
                </a:moveTo>
                <a:cubicBezTo>
                  <a:pt x="6547" y="15513"/>
                  <a:pt x="6595" y="15518"/>
                  <a:pt x="6649" y="15515"/>
                </a:cubicBezTo>
                <a:cubicBezTo>
                  <a:pt x="6704" y="15512"/>
                  <a:pt x="6752" y="15509"/>
                  <a:pt x="6805" y="15498"/>
                </a:cubicBezTo>
                <a:cubicBezTo>
                  <a:pt x="6848" y="15491"/>
                  <a:pt x="6863" y="15489"/>
                  <a:pt x="6886" y="15469"/>
                </a:cubicBezTo>
              </a:path>
              <a:path w="5583" h="2388">
                <a:moveTo>
                  <a:pt x="7274" y="14916"/>
                </a:moveTo>
                <a:cubicBezTo>
                  <a:pt x="7280" y="14889"/>
                  <a:pt x="7286" y="14863"/>
                  <a:pt x="7293" y="14838"/>
                </a:cubicBezTo>
                <a:cubicBezTo>
                  <a:pt x="7310" y="14878"/>
                  <a:pt x="7314" y="14924"/>
                  <a:pt x="7320" y="14967"/>
                </a:cubicBezTo>
                <a:cubicBezTo>
                  <a:pt x="7334" y="15063"/>
                  <a:pt x="7347" y="15160"/>
                  <a:pt x="7357" y="15257"/>
                </a:cubicBezTo>
                <a:cubicBezTo>
                  <a:pt x="7368" y="15364"/>
                  <a:pt x="7376" y="15471"/>
                  <a:pt x="7384" y="15578"/>
                </a:cubicBezTo>
                <a:cubicBezTo>
                  <a:pt x="7389" y="15650"/>
                  <a:pt x="7389" y="15721"/>
                  <a:pt x="7391" y="15793"/>
                </a:cubicBezTo>
              </a:path>
              <a:path w="5583" h="2388">
                <a:moveTo>
                  <a:pt x="7075" y="14894"/>
                </a:moveTo>
                <a:cubicBezTo>
                  <a:pt x="7055" y="14875"/>
                  <a:pt x="6988" y="14830"/>
                  <a:pt x="7006" y="14787"/>
                </a:cubicBezTo>
                <a:cubicBezTo>
                  <a:pt x="7021" y="14751"/>
                  <a:pt x="7082" y="14726"/>
                  <a:pt x="7112" y="14709"/>
                </a:cubicBezTo>
                <a:cubicBezTo>
                  <a:pt x="7169" y="14676"/>
                  <a:pt x="7238" y="14656"/>
                  <a:pt x="7303" y="14642"/>
                </a:cubicBezTo>
                <a:cubicBezTo>
                  <a:pt x="7353" y="14634"/>
                  <a:pt x="7369" y="14632"/>
                  <a:pt x="7402" y="14628"/>
                </a:cubicBezTo>
              </a:path>
              <a:path w="5583" h="2388">
                <a:moveTo>
                  <a:pt x="7736" y="15174"/>
                </a:moveTo>
                <a:cubicBezTo>
                  <a:pt x="7733" y="15190"/>
                  <a:pt x="7730" y="15206"/>
                  <a:pt x="7727" y="15222"/>
                </a:cubicBezTo>
                <a:cubicBezTo>
                  <a:pt x="7733" y="15186"/>
                  <a:pt x="7749" y="15155"/>
                  <a:pt x="7779" y="15129"/>
                </a:cubicBezTo>
                <a:cubicBezTo>
                  <a:pt x="7812" y="15100"/>
                  <a:pt x="7836" y="15121"/>
                  <a:pt x="7846" y="15157"/>
                </a:cubicBezTo>
                <a:cubicBezTo>
                  <a:pt x="7873" y="15254"/>
                  <a:pt x="7842" y="15378"/>
                  <a:pt x="7826" y="15474"/>
                </a:cubicBezTo>
                <a:cubicBezTo>
                  <a:pt x="7815" y="15539"/>
                  <a:pt x="7794" y="15610"/>
                  <a:pt x="7800" y="15676"/>
                </a:cubicBezTo>
                <a:cubicBezTo>
                  <a:pt x="7805" y="15727"/>
                  <a:pt x="7853" y="15723"/>
                  <a:pt x="7893" y="15717"/>
                </a:cubicBezTo>
                <a:cubicBezTo>
                  <a:pt x="8003" y="15700"/>
                  <a:pt x="8107" y="15650"/>
                  <a:pt x="8215" y="15624"/>
                </a:cubicBezTo>
                <a:cubicBezTo>
                  <a:pt x="8303" y="15603"/>
                  <a:pt x="8387" y="15605"/>
                  <a:pt x="8476" y="15613"/>
                </a:cubicBezTo>
              </a:path>
              <a:path w="5583" h="2388">
                <a:moveTo>
                  <a:pt x="5633" y="16651"/>
                </a:moveTo>
                <a:cubicBezTo>
                  <a:pt x="5550" y="16598"/>
                  <a:pt x="5594" y="16634"/>
                  <a:pt x="5561" y="16576"/>
                </a:cubicBezTo>
                <a:cubicBezTo>
                  <a:pt x="5589" y="16572"/>
                  <a:pt x="5610" y="16560"/>
                  <a:pt x="5642" y="16558"/>
                </a:cubicBezTo>
                <a:cubicBezTo>
                  <a:pt x="5720" y="16554"/>
                  <a:pt x="5799" y="16562"/>
                  <a:pt x="5877" y="16567"/>
                </a:cubicBezTo>
                <a:cubicBezTo>
                  <a:pt x="6029" y="16577"/>
                  <a:pt x="6182" y="16579"/>
                  <a:pt x="6335" y="16578"/>
                </a:cubicBezTo>
                <a:cubicBezTo>
                  <a:pt x="7018" y="16575"/>
                  <a:pt x="7705" y="16495"/>
                  <a:pt x="8384" y="16426"/>
                </a:cubicBezTo>
                <a:cubicBezTo>
                  <a:pt x="8551" y="16409"/>
                  <a:pt x="8723" y="16377"/>
                  <a:pt x="8891" y="16373"/>
                </a:cubicBezTo>
                <a:cubicBezTo>
                  <a:pt x="8977" y="16371"/>
                  <a:pt x="8901" y="16378"/>
                  <a:pt x="8916" y="1639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Ink 5"/>
          <p:cNvSpPr/>
          <p:nvPr/>
        </p:nvSpPr>
        <p:spPr>
          <a:xfrm>
            <a:off x="2363760" y="6037200"/>
            <a:ext cx="725400" cy="309600"/>
          </a:xfrm>
          <a:custGeom>
            <a:avLst/>
            <a:gdLst/>
            <a:ahLst/>
            <a:rect l="l" t="t" r="r" b="b"/>
            <a:pathLst>
              <a:path w="2013" h="856">
                <a:moveTo>
                  <a:pt x="6571" y="16922"/>
                </a:moveTo>
                <a:cubicBezTo>
                  <a:pt x="6584" y="16936"/>
                  <a:pt x="6584" y="16926"/>
                  <a:pt x="6586" y="16956"/>
                </a:cubicBezTo>
                <a:cubicBezTo>
                  <a:pt x="6590" y="17040"/>
                  <a:pt x="6580" y="17125"/>
                  <a:pt x="6575" y="17209"/>
                </a:cubicBezTo>
                <a:cubicBezTo>
                  <a:pt x="6572" y="17255"/>
                  <a:pt x="6569" y="17301"/>
                  <a:pt x="6568" y="17347"/>
                </a:cubicBezTo>
                <a:cubicBezTo>
                  <a:pt x="6567" y="17406"/>
                  <a:pt x="6565" y="17465"/>
                  <a:pt x="6567" y="17524"/>
                </a:cubicBezTo>
                <a:cubicBezTo>
                  <a:pt x="6571" y="17578"/>
                  <a:pt x="6571" y="17593"/>
                  <a:pt x="6579" y="17627"/>
                </a:cubicBezTo>
                <a:cubicBezTo>
                  <a:pt x="6588" y="17615"/>
                  <a:pt x="6599" y="17595"/>
                  <a:pt x="6611" y="17583"/>
                </a:cubicBezTo>
                <a:cubicBezTo>
                  <a:pt x="6635" y="17559"/>
                  <a:pt x="6662" y="17542"/>
                  <a:pt x="6693" y="17530"/>
                </a:cubicBezTo>
                <a:cubicBezTo>
                  <a:pt x="6760" y="17504"/>
                  <a:pt x="6839" y="17501"/>
                  <a:pt x="6910" y="17499"/>
                </a:cubicBezTo>
                <a:cubicBezTo>
                  <a:pt x="6954" y="17498"/>
                  <a:pt x="7006" y="17507"/>
                  <a:pt x="7049" y="17493"/>
                </a:cubicBezTo>
                <a:cubicBezTo>
                  <a:pt x="7057" y="17489"/>
                  <a:pt x="7065" y="17484"/>
                  <a:pt x="7073" y="17480"/>
                </a:cubicBezTo>
              </a:path>
              <a:path w="2013" h="856">
                <a:moveTo>
                  <a:pt x="7240" y="17009"/>
                </a:moveTo>
                <a:cubicBezTo>
                  <a:pt x="7270" y="17015"/>
                  <a:pt x="7263" y="17015"/>
                  <a:pt x="7271" y="17051"/>
                </a:cubicBezTo>
                <a:cubicBezTo>
                  <a:pt x="7283" y="17106"/>
                  <a:pt x="7289" y="17162"/>
                  <a:pt x="7296" y="17218"/>
                </a:cubicBezTo>
                <a:cubicBezTo>
                  <a:pt x="7304" y="17286"/>
                  <a:pt x="7307" y="17354"/>
                  <a:pt x="7310" y="17423"/>
                </a:cubicBezTo>
                <a:cubicBezTo>
                  <a:pt x="7311" y="17454"/>
                  <a:pt x="7312" y="17484"/>
                  <a:pt x="7312" y="17515"/>
                </a:cubicBezTo>
                <a:cubicBezTo>
                  <a:pt x="7310" y="17552"/>
                  <a:pt x="7309" y="17422"/>
                  <a:pt x="7309" y="17411"/>
                </a:cubicBezTo>
                <a:cubicBezTo>
                  <a:pt x="7307" y="17295"/>
                  <a:pt x="7303" y="17176"/>
                  <a:pt x="7310" y="17060"/>
                </a:cubicBezTo>
                <a:cubicBezTo>
                  <a:pt x="7316" y="17093"/>
                  <a:pt x="7319" y="17127"/>
                  <a:pt x="7326" y="17160"/>
                </a:cubicBezTo>
                <a:cubicBezTo>
                  <a:pt x="7332" y="17189"/>
                  <a:pt x="7336" y="17224"/>
                  <a:pt x="7361" y="17242"/>
                </a:cubicBezTo>
                <a:cubicBezTo>
                  <a:pt x="7366" y="17242"/>
                  <a:pt x="7372" y="17242"/>
                  <a:pt x="7377" y="17242"/>
                </a:cubicBezTo>
                <a:cubicBezTo>
                  <a:pt x="7405" y="17210"/>
                  <a:pt x="7426" y="17176"/>
                  <a:pt x="7446" y="17139"/>
                </a:cubicBezTo>
                <a:cubicBezTo>
                  <a:pt x="7463" y="17109"/>
                  <a:pt x="7481" y="17052"/>
                  <a:pt x="7512" y="17032"/>
                </a:cubicBezTo>
                <a:cubicBezTo>
                  <a:pt x="7517" y="17031"/>
                  <a:pt x="7523" y="17030"/>
                  <a:pt x="7528" y="17029"/>
                </a:cubicBezTo>
                <a:cubicBezTo>
                  <a:pt x="7562" y="17063"/>
                  <a:pt x="7570" y="17112"/>
                  <a:pt x="7580" y="17160"/>
                </a:cubicBezTo>
                <a:cubicBezTo>
                  <a:pt x="7602" y="17261"/>
                  <a:pt x="7615" y="17364"/>
                  <a:pt x="7628" y="17467"/>
                </a:cubicBezTo>
                <a:cubicBezTo>
                  <a:pt x="7629" y="17476"/>
                  <a:pt x="7638" y="17546"/>
                  <a:pt x="7660" y="17507"/>
                </a:cubicBezTo>
                <a:cubicBezTo>
                  <a:pt x="7661" y="17497"/>
                  <a:pt x="7662" y="17486"/>
                  <a:pt x="7663" y="17476"/>
                </a:cubicBezTo>
              </a:path>
              <a:path w="2013" h="856">
                <a:moveTo>
                  <a:pt x="7848" y="16948"/>
                </a:moveTo>
                <a:cubicBezTo>
                  <a:pt x="7863" y="16948"/>
                  <a:pt x="7867" y="16948"/>
                  <a:pt x="7876" y="16951"/>
                </a:cubicBezTo>
                <a:cubicBezTo>
                  <a:pt x="7880" y="16996"/>
                  <a:pt x="7892" y="17039"/>
                  <a:pt x="7899" y="17084"/>
                </a:cubicBezTo>
                <a:cubicBezTo>
                  <a:pt x="7908" y="17145"/>
                  <a:pt x="7916" y="17205"/>
                  <a:pt x="7924" y="17266"/>
                </a:cubicBezTo>
                <a:cubicBezTo>
                  <a:pt x="7930" y="17314"/>
                  <a:pt x="7937" y="17362"/>
                  <a:pt x="7946" y="17409"/>
                </a:cubicBezTo>
                <a:cubicBezTo>
                  <a:pt x="7947" y="17414"/>
                  <a:pt x="7963" y="17466"/>
                  <a:pt x="7956" y="17444"/>
                </a:cubicBezTo>
                <a:cubicBezTo>
                  <a:pt x="7954" y="17440"/>
                  <a:pt x="7953" y="17436"/>
                  <a:pt x="7951" y="17432"/>
                </a:cubicBezTo>
              </a:path>
              <a:path w="2013" h="856">
                <a:moveTo>
                  <a:pt x="7768" y="16873"/>
                </a:moveTo>
                <a:cubicBezTo>
                  <a:pt x="7745" y="16868"/>
                  <a:pt x="7741" y="16866"/>
                  <a:pt x="7727" y="16866"/>
                </a:cubicBezTo>
                <a:cubicBezTo>
                  <a:pt x="7750" y="16857"/>
                  <a:pt x="7774" y="16858"/>
                  <a:pt x="7799" y="16853"/>
                </a:cubicBezTo>
                <a:cubicBezTo>
                  <a:pt x="7855" y="16842"/>
                  <a:pt x="7909" y="16825"/>
                  <a:pt x="7965" y="16812"/>
                </a:cubicBezTo>
                <a:cubicBezTo>
                  <a:pt x="8004" y="16803"/>
                  <a:pt x="8042" y="16793"/>
                  <a:pt x="8081" y="16784"/>
                </a:cubicBezTo>
              </a:path>
              <a:path w="2013" h="856">
                <a:moveTo>
                  <a:pt x="8300" y="16772"/>
                </a:moveTo>
                <a:cubicBezTo>
                  <a:pt x="8310" y="16835"/>
                  <a:pt x="8315" y="16897"/>
                  <a:pt x="8321" y="16960"/>
                </a:cubicBezTo>
                <a:cubicBezTo>
                  <a:pt x="8328" y="17035"/>
                  <a:pt x="8330" y="17110"/>
                  <a:pt x="8331" y="17185"/>
                </a:cubicBezTo>
                <a:cubicBezTo>
                  <a:pt x="8332" y="17252"/>
                  <a:pt x="8324" y="17324"/>
                  <a:pt x="8338" y="17389"/>
                </a:cubicBezTo>
                <a:cubicBezTo>
                  <a:pt x="8339" y="17394"/>
                  <a:pt x="8341" y="17398"/>
                  <a:pt x="8342" y="17403"/>
                </a:cubicBezTo>
              </a:path>
              <a:path w="2013" h="856">
                <a:moveTo>
                  <a:pt x="8310" y="16918"/>
                </a:moveTo>
                <a:cubicBezTo>
                  <a:pt x="8318" y="16884"/>
                  <a:pt x="8319" y="16871"/>
                  <a:pt x="8348" y="16852"/>
                </a:cubicBezTo>
                <a:cubicBezTo>
                  <a:pt x="8374" y="16835"/>
                  <a:pt x="8413" y="16827"/>
                  <a:pt x="8444" y="16832"/>
                </a:cubicBezTo>
                <a:cubicBezTo>
                  <a:pt x="8495" y="16840"/>
                  <a:pt x="8531" y="16882"/>
                  <a:pt x="8551" y="16927"/>
                </a:cubicBezTo>
                <a:cubicBezTo>
                  <a:pt x="8591" y="17020"/>
                  <a:pt x="8587" y="17141"/>
                  <a:pt x="8565" y="17237"/>
                </a:cubicBezTo>
                <a:cubicBezTo>
                  <a:pt x="8544" y="17330"/>
                  <a:pt x="8506" y="17396"/>
                  <a:pt x="8436" y="17459"/>
                </a:cubicBezTo>
                <a:cubicBezTo>
                  <a:pt x="8393" y="17498"/>
                  <a:pt x="8359" y="17502"/>
                  <a:pt x="8304" y="1751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3" descr="http://imartinez.etsin.upm.es/bk3/c12/Heat%20exchangers_archivos/image005.jpg"/>
          <p:cNvPicPr/>
          <p:nvPr/>
        </p:nvPicPr>
        <p:blipFill>
          <a:blip r:embed="rId1"/>
          <a:stretch/>
        </p:blipFill>
        <p:spPr>
          <a:xfrm>
            <a:off x="1219320" y="762120"/>
            <a:ext cx="6629400" cy="5302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NewRoman,Bold"/>
              </a:rPr>
              <a:t>PLATE GEOMETRY </a:t>
            </a:r>
            <a:endParaRPr b="0" lang="en-US" sz="2800" spc="-1" strike="noStrike">
              <a:solidFill>
                <a:srgbClr val="000000"/>
              </a:solidFill>
              <a:latin typeface="Times New Roman"/>
            </a:endParaRPr>
          </a:p>
        </p:txBody>
      </p:sp>
      <p:sp>
        <p:nvSpPr>
          <p:cNvPr id="177" name="PlaceHolder 2"/>
          <p:cNvSpPr>
            <a:spLocks noGrp="1"/>
          </p:cNvSpPr>
          <p:nvPr>
            <p:ph/>
          </p:nvPr>
        </p:nvSpPr>
        <p:spPr>
          <a:xfrm>
            <a:off x="380880" y="533160"/>
            <a:ext cx="4572000" cy="5638680"/>
          </a:xfrm>
          <a:prstGeom prst="rect">
            <a:avLst/>
          </a:prstGeom>
          <a:noFill/>
          <a:ln w="0">
            <a:noFill/>
          </a:ln>
        </p:spPr>
        <p:txBody>
          <a:bodyPr anchor="t">
            <a:normAutofit/>
          </a:bodyPr>
          <a:p>
            <a:pPr marL="343080" indent="-34308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evron Angle: </a:t>
            </a:r>
            <a:r>
              <a:rPr b="0" lang="en-US" sz="2400" spc="-1" strike="noStrike">
                <a:solidFill>
                  <a:srgbClr val="000000"/>
                </a:solidFill>
                <a:latin typeface="Times New Roman"/>
              </a:rPr>
              <a:t>This important factor, usually termed </a:t>
            </a:r>
            <a:r>
              <a:rPr b="0" i="1" lang="en-US" sz="2400" spc="-1" strike="noStrike">
                <a:solidFill>
                  <a:srgbClr val="000000"/>
                </a:solidFill>
                <a:latin typeface="Symbol"/>
                <a:ea typeface="Symbol"/>
              </a:rPr>
              <a:t></a:t>
            </a:r>
            <a:r>
              <a:rPr b="0" lang="en-US" sz="2400" spc="-1" strike="noStrike">
                <a:solidFill>
                  <a:srgbClr val="000000"/>
                </a:solidFill>
                <a:latin typeface="Times New Roman"/>
              </a:rPr>
              <a:t>, is shown in Figure, the usual range of </a:t>
            </a:r>
            <a:r>
              <a:rPr b="0" lang="en-US" sz="2400" spc="-1" strike="noStrike">
                <a:solidFill>
                  <a:srgbClr val="000000"/>
                </a:solidFill>
                <a:latin typeface="Symbol"/>
                <a:ea typeface="Symbol"/>
              </a:rPr>
              <a:t></a:t>
            </a:r>
            <a:r>
              <a:rPr b="0" lang="en-US" sz="2400" spc="-1" strike="noStrike">
                <a:solidFill>
                  <a:srgbClr val="000000"/>
                </a:solidFill>
                <a:latin typeface="Times New Roman"/>
              </a:rPr>
              <a:t> being 25°-65°. </a:t>
            </a:r>
            <a:endParaRPr b="0" lang="en-US" sz="24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Effective Plate Length : </a:t>
            </a:r>
            <a:r>
              <a:rPr b="0" lang="en-US" sz="2400" spc="-1" strike="noStrike">
                <a:solidFill>
                  <a:srgbClr val="000000"/>
                </a:solidFill>
                <a:latin typeface="Times New Roman"/>
              </a:rPr>
              <a:t>The corrugations increase the flat or projected plate area, the extent depending on the corrugation pitch and depth. </a:t>
            </a:r>
            <a:endParaRPr b="0" lang="en-US" sz="24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xpress the increase of the developed length, in relation to the projected length, an enlargement factor </a:t>
            </a:r>
            <a:r>
              <a:rPr b="0" i="1" lang="en-US" sz="2400" spc="-1" strike="noStrike">
                <a:solidFill>
                  <a:srgbClr val="000000"/>
                </a:solidFill>
                <a:latin typeface="Symbol"/>
                <a:ea typeface="Symbol"/>
              </a:rPr>
              <a:t></a:t>
            </a:r>
            <a:r>
              <a:rPr b="0" lang="en-US" sz="2400" spc="-1" strike="noStrike">
                <a:solidFill>
                  <a:srgbClr val="000000"/>
                </a:solidFill>
                <a:latin typeface="Times New Roman"/>
              </a:rPr>
              <a:t> is used.</a:t>
            </a:r>
            <a:endParaRPr b="0" lang="en-US" sz="24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largement factor varies between 1.1 and 1.25, with 1.17 being a typical average.</a:t>
            </a:r>
            <a:endParaRPr b="0" lang="en-US" sz="2400" spc="-1" strike="noStrike">
              <a:solidFill>
                <a:srgbClr val="000000"/>
              </a:solidFill>
              <a:latin typeface="Times New Roman"/>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8" name="Picture 4" descr=""/>
          <p:cNvPicPr/>
          <p:nvPr/>
        </p:nvPicPr>
        <p:blipFill>
          <a:blip r:embed="rId1"/>
          <a:stretch/>
        </p:blipFill>
        <p:spPr>
          <a:xfrm>
            <a:off x="5181480" y="762120"/>
            <a:ext cx="3770280" cy="6095880"/>
          </a:xfrm>
          <a:prstGeom prst="rect">
            <a:avLst/>
          </a:prstGeom>
          <a:ln w="0">
            <a:noFill/>
          </a:ln>
        </p:spPr>
      </p:pic>
      <p:sp>
        <p:nvSpPr>
          <p:cNvPr id="179" name="Ink 5"/>
          <p:cNvSpPr/>
          <p:nvPr/>
        </p:nvSpPr>
        <p:spPr>
          <a:xfrm>
            <a:off x="5735520" y="2173320"/>
            <a:ext cx="2011320" cy="3157560"/>
          </a:xfrm>
          <a:custGeom>
            <a:avLst/>
            <a:gdLst/>
            <a:ahLst/>
            <a:rect l="l" t="t" r="r" b="b"/>
            <a:pathLst>
              <a:path w="5588" h="8768">
                <a:moveTo>
                  <a:pt x="15934" y="6548"/>
                </a:moveTo>
                <a:cubicBezTo>
                  <a:pt x="15948" y="6537"/>
                  <a:pt x="15969" y="6426"/>
                  <a:pt x="15976" y="6423"/>
                </a:cubicBezTo>
                <a:cubicBezTo>
                  <a:pt x="16176" y="6335"/>
                  <a:pt x="16434" y="6361"/>
                  <a:pt x="16646" y="6353"/>
                </a:cubicBezTo>
                <a:cubicBezTo>
                  <a:pt x="18104" y="6297"/>
                  <a:pt x="19638" y="6441"/>
                  <a:pt x="21049" y="6039"/>
                </a:cubicBezTo>
                <a:cubicBezTo>
                  <a:pt x="21171" y="6444"/>
                  <a:pt x="21229" y="6829"/>
                  <a:pt x="21257" y="7254"/>
                </a:cubicBezTo>
                <a:cubicBezTo>
                  <a:pt x="21343" y="8580"/>
                  <a:pt x="21435" y="9907"/>
                  <a:pt x="21474" y="11235"/>
                </a:cubicBezTo>
                <a:cubicBezTo>
                  <a:pt x="21498" y="12052"/>
                  <a:pt x="21501" y="12873"/>
                  <a:pt x="21517" y="13691"/>
                </a:cubicBezTo>
                <a:cubicBezTo>
                  <a:pt x="21524" y="14041"/>
                  <a:pt x="21525" y="14480"/>
                  <a:pt x="21443" y="14806"/>
                </a:cubicBezTo>
                <a:cubicBezTo>
                  <a:pt x="21435" y="14802"/>
                  <a:pt x="21428" y="14797"/>
                  <a:pt x="21420" y="1479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Ink 6"/>
          <p:cNvSpPr/>
          <p:nvPr/>
        </p:nvSpPr>
        <p:spPr>
          <a:xfrm>
            <a:off x="5654520" y="5200560"/>
            <a:ext cx="2471760" cy="120600"/>
          </a:xfrm>
          <a:custGeom>
            <a:avLst/>
            <a:gdLst/>
            <a:ahLst/>
            <a:rect l="l" t="t" r="r" b="b"/>
            <a:pathLst>
              <a:path w="6867" h="335">
                <a:moveTo>
                  <a:pt x="15708" y="14717"/>
                </a:moveTo>
                <a:cubicBezTo>
                  <a:pt x="15993" y="14741"/>
                  <a:pt x="16275" y="14774"/>
                  <a:pt x="16561" y="14780"/>
                </a:cubicBezTo>
                <a:cubicBezTo>
                  <a:pt x="17198" y="14793"/>
                  <a:pt x="17837" y="14740"/>
                  <a:pt x="18474" y="14725"/>
                </a:cubicBezTo>
                <a:cubicBezTo>
                  <a:pt x="19700" y="14696"/>
                  <a:pt x="21249" y="14887"/>
                  <a:pt x="22436" y="14521"/>
                </a:cubicBezTo>
                <a:cubicBezTo>
                  <a:pt x="22495" y="14503"/>
                  <a:pt x="22525" y="14468"/>
                  <a:pt x="22574" y="1444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Ink 7"/>
          <p:cNvSpPr/>
          <p:nvPr/>
        </p:nvSpPr>
        <p:spPr>
          <a:xfrm>
            <a:off x="5691240" y="2208240"/>
            <a:ext cx="114120" cy="2908440"/>
          </a:xfrm>
          <a:custGeom>
            <a:avLst/>
            <a:gdLst/>
            <a:ahLst/>
            <a:rect l="l" t="t" r="r" b="b"/>
            <a:pathLst>
              <a:path w="320" h="8081">
                <a:moveTo>
                  <a:pt x="15808" y="6380"/>
                </a:moveTo>
                <a:cubicBezTo>
                  <a:pt x="15828" y="6328"/>
                  <a:pt x="15832" y="6281"/>
                  <a:pt x="15857" y="6231"/>
                </a:cubicBezTo>
                <a:cubicBezTo>
                  <a:pt x="15876" y="6194"/>
                  <a:pt x="15905" y="6167"/>
                  <a:pt x="15924" y="6132"/>
                </a:cubicBezTo>
                <a:cubicBezTo>
                  <a:pt x="15951" y="6293"/>
                  <a:pt x="15991" y="6455"/>
                  <a:pt x="16017" y="6617"/>
                </a:cubicBezTo>
                <a:cubicBezTo>
                  <a:pt x="16131" y="7320"/>
                  <a:pt x="16117" y="8054"/>
                  <a:pt x="16069" y="8762"/>
                </a:cubicBezTo>
                <a:cubicBezTo>
                  <a:pt x="15991" y="9923"/>
                  <a:pt x="15773" y="11060"/>
                  <a:pt x="15814" y="12228"/>
                </a:cubicBezTo>
                <a:cubicBezTo>
                  <a:pt x="15836" y="12853"/>
                  <a:pt x="15889" y="13521"/>
                  <a:pt x="16090" y="14119"/>
                </a:cubicBezTo>
                <a:cubicBezTo>
                  <a:pt x="16102" y="14155"/>
                  <a:pt x="16111" y="14162"/>
                  <a:pt x="16124" y="14198"/>
                </a:cubicBezTo>
                <a:cubicBezTo>
                  <a:pt x="16121" y="14192"/>
                  <a:pt x="16119" y="14186"/>
                  <a:pt x="16116" y="1418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4" presetSubtype="32">
                                  <p:stCondLst>
                                    <p:cond delay="0"/>
                                  </p:stCondLst>
                                  <p:childTnLst>
                                    <p:audio isNarration="0">
                                      <p:cMediaNode showWhenStopped="1">
                                        <p:cTn/>
                                        <p:tgtEl>
                                          <p:sndTgt r:embed="rId2" name="camera.wav"/>
                                        </p:tgtEl>
                                      </p:cMediaNode>
                                    </p:audio>
                                    <p:set>
                                      <p:cBhvr>
                                        <p:cTn id="258" dur="1" fill="hold">
                                          <p:stCondLst>
                                            <p:cond delay="0"/>
                                          </p:stCondLst>
                                        </p:cTn>
                                        <p:tgtEl>
                                          <p:spTgt spid="177">
                                            <p:txEl>
                                              <p:pRg st="0" end="0"/>
                                            </p:txEl>
                                          </p:spTgt>
                                        </p:tgtEl>
                                        <p:attrNameLst>
                                          <p:attrName>style.visibility</p:attrName>
                                        </p:attrNameLst>
                                      </p:cBhvr>
                                      <p:to>
                                        <p:strVal val="visible"/>
                                      </p:to>
                                    </p:set>
                                    <p:animEffect filter="box(out)" transition="in">
                                      <p:cBhvr additive="repl">
                                        <p:cTn id="259" dur="500"/>
                                        <p:tgtEl>
                                          <p:spTgt spid="177">
                                            <p:txEl>
                                              <p:pRg st="0" end="0"/>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 presetSubtype="32">
                                  <p:stCondLst>
                                    <p:cond delay="0"/>
                                  </p:stCondLst>
                                  <p:childTnLst>
                                    <p:audio isNarration="0">
                                      <p:cMediaNode showWhenStopped="1">
                                        <p:cTn/>
                                        <p:tgtEl>
                                          <p:sndTgt r:embed="rId3" name="camera.wav"/>
                                        </p:tgtEl>
                                      </p:cMediaNode>
                                    </p:audio>
                                    <p:set>
                                      <p:cBhvr>
                                        <p:cTn id="263" dur="1" fill="hold">
                                          <p:stCondLst>
                                            <p:cond delay="0"/>
                                          </p:stCondLst>
                                        </p:cTn>
                                        <p:tgtEl>
                                          <p:spTgt spid="177">
                                            <p:txEl>
                                              <p:pRg st="1" end="1"/>
                                            </p:txEl>
                                          </p:spTgt>
                                        </p:tgtEl>
                                        <p:attrNameLst>
                                          <p:attrName>style.visibility</p:attrName>
                                        </p:attrNameLst>
                                      </p:cBhvr>
                                      <p:to>
                                        <p:strVal val="visible"/>
                                      </p:to>
                                    </p:set>
                                    <p:animEffect filter="box(out)" transition="in">
                                      <p:cBhvr additive="repl">
                                        <p:cTn id="264" dur="500"/>
                                        <p:tgtEl>
                                          <p:spTgt spid="177">
                                            <p:txEl>
                                              <p:pRg st="1" end="1"/>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4" presetSubtype="32">
                                  <p:stCondLst>
                                    <p:cond delay="0"/>
                                  </p:stCondLst>
                                  <p:childTnLst>
                                    <p:audio isNarration="0">
                                      <p:cMediaNode showWhenStopped="1">
                                        <p:cTn/>
                                        <p:tgtEl>
                                          <p:sndTgt r:embed="rId4" name="camera.wav"/>
                                        </p:tgtEl>
                                      </p:cMediaNode>
                                    </p:audio>
                                    <p:set>
                                      <p:cBhvr>
                                        <p:cTn id="268" dur="1" fill="hold">
                                          <p:stCondLst>
                                            <p:cond delay="0"/>
                                          </p:stCondLst>
                                        </p:cTn>
                                        <p:tgtEl>
                                          <p:spTgt spid="177">
                                            <p:txEl>
                                              <p:pRg st="2" end="2"/>
                                            </p:txEl>
                                          </p:spTgt>
                                        </p:tgtEl>
                                        <p:attrNameLst>
                                          <p:attrName>style.visibility</p:attrName>
                                        </p:attrNameLst>
                                      </p:cBhvr>
                                      <p:to>
                                        <p:strVal val="visible"/>
                                      </p:to>
                                    </p:set>
                                    <p:animEffect filter="box(out)" transition="in">
                                      <p:cBhvr additive="repl">
                                        <p:cTn id="269" dur="500"/>
                                        <p:tgtEl>
                                          <p:spTgt spid="177">
                                            <p:txEl>
                                              <p:pRg st="2" end="2"/>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 presetSubtype="32">
                                  <p:stCondLst>
                                    <p:cond delay="0"/>
                                  </p:stCondLst>
                                  <p:childTnLst>
                                    <p:audio isNarration="0">
                                      <p:cMediaNode showWhenStopped="1">
                                        <p:cTn/>
                                        <p:tgtEl>
                                          <p:sndTgt r:embed="rId5" name="camera.wav"/>
                                        </p:tgtEl>
                                      </p:cMediaNode>
                                    </p:audio>
                                    <p:set>
                                      <p:cBhvr>
                                        <p:cTn id="273" dur="1" fill="hold">
                                          <p:stCondLst>
                                            <p:cond delay="0"/>
                                          </p:stCondLst>
                                        </p:cTn>
                                        <p:tgtEl>
                                          <p:spTgt spid="177">
                                            <p:txEl>
                                              <p:pRg st="3" end="3"/>
                                            </p:txEl>
                                          </p:spTgt>
                                        </p:tgtEl>
                                        <p:attrNameLst>
                                          <p:attrName>style.visibility</p:attrName>
                                        </p:attrNameLst>
                                      </p:cBhvr>
                                      <p:to>
                                        <p:strVal val="visible"/>
                                      </p:to>
                                    </p:set>
                                    <p:animEffect filter="box(out)" transition="in">
                                      <p:cBhvr additive="repl">
                                        <p:cTn id="274" dur="500"/>
                                        <p:tgtEl>
                                          <p:spTgt spid="1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228600" y="3962520"/>
            <a:ext cx="8610480" cy="1218960"/>
          </a:xfrm>
          <a:prstGeom prst="rect">
            <a:avLst/>
          </a:prstGeom>
          <a:noFill/>
          <a:ln w="0">
            <a:noFill/>
          </a:ln>
        </p:spPr>
        <p:txBody>
          <a:bodyPr anchor="t">
            <a:normAutofit fontScale="94000"/>
          </a:bodyPr>
          <a:p>
            <a:pPr marL="322200" indent="-322200">
              <a:lnSpc>
                <a:spcPct val="100000"/>
              </a:lnSpc>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NewRoman"/>
              </a:rPr>
              <a:t>The value of </a:t>
            </a:r>
            <a:r>
              <a:rPr b="0" i="1" lang="en-US" sz="2400" spc="-1" strike="noStrike">
                <a:solidFill>
                  <a:srgbClr val="000000"/>
                </a:solidFill>
                <a:latin typeface="Symbol"/>
                <a:ea typeface="Symbol"/>
              </a:rPr>
              <a:t></a:t>
            </a:r>
            <a:r>
              <a:rPr b="0" lang="en-US" sz="2400" spc="-1" strike="noStrike">
                <a:solidFill>
                  <a:srgbClr val="000000"/>
                </a:solidFill>
                <a:latin typeface="TimesNewRoman"/>
              </a:rPr>
              <a:t> is also expressed as the ratio of the actual effective area as specified by the  manufacturer, </a:t>
            </a:r>
            <a:r>
              <a:rPr b="0" i="1" lang="en-US" sz="2400" spc="-1" strike="noStrike">
                <a:solidFill>
                  <a:srgbClr val="000000"/>
                </a:solidFill>
                <a:latin typeface="TimesNewRoman"/>
              </a:rPr>
              <a:t>A</a:t>
            </a:r>
            <a:r>
              <a:rPr b="0" i="1" lang="en-US" sz="2400" spc="-1" strike="noStrike" baseline="-25000">
                <a:solidFill>
                  <a:srgbClr val="000000"/>
                </a:solidFill>
                <a:latin typeface="TimesNewRoman"/>
              </a:rPr>
              <a:t>1</a:t>
            </a:r>
            <a:r>
              <a:rPr b="0" lang="en-US" sz="2400" spc="-1" strike="noStrike">
                <a:solidFill>
                  <a:srgbClr val="000000"/>
                </a:solidFill>
                <a:latin typeface="TimesNewRoman"/>
              </a:rPr>
              <a:t>, to the projected plate area : </a:t>
            </a:r>
            <a:r>
              <a:rPr b="0" i="1" lang="en-US" sz="2400" spc="-1" strike="noStrike">
                <a:solidFill>
                  <a:srgbClr val="000000"/>
                </a:solidFill>
                <a:latin typeface="TimesNewRoman,Italic"/>
              </a:rPr>
              <a:t>A</a:t>
            </a:r>
            <a:r>
              <a:rPr b="0" i="1" lang="en-US" sz="2400" spc="-1" strike="noStrike" baseline="-25000">
                <a:solidFill>
                  <a:srgbClr val="000000"/>
                </a:solidFill>
                <a:latin typeface="TimesNewRoman,Italic"/>
              </a:rPr>
              <a:t>1p</a:t>
            </a:r>
            <a:r>
              <a:rPr b="0" lang="en-US" sz="2400" spc="-1" strike="noStrike">
                <a:solidFill>
                  <a:srgbClr val="000000"/>
                </a:solidFill>
                <a:latin typeface="TimesNewRoman"/>
              </a:rPr>
              <a:t> </a:t>
            </a:r>
            <a:endParaRPr b="0" lang="en-US" sz="2400" spc="-1" strike="noStrike">
              <a:solidFill>
                <a:srgbClr val="000000"/>
              </a:solidFill>
              <a:latin typeface="Times New Roman"/>
            </a:endParaRPr>
          </a:p>
        </p:txBody>
      </p:sp>
      <p:pic>
        <p:nvPicPr>
          <p:cNvPr id="183" name="Picture 4" descr=""/>
          <p:cNvPicPr/>
          <p:nvPr/>
        </p:nvPicPr>
        <p:blipFill>
          <a:blip r:embed="rId1"/>
          <a:stretch/>
        </p:blipFill>
        <p:spPr>
          <a:xfrm>
            <a:off x="5181480" y="1219320"/>
            <a:ext cx="3962520" cy="1228680"/>
          </a:xfrm>
          <a:prstGeom prst="rect">
            <a:avLst/>
          </a:prstGeom>
          <a:ln w="0">
            <a:noFill/>
          </a:ln>
        </p:spPr>
      </p:pic>
      <p:pic>
        <p:nvPicPr>
          <p:cNvPr id="184" name="Picture 7" descr=""/>
          <p:cNvPicPr/>
          <p:nvPr/>
        </p:nvPicPr>
        <p:blipFill>
          <a:blip r:embed="rId2"/>
          <a:stretch/>
        </p:blipFill>
        <p:spPr>
          <a:xfrm>
            <a:off x="914400" y="5410080"/>
            <a:ext cx="1905120" cy="1298520"/>
          </a:xfrm>
          <a:prstGeom prst="rect">
            <a:avLst/>
          </a:prstGeom>
          <a:ln w="0">
            <a:noFill/>
          </a:ln>
        </p:spPr>
      </p:pic>
      <p:pic>
        <p:nvPicPr>
          <p:cNvPr id="185" name="Picture 9" descr=""/>
          <p:cNvPicPr/>
          <p:nvPr/>
        </p:nvPicPr>
        <p:blipFill>
          <a:blip r:embed="rId3"/>
          <a:stretch/>
        </p:blipFill>
        <p:spPr>
          <a:xfrm>
            <a:off x="3276720" y="5410080"/>
            <a:ext cx="2743200" cy="1035000"/>
          </a:xfrm>
          <a:prstGeom prst="rect">
            <a:avLst/>
          </a:prstGeom>
          <a:ln w="0">
            <a:noFill/>
          </a:ln>
        </p:spPr>
      </p:pic>
      <p:pic>
        <p:nvPicPr>
          <p:cNvPr id="186" name="Picture 7" descr=""/>
          <p:cNvPicPr/>
          <p:nvPr/>
        </p:nvPicPr>
        <p:blipFill>
          <a:blip r:embed="rId4"/>
          <a:stretch/>
        </p:blipFill>
        <p:spPr>
          <a:xfrm>
            <a:off x="304920" y="762120"/>
            <a:ext cx="4511520" cy="2209680"/>
          </a:xfrm>
          <a:prstGeom prst="rect">
            <a:avLst/>
          </a:prstGeom>
          <a:ln w="0">
            <a:noFill/>
          </a:ln>
        </p:spPr>
      </p:pic>
      <p:sp>
        <p:nvSpPr>
          <p:cNvPr id="187" name="Ink 7"/>
          <p:cNvSpPr/>
          <p:nvPr/>
        </p:nvSpPr>
        <p:spPr>
          <a:xfrm>
            <a:off x="588960" y="1574640"/>
            <a:ext cx="2233440" cy="1047960"/>
          </a:xfrm>
          <a:custGeom>
            <a:avLst/>
            <a:gdLst/>
            <a:ahLst/>
            <a:rect l="l" t="t" r="r" b="b"/>
            <a:pathLst>
              <a:path w="6205" h="2911">
                <a:moveTo>
                  <a:pt x="1656" y="4884"/>
                </a:moveTo>
                <a:cubicBezTo>
                  <a:pt x="1669" y="4895"/>
                  <a:pt x="1646" y="4881"/>
                  <a:pt x="1659" y="4892"/>
                </a:cubicBezTo>
                <a:cubicBezTo>
                  <a:pt x="1848" y="5049"/>
                  <a:pt x="2037" y="5204"/>
                  <a:pt x="2240" y="5344"/>
                </a:cubicBezTo>
                <a:cubicBezTo>
                  <a:pt x="2630" y="5612"/>
                  <a:pt x="2972" y="5874"/>
                  <a:pt x="3302" y="6216"/>
                </a:cubicBezTo>
                <a:cubicBezTo>
                  <a:pt x="3620" y="6545"/>
                  <a:pt x="3974" y="6861"/>
                  <a:pt x="4253" y="7225"/>
                </a:cubicBezTo>
                <a:cubicBezTo>
                  <a:pt x="4267" y="7244"/>
                  <a:pt x="4275" y="7266"/>
                  <a:pt x="4289" y="7285"/>
                </a:cubicBezTo>
                <a:cubicBezTo>
                  <a:pt x="4311" y="7262"/>
                  <a:pt x="4330" y="7228"/>
                  <a:pt x="4355" y="7203"/>
                </a:cubicBezTo>
                <a:cubicBezTo>
                  <a:pt x="4514" y="7045"/>
                  <a:pt x="4685" y="6895"/>
                  <a:pt x="4853" y="6746"/>
                </a:cubicBezTo>
                <a:cubicBezTo>
                  <a:pt x="5362" y="6294"/>
                  <a:pt x="5924" y="5916"/>
                  <a:pt x="6470" y="5512"/>
                </a:cubicBezTo>
                <a:cubicBezTo>
                  <a:pt x="6849" y="5231"/>
                  <a:pt x="7231" y="4947"/>
                  <a:pt x="7578" y="4627"/>
                </a:cubicBezTo>
                <a:cubicBezTo>
                  <a:pt x="7647" y="4563"/>
                  <a:pt x="7807" y="4467"/>
                  <a:pt x="7841" y="4376"/>
                </a:cubicBezTo>
                <a:cubicBezTo>
                  <a:pt x="7847" y="4359"/>
                  <a:pt x="7779" y="4398"/>
                  <a:pt x="7787" y="438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183"/>
                                        </p:tgtEl>
                                        <p:attrNameLst>
                                          <p:attrName>style.visibility</p:attrName>
                                        </p:attrNameLst>
                                      </p:cBhvr>
                                      <p:to>
                                        <p:strVal val="visible"/>
                                      </p:to>
                                    </p:set>
                                    <p:animEffect filter="dissolve" transition="in">
                                      <p:cBhvr additive="repl">
                                        <p:cTn id="281" dur="500"/>
                                        <p:tgtEl>
                                          <p:spTgt spid="183"/>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182">
                                            <p:txEl>
                                              <p:pRg st="0" end="0"/>
                                            </p:txEl>
                                          </p:spTgt>
                                        </p:tgtEl>
                                        <p:attrNameLst>
                                          <p:attrName>style.visibility</p:attrName>
                                        </p:attrNameLst>
                                      </p:cBhvr>
                                      <p:to>
                                        <p:strVal val="visible"/>
                                      </p:to>
                                    </p:set>
                                    <p:animEffect filter="dissolve" transition="in">
                                      <p:cBhvr additive="repl">
                                        <p:cTn id="286" dur="500"/>
                                        <p:tgtEl>
                                          <p:spTgt spid="182">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184"/>
                                        </p:tgtEl>
                                        <p:attrNameLst>
                                          <p:attrName>style.visibility</p:attrName>
                                        </p:attrNameLst>
                                      </p:cBhvr>
                                      <p:to>
                                        <p:strVal val="visible"/>
                                      </p:to>
                                    </p:set>
                                    <p:animEffect filter="dissolve" transition="in">
                                      <p:cBhvr additive="repl">
                                        <p:cTn id="291" dur="500"/>
                                        <p:tgtEl>
                                          <p:spTgt spid="184"/>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185"/>
                                        </p:tgtEl>
                                        <p:attrNameLst>
                                          <p:attrName>style.visibility</p:attrName>
                                        </p:attrNameLst>
                                      </p:cBhvr>
                                      <p:to>
                                        <p:strVal val="visible"/>
                                      </p:to>
                                    </p:set>
                                    <p:animEffect filter="dissolve" transition="in">
                                      <p:cBhvr additive="repl">
                                        <p:cTn id="296"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late heat exchangers</a:t>
            </a:r>
            <a:endParaRPr b="0" lang="en-US" sz="2800" spc="-1" strike="noStrike">
              <a:solidFill>
                <a:srgbClr val="000000"/>
              </a:solidFill>
              <a:latin typeface="Times New Roman"/>
            </a:endParaRPr>
          </a:p>
        </p:txBody>
      </p:sp>
      <p:sp>
        <p:nvSpPr>
          <p:cNvPr id="67"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eat transfer surface consists of a number of thin corrugated plates pressed out of a high grade metal.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sed pattern on each plate surface induces turbulence and minimises stagnant areas and fouling.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ike shell and tube heat exchangers, which can be custom-built to meet almost any capacity and operating conditions, the plates for plate and frame heat exchangers are mass-produced using expensive dies and presse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plate and frame heat exchangers are made with what may appear to be a limited range of plate desig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19" dur="500"/>
                                        <p:tgtEl>
                                          <p:spTgt spid="67">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67">
                                            <p:txEl>
                                              <p:pRg st="1" end="1"/>
                                            </p:txEl>
                                          </p:spTgt>
                                        </p:tgtEl>
                                        <p:attrNameLst>
                                          <p:attrName>style.visibility</p:attrName>
                                        </p:attrNameLst>
                                      </p:cBhvr>
                                      <p:to>
                                        <p:strVal val="visible"/>
                                      </p:to>
                                    </p:set>
                                    <p:animEffect filter="dissolve" transition="in">
                                      <p:cBhvr additive="repl">
                                        <p:cTn id="24" dur="500"/>
                                        <p:tgtEl>
                                          <p:spTgt spid="67">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67">
                                            <p:txEl>
                                              <p:pRg st="2" end="2"/>
                                            </p:txEl>
                                          </p:spTgt>
                                        </p:tgtEl>
                                        <p:attrNameLst>
                                          <p:attrName>style.visibility</p:attrName>
                                        </p:attrNameLst>
                                      </p:cBhvr>
                                      <p:to>
                                        <p:strVal val="visible"/>
                                      </p:to>
                                    </p:set>
                                    <p:animEffect filter="dissolve" transition="in">
                                      <p:cBhvr additive="repl">
                                        <p:cTn id="29" dur="500"/>
                                        <p:tgtEl>
                                          <p:spTgt spid="67">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67">
                                            <p:txEl>
                                              <p:pRg st="3" end="3"/>
                                            </p:txEl>
                                          </p:spTgt>
                                        </p:tgtEl>
                                        <p:attrNameLst>
                                          <p:attrName>style.visibility</p:attrName>
                                        </p:attrNameLst>
                                      </p:cBhvr>
                                      <p:to>
                                        <p:strVal val="visible"/>
                                      </p:to>
                                    </p:set>
                                    <p:animEffect filter="dissolve" transition="in">
                                      <p:cBhvr additive="repl">
                                        <p:cTn id="34" dur="500"/>
                                        <p:tgtEl>
                                          <p:spTgt spid="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2"/>
          <p:cNvSpPr/>
          <p:nvPr/>
        </p:nvSpPr>
        <p:spPr>
          <a:xfrm>
            <a:off x="304920" y="380880"/>
            <a:ext cx="8534160" cy="926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a:t>
            </a:r>
            <a:r>
              <a:rPr b="0" i="1" lang="en-US" sz="2400" spc="-1" strike="noStrike">
                <a:solidFill>
                  <a:srgbClr val="000000"/>
                </a:solidFill>
                <a:latin typeface="Times New Roman"/>
              </a:rPr>
              <a:t>p</a:t>
            </a:r>
            <a:r>
              <a:rPr b="0" i="1" lang="en-US" sz="2400" spc="-1" strike="noStrike">
                <a:solidFill>
                  <a:srgbClr val="000000"/>
                </a:solidFill>
                <a:latin typeface="Times New Roman"/>
              </a:rPr>
              <a:t> </a:t>
            </a:r>
            <a:r>
              <a:rPr b="0" lang="en-US" sz="2400" spc="-1" strike="noStrike">
                <a:solidFill>
                  <a:srgbClr val="000000"/>
                </a:solidFill>
                <a:latin typeface="Times New Roman"/>
              </a:rPr>
              <a:t>and </a:t>
            </a:r>
            <a:r>
              <a:rPr b="0" i="1" lang="en-US" sz="2400" spc="-1" strike="noStrike">
                <a:solidFill>
                  <a:srgbClr val="000000"/>
                </a:solidFill>
                <a:latin typeface="Times New Roman"/>
              </a:rPr>
              <a:t>L</a:t>
            </a:r>
            <a:r>
              <a:rPr b="0" i="1" lang="en-US" sz="2400" spc="-1" strike="noStrike">
                <a:solidFill>
                  <a:srgbClr val="000000"/>
                </a:solidFill>
                <a:latin typeface="Times New Roman"/>
              </a:rPr>
              <a:t>w</a:t>
            </a:r>
            <a:r>
              <a:rPr b="0" lang="en-US" sz="2400" spc="-1" strike="noStrike">
                <a:solidFill>
                  <a:srgbClr val="000000"/>
                </a:solidFill>
                <a:latin typeface="Times New Roman"/>
              </a:rPr>
              <a:t> can be estimated from the port distance </a:t>
            </a:r>
            <a:r>
              <a:rPr b="0" i="1" lang="en-US" sz="2400" spc="-1" strike="noStrike">
                <a:solidFill>
                  <a:srgbClr val="000000"/>
                </a:solidFill>
                <a:latin typeface="Times New Roman"/>
              </a:rPr>
              <a:t>L</a:t>
            </a:r>
            <a:r>
              <a:rPr b="0" i="1" lang="en-US" sz="2400" spc="-1" strike="noStrike">
                <a:solidFill>
                  <a:srgbClr val="000000"/>
                </a:solidFill>
                <a:latin typeface="Times New Roman"/>
              </a:rPr>
              <a:t>v </a:t>
            </a:r>
            <a:r>
              <a:rPr b="0" lang="en-US" sz="2400" spc="-1" strike="noStrike">
                <a:solidFill>
                  <a:srgbClr val="000000"/>
                </a:solidFill>
                <a:latin typeface="Times New Roman"/>
              </a:rPr>
              <a:t>and </a:t>
            </a:r>
            <a:r>
              <a:rPr b="0" i="1" lang="en-US" sz="2400" spc="-1" strike="noStrike">
                <a:solidFill>
                  <a:srgbClr val="000000"/>
                </a:solidFill>
                <a:latin typeface="Times New Roman"/>
              </a:rPr>
              <a:t>L</a:t>
            </a:r>
            <a:r>
              <a:rPr b="0" i="1" lang="en-US" sz="2400" spc="-1" strike="noStrike">
                <a:solidFill>
                  <a:srgbClr val="000000"/>
                </a:solidFill>
                <a:latin typeface="Times New Roman"/>
              </a:rPr>
              <a:t>h</a:t>
            </a:r>
            <a:r>
              <a:rPr b="0" lang="en-US" sz="2400" spc="-1" strike="noStrike">
                <a:solidFill>
                  <a:srgbClr val="000000"/>
                </a:solidFill>
                <a:latin typeface="Times New Roman"/>
              </a:rPr>
              <a:t>and port diameter D</a:t>
            </a:r>
            <a:r>
              <a:rPr b="0" lang="en-US" sz="2400" spc="-1" strike="noStrike">
                <a:solidFill>
                  <a:srgbClr val="000000"/>
                </a:solidFill>
                <a:latin typeface="Times New Roman"/>
              </a:rPr>
              <a:t>p</a:t>
            </a:r>
            <a:r>
              <a:rPr b="0" lang="en-US" sz="2400" spc="-1" strike="noStrike">
                <a:solidFill>
                  <a:srgbClr val="000000"/>
                </a:solidFill>
                <a:latin typeface="Times New Roman"/>
              </a:rPr>
              <a:t> as:</a:t>
            </a:r>
            <a:endParaRPr b="0" lang="en-US" sz="2400" spc="-1" strike="noStrike">
              <a:solidFill>
                <a:srgbClr val="000000"/>
              </a:solidFill>
              <a:latin typeface="Times New Roman"/>
            </a:endParaRPr>
          </a:p>
        </p:txBody>
      </p:sp>
      <p:pic>
        <p:nvPicPr>
          <p:cNvPr id="189" name="Picture 3" descr=""/>
          <p:cNvPicPr/>
          <p:nvPr/>
        </p:nvPicPr>
        <p:blipFill>
          <a:blip r:embed="rId1"/>
          <a:stretch/>
        </p:blipFill>
        <p:spPr>
          <a:xfrm>
            <a:off x="1981080" y="1600200"/>
            <a:ext cx="2514600" cy="2303640"/>
          </a:xfrm>
          <a:prstGeom prst="rect">
            <a:avLst/>
          </a:prstGeom>
          <a:ln w="0">
            <a:noFill/>
          </a:ln>
        </p:spPr>
      </p:pic>
      <p:pic>
        <p:nvPicPr>
          <p:cNvPr id="190" name="Picture 4" descr=""/>
          <p:cNvPicPr/>
          <p:nvPr/>
        </p:nvPicPr>
        <p:blipFill>
          <a:blip r:embed="rId2"/>
          <a:stretch/>
        </p:blipFill>
        <p:spPr>
          <a:xfrm>
            <a:off x="5181480" y="990720"/>
            <a:ext cx="3770280" cy="5867280"/>
          </a:xfrm>
          <a:prstGeom prst="rect">
            <a:avLst/>
          </a:prstGeom>
          <a:ln w="0">
            <a:noFill/>
          </a:ln>
        </p:spPr>
      </p:pic>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189"/>
                                        </p:tgtEl>
                                        <p:attrNameLst>
                                          <p:attrName>style.visibility</p:attrName>
                                        </p:attrNameLst>
                                      </p:cBhvr>
                                      <p:to>
                                        <p:strVal val="visible"/>
                                      </p:to>
                                    </p:set>
                                    <p:animEffect filter="dissolve" transition="in">
                                      <p:cBhvr additive="repl">
                                        <p:cTn id="303"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t and Clod Flows through Plate Heat Exchangers</a:t>
            </a:r>
            <a:endParaRPr b="0" lang="en-US" sz="2800" spc="-1" strike="noStrike">
              <a:solidFill>
                <a:srgbClr val="000000"/>
              </a:solidFill>
              <a:latin typeface="Times New Roman"/>
            </a:endParaRPr>
          </a:p>
        </p:txBody>
      </p:sp>
      <p:pic>
        <p:nvPicPr>
          <p:cNvPr id="69" name="Picture 5" descr="Fig. 2.13.3  Schematic diagram of a plate heat exchanger"/>
          <p:cNvPicPr/>
          <p:nvPr/>
        </p:nvPicPr>
        <p:blipFill>
          <a:blip r:embed="rId1"/>
          <a:stretch/>
        </p:blipFill>
        <p:spPr>
          <a:xfrm>
            <a:off x="0" y="1981080"/>
            <a:ext cx="6019920" cy="3030480"/>
          </a:xfrm>
          <a:prstGeom prst="rect">
            <a:avLst/>
          </a:prstGeom>
          <a:ln w="0">
            <a:noFill/>
          </a:ln>
        </p:spPr>
      </p:pic>
      <p:pic>
        <p:nvPicPr>
          <p:cNvPr id="70" name="Picture 8" descr="Plate Heat Exchanger">
            <a:hlinkClick r:id="rId2"/>
          </p:cNvPr>
          <p:cNvPicPr/>
          <p:nvPr/>
        </p:nvPicPr>
        <p:blipFill>
          <a:blip r:embed="rId3"/>
          <a:stretch/>
        </p:blipFill>
        <p:spPr>
          <a:xfrm>
            <a:off x="5486400" y="3029040"/>
            <a:ext cx="3657600" cy="3828960"/>
          </a:xfrm>
          <a:prstGeom prst="rect">
            <a:avLst/>
          </a:prstGeom>
          <a:ln w="0">
            <a:noFill/>
          </a:ln>
        </p:spPr>
      </p:pic>
      <p:sp>
        <p:nvSpPr>
          <p:cNvPr id="71" name="Ink 5"/>
          <p:cNvSpPr/>
          <p:nvPr/>
        </p:nvSpPr>
        <p:spPr>
          <a:xfrm>
            <a:off x="2935440" y="6840360"/>
            <a:ext cx="1440" cy="1800"/>
          </a:xfrm>
          <a:custGeom>
            <a:avLst/>
            <a:gdLst/>
            <a:ahLst/>
            <a:rect l="l" t="t" r="r" b="b"/>
            <a:pathLst>
              <a:path w="1" h="1">
                <a:moveTo>
                  <a:pt x="8152" y="19003"/>
                </a:moveTo>
                <a:lnTo>
                  <a:pt x="8152" y="19003"/>
                </a:lnTo>
              </a:path>
            </a:pathLst>
          </a:custGeom>
          <a:noFill/>
          <a:ln cap="rnd" w="19080">
            <a:solidFill>
              <a:srgbClr val="ff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 name="Ink 6"/>
          <p:cNvSpPr/>
          <p:nvPr/>
        </p:nvSpPr>
        <p:spPr>
          <a:xfrm>
            <a:off x="352440" y="2693880"/>
            <a:ext cx="403200" cy="371520"/>
          </a:xfrm>
          <a:custGeom>
            <a:avLst/>
            <a:gdLst/>
            <a:ahLst/>
            <a:rect l="l" t="t" r="r" b="b"/>
            <a:pathLst>
              <a:path w="1120" h="1031">
                <a:moveTo>
                  <a:pt x="1029" y="7917"/>
                </a:moveTo>
                <a:cubicBezTo>
                  <a:pt x="952" y="7868"/>
                  <a:pt x="972" y="7817"/>
                  <a:pt x="1065" y="7789"/>
                </a:cubicBezTo>
                <a:cubicBezTo>
                  <a:pt x="1109" y="7775"/>
                  <a:pt x="1169" y="7825"/>
                  <a:pt x="1196" y="7853"/>
                </a:cubicBezTo>
                <a:cubicBezTo>
                  <a:pt x="1231" y="7890"/>
                  <a:pt x="1261" y="7938"/>
                  <a:pt x="1280" y="7985"/>
                </a:cubicBezTo>
                <a:cubicBezTo>
                  <a:pt x="1296" y="8024"/>
                  <a:pt x="1300" y="8063"/>
                  <a:pt x="1300" y="8105"/>
                </a:cubicBezTo>
                <a:cubicBezTo>
                  <a:pt x="1300" y="8138"/>
                  <a:pt x="1296" y="8127"/>
                  <a:pt x="1284" y="8148"/>
                </a:cubicBezTo>
                <a:cubicBezTo>
                  <a:pt x="1260" y="8121"/>
                  <a:pt x="1249" y="8095"/>
                  <a:pt x="1237" y="8061"/>
                </a:cubicBezTo>
                <a:cubicBezTo>
                  <a:pt x="1221" y="8017"/>
                  <a:pt x="1198" y="7965"/>
                  <a:pt x="1220" y="7919"/>
                </a:cubicBezTo>
                <a:cubicBezTo>
                  <a:pt x="1239" y="7879"/>
                  <a:pt x="1291" y="7874"/>
                  <a:pt x="1330" y="7881"/>
                </a:cubicBezTo>
                <a:cubicBezTo>
                  <a:pt x="1373" y="7889"/>
                  <a:pt x="1409" y="7916"/>
                  <a:pt x="1440" y="7945"/>
                </a:cubicBezTo>
                <a:cubicBezTo>
                  <a:pt x="1469" y="7972"/>
                  <a:pt x="1480" y="7994"/>
                  <a:pt x="1488" y="8031"/>
                </a:cubicBezTo>
                <a:cubicBezTo>
                  <a:pt x="1467" y="8023"/>
                  <a:pt x="1456" y="8030"/>
                  <a:pt x="1456" y="7987"/>
                </a:cubicBezTo>
                <a:cubicBezTo>
                  <a:pt x="1456" y="7955"/>
                  <a:pt x="1472" y="7924"/>
                  <a:pt x="1503" y="7912"/>
                </a:cubicBezTo>
                <a:cubicBezTo>
                  <a:pt x="1546" y="7896"/>
                  <a:pt x="1578" y="7923"/>
                  <a:pt x="1602" y="7955"/>
                </a:cubicBezTo>
                <a:cubicBezTo>
                  <a:pt x="1634" y="7998"/>
                  <a:pt x="1648" y="8055"/>
                  <a:pt x="1657" y="8107"/>
                </a:cubicBezTo>
                <a:cubicBezTo>
                  <a:pt x="1660" y="8124"/>
                  <a:pt x="1673" y="8191"/>
                  <a:pt x="1654" y="8204"/>
                </a:cubicBezTo>
                <a:cubicBezTo>
                  <a:pt x="1644" y="8185"/>
                  <a:pt x="1641" y="8176"/>
                  <a:pt x="1642" y="8159"/>
                </a:cubicBezTo>
              </a:path>
              <a:path w="1120" h="1031">
                <a:moveTo>
                  <a:pt x="1424" y="7615"/>
                </a:moveTo>
                <a:cubicBezTo>
                  <a:pt x="1397" y="7612"/>
                  <a:pt x="1382" y="7613"/>
                  <a:pt x="1373" y="7583"/>
                </a:cubicBezTo>
                <a:cubicBezTo>
                  <a:pt x="1367" y="7563"/>
                  <a:pt x="1373" y="7538"/>
                  <a:pt x="1369" y="7517"/>
                </a:cubicBezTo>
                <a:cubicBezTo>
                  <a:pt x="1364" y="7491"/>
                  <a:pt x="1367" y="7493"/>
                  <a:pt x="1345" y="7483"/>
                </a:cubicBezTo>
                <a:cubicBezTo>
                  <a:pt x="1319" y="7499"/>
                  <a:pt x="1313" y="7524"/>
                  <a:pt x="1307" y="7555"/>
                </a:cubicBezTo>
                <a:cubicBezTo>
                  <a:pt x="1302" y="7580"/>
                  <a:pt x="1295" y="7611"/>
                  <a:pt x="1310" y="7629"/>
                </a:cubicBezTo>
                <a:cubicBezTo>
                  <a:pt x="1340" y="7627"/>
                  <a:pt x="1346" y="7621"/>
                  <a:pt x="1374" y="7603"/>
                </a:cubicBezTo>
              </a:path>
              <a:path w="1120" h="1031">
                <a:moveTo>
                  <a:pt x="1947" y="7896"/>
                </a:moveTo>
                <a:cubicBezTo>
                  <a:pt x="1994" y="7879"/>
                  <a:pt x="1995" y="7881"/>
                  <a:pt x="2006" y="7835"/>
                </a:cubicBezTo>
                <a:cubicBezTo>
                  <a:pt x="2013" y="7805"/>
                  <a:pt x="2014" y="7779"/>
                  <a:pt x="2002" y="7751"/>
                </a:cubicBezTo>
                <a:cubicBezTo>
                  <a:pt x="1990" y="7723"/>
                  <a:pt x="1962" y="7714"/>
                  <a:pt x="1943" y="7741"/>
                </a:cubicBezTo>
                <a:cubicBezTo>
                  <a:pt x="1918" y="7776"/>
                  <a:pt x="1910" y="7820"/>
                  <a:pt x="1906" y="7862"/>
                </a:cubicBezTo>
                <a:cubicBezTo>
                  <a:pt x="1902" y="7913"/>
                  <a:pt x="1905" y="7957"/>
                  <a:pt x="1932" y="8001"/>
                </a:cubicBezTo>
                <a:cubicBezTo>
                  <a:pt x="1957" y="8043"/>
                  <a:pt x="1994" y="8078"/>
                  <a:pt x="2027" y="8113"/>
                </a:cubicBezTo>
                <a:cubicBezTo>
                  <a:pt x="2058" y="8146"/>
                  <a:pt x="2087" y="8180"/>
                  <a:pt x="2095" y="8226"/>
                </a:cubicBezTo>
                <a:cubicBezTo>
                  <a:pt x="2100" y="8256"/>
                  <a:pt x="2098" y="8276"/>
                  <a:pt x="2077" y="8296"/>
                </a:cubicBezTo>
                <a:cubicBezTo>
                  <a:pt x="2044" y="8292"/>
                  <a:pt x="2037" y="8275"/>
                  <a:pt x="2028" y="8241"/>
                </a:cubicBezTo>
                <a:cubicBezTo>
                  <a:pt x="2014" y="8192"/>
                  <a:pt x="2018" y="8136"/>
                  <a:pt x="2018" y="8085"/>
                </a:cubicBezTo>
                <a:cubicBezTo>
                  <a:pt x="2019" y="8055"/>
                  <a:pt x="2019" y="8046"/>
                  <a:pt x="2020" y="8027"/>
                </a:cubicBezTo>
              </a:path>
              <a:path w="1120" h="1031">
                <a:moveTo>
                  <a:pt x="2020" y="8027"/>
                </a:moveTo>
                <a:cubicBezTo>
                  <a:pt x="2020" y="8017"/>
                  <a:pt x="2021" y="8008"/>
                  <a:pt x="2021" y="7998"/>
                </a:cubicBezTo>
                <a:cubicBezTo>
                  <a:pt x="2012" y="8034"/>
                  <a:pt x="1998" y="8070"/>
                  <a:pt x="1983" y="8103"/>
                </a:cubicBezTo>
                <a:cubicBezTo>
                  <a:pt x="1958" y="8160"/>
                  <a:pt x="1938" y="8218"/>
                  <a:pt x="1912" y="8275"/>
                </a:cubicBezTo>
                <a:cubicBezTo>
                  <a:pt x="1887" y="8330"/>
                  <a:pt x="1862" y="8385"/>
                  <a:pt x="1828" y="8435"/>
                </a:cubicBezTo>
                <a:cubicBezTo>
                  <a:pt x="1808" y="8464"/>
                  <a:pt x="1792" y="8488"/>
                  <a:pt x="1768" y="851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Ink 7"/>
          <p:cNvSpPr/>
          <p:nvPr/>
        </p:nvSpPr>
        <p:spPr>
          <a:xfrm>
            <a:off x="2036880" y="2682720"/>
            <a:ext cx="465120" cy="800280"/>
          </a:xfrm>
          <a:custGeom>
            <a:avLst/>
            <a:gdLst/>
            <a:ahLst/>
            <a:rect l="l" t="t" r="r" b="b"/>
            <a:pathLst>
              <a:path w="1291" h="2221">
                <a:moveTo>
                  <a:pt x="5668" y="7542"/>
                </a:moveTo>
                <a:cubicBezTo>
                  <a:pt x="5668" y="7516"/>
                  <a:pt x="5658" y="7471"/>
                  <a:pt x="5683" y="7452"/>
                </a:cubicBezTo>
                <a:cubicBezTo>
                  <a:pt x="5707" y="7434"/>
                  <a:pt x="5788" y="7503"/>
                  <a:pt x="5802" y="7515"/>
                </a:cubicBezTo>
                <a:cubicBezTo>
                  <a:pt x="5886" y="7589"/>
                  <a:pt x="5930" y="7697"/>
                  <a:pt x="5947" y="7805"/>
                </a:cubicBezTo>
                <a:cubicBezTo>
                  <a:pt x="5961" y="7894"/>
                  <a:pt x="5961" y="7985"/>
                  <a:pt x="5962" y="8075"/>
                </a:cubicBezTo>
                <a:cubicBezTo>
                  <a:pt x="5963" y="8174"/>
                  <a:pt x="5957" y="8272"/>
                  <a:pt x="5950" y="8370"/>
                </a:cubicBezTo>
                <a:cubicBezTo>
                  <a:pt x="5944" y="8459"/>
                  <a:pt x="5941" y="8548"/>
                  <a:pt x="5936" y="8637"/>
                </a:cubicBezTo>
                <a:cubicBezTo>
                  <a:pt x="5932" y="8649"/>
                  <a:pt x="5931" y="8654"/>
                  <a:pt x="5933" y="8663"/>
                </a:cubicBezTo>
              </a:path>
              <a:path w="1291" h="2221">
                <a:moveTo>
                  <a:pt x="5657" y="8278"/>
                </a:moveTo>
                <a:cubicBezTo>
                  <a:pt x="5664" y="8314"/>
                  <a:pt x="5684" y="8335"/>
                  <a:pt x="5704" y="8365"/>
                </a:cubicBezTo>
                <a:cubicBezTo>
                  <a:pt x="5733" y="8410"/>
                  <a:pt x="5763" y="8454"/>
                  <a:pt x="5798" y="8495"/>
                </a:cubicBezTo>
                <a:cubicBezTo>
                  <a:pt x="5823" y="8525"/>
                  <a:pt x="5851" y="8554"/>
                  <a:pt x="5891" y="8558"/>
                </a:cubicBezTo>
                <a:cubicBezTo>
                  <a:pt x="5900" y="8558"/>
                  <a:pt x="5908" y="8558"/>
                  <a:pt x="5917" y="8558"/>
                </a:cubicBezTo>
              </a:path>
              <a:path w="1291" h="2221">
                <a:moveTo>
                  <a:pt x="6051" y="8305"/>
                </a:moveTo>
                <a:cubicBezTo>
                  <a:pt x="6047" y="8360"/>
                  <a:pt x="6033" y="8415"/>
                  <a:pt x="6011" y="8467"/>
                </a:cubicBezTo>
                <a:cubicBezTo>
                  <a:pt x="5986" y="8528"/>
                  <a:pt x="5966" y="8594"/>
                  <a:pt x="5940" y="8654"/>
                </a:cubicBezTo>
                <a:cubicBezTo>
                  <a:pt x="5924" y="8681"/>
                  <a:pt x="5920" y="8687"/>
                  <a:pt x="5916" y="8707"/>
                </a:cubicBezTo>
              </a:path>
              <a:path w="1291" h="2221">
                <a:moveTo>
                  <a:pt x="6110" y="8893"/>
                </a:moveTo>
                <a:cubicBezTo>
                  <a:pt x="6106" y="8870"/>
                  <a:pt x="6101" y="8844"/>
                  <a:pt x="6115" y="8822"/>
                </a:cubicBezTo>
                <a:cubicBezTo>
                  <a:pt x="6128" y="8802"/>
                  <a:pt x="6148" y="8786"/>
                  <a:pt x="6172" y="8784"/>
                </a:cubicBezTo>
                <a:cubicBezTo>
                  <a:pt x="6212" y="8780"/>
                  <a:pt x="6238" y="8812"/>
                  <a:pt x="6259" y="8842"/>
                </a:cubicBezTo>
                <a:cubicBezTo>
                  <a:pt x="6297" y="8896"/>
                  <a:pt x="6321" y="8961"/>
                  <a:pt x="6336" y="9025"/>
                </a:cubicBezTo>
                <a:cubicBezTo>
                  <a:pt x="6341" y="9052"/>
                  <a:pt x="6342" y="9059"/>
                  <a:pt x="6344" y="9076"/>
                </a:cubicBezTo>
                <a:cubicBezTo>
                  <a:pt x="6340" y="9031"/>
                  <a:pt x="6339" y="8985"/>
                  <a:pt x="6344" y="8940"/>
                </a:cubicBezTo>
                <a:cubicBezTo>
                  <a:pt x="6348" y="8907"/>
                  <a:pt x="6354" y="8856"/>
                  <a:pt x="6383" y="8835"/>
                </a:cubicBezTo>
                <a:cubicBezTo>
                  <a:pt x="6387" y="8834"/>
                  <a:pt x="6390" y="8833"/>
                  <a:pt x="6394" y="8832"/>
                </a:cubicBezTo>
                <a:cubicBezTo>
                  <a:pt x="6415" y="8848"/>
                  <a:pt x="6420" y="8868"/>
                  <a:pt x="6426" y="8895"/>
                </a:cubicBezTo>
                <a:cubicBezTo>
                  <a:pt x="6430" y="8912"/>
                  <a:pt x="6431" y="8929"/>
                  <a:pt x="6433" y="8947"/>
                </a:cubicBezTo>
                <a:cubicBezTo>
                  <a:pt x="6452" y="8939"/>
                  <a:pt x="6459" y="8931"/>
                  <a:pt x="6476" y="8910"/>
                </a:cubicBezTo>
                <a:cubicBezTo>
                  <a:pt x="6490" y="8893"/>
                  <a:pt x="6511" y="8863"/>
                  <a:pt x="6537" y="8867"/>
                </a:cubicBezTo>
                <a:cubicBezTo>
                  <a:pt x="6541" y="8869"/>
                  <a:pt x="6544" y="8871"/>
                  <a:pt x="6548" y="8873"/>
                </a:cubicBezTo>
                <a:cubicBezTo>
                  <a:pt x="6560" y="8910"/>
                  <a:pt x="6560" y="8945"/>
                  <a:pt x="6560" y="8984"/>
                </a:cubicBezTo>
                <a:cubicBezTo>
                  <a:pt x="6560" y="9010"/>
                  <a:pt x="6572" y="9095"/>
                  <a:pt x="6546" y="9034"/>
                </a:cubicBezTo>
              </a:path>
              <a:path w="1291" h="2221">
                <a:moveTo>
                  <a:pt x="6550" y="8580"/>
                </a:moveTo>
                <a:cubicBezTo>
                  <a:pt x="6531" y="8574"/>
                  <a:pt x="6536" y="8564"/>
                  <a:pt x="6531" y="8542"/>
                </a:cubicBezTo>
                <a:cubicBezTo>
                  <a:pt x="6525" y="8518"/>
                  <a:pt x="6517" y="8493"/>
                  <a:pt x="6509" y="8470"/>
                </a:cubicBezTo>
                <a:cubicBezTo>
                  <a:pt x="6504" y="8458"/>
                  <a:pt x="6503" y="8454"/>
                  <a:pt x="6497" y="8447"/>
                </a:cubicBezTo>
                <a:cubicBezTo>
                  <a:pt x="6483" y="8456"/>
                  <a:pt x="6480" y="8476"/>
                  <a:pt x="6485" y="8498"/>
                </a:cubicBezTo>
                <a:cubicBezTo>
                  <a:pt x="6490" y="8519"/>
                  <a:pt x="6500" y="8537"/>
                  <a:pt x="6525" y="8533"/>
                </a:cubicBezTo>
                <a:cubicBezTo>
                  <a:pt x="6540" y="8526"/>
                  <a:pt x="6547" y="8523"/>
                  <a:pt x="6558" y="8520"/>
                </a:cubicBezTo>
              </a:path>
              <a:path w="1291" h="2221">
                <a:moveTo>
                  <a:pt x="6178" y="9194"/>
                </a:moveTo>
                <a:cubicBezTo>
                  <a:pt x="6155" y="9199"/>
                  <a:pt x="6152" y="9202"/>
                  <a:pt x="6139" y="9201"/>
                </a:cubicBezTo>
                <a:cubicBezTo>
                  <a:pt x="6166" y="9197"/>
                  <a:pt x="6193" y="9195"/>
                  <a:pt x="6221" y="9192"/>
                </a:cubicBezTo>
                <a:cubicBezTo>
                  <a:pt x="6289" y="9184"/>
                  <a:pt x="6357" y="9170"/>
                  <a:pt x="6424" y="9157"/>
                </a:cubicBezTo>
                <a:cubicBezTo>
                  <a:pt x="6513" y="9139"/>
                  <a:pt x="6601" y="9117"/>
                  <a:pt x="6689" y="9097"/>
                </a:cubicBezTo>
                <a:cubicBezTo>
                  <a:pt x="6755" y="9082"/>
                  <a:pt x="6821" y="9070"/>
                  <a:pt x="6886" y="9057"/>
                </a:cubicBezTo>
                <a:cubicBezTo>
                  <a:pt x="6909" y="9052"/>
                  <a:pt x="6925" y="9044"/>
                  <a:pt x="6947" y="9041"/>
                </a:cubicBezTo>
              </a:path>
              <a:path w="1291" h="2221">
                <a:moveTo>
                  <a:pt x="6468" y="9350"/>
                </a:moveTo>
                <a:cubicBezTo>
                  <a:pt x="6476" y="9376"/>
                  <a:pt x="6477" y="9404"/>
                  <a:pt x="6478" y="9431"/>
                </a:cubicBezTo>
                <a:cubicBezTo>
                  <a:pt x="6479" y="9475"/>
                  <a:pt x="6478" y="9518"/>
                  <a:pt x="6473" y="9561"/>
                </a:cubicBezTo>
                <a:cubicBezTo>
                  <a:pt x="6471" y="9580"/>
                  <a:pt x="6471" y="9598"/>
                  <a:pt x="6455" y="9604"/>
                </a:cubicBezTo>
                <a:cubicBezTo>
                  <a:pt x="6442" y="9584"/>
                  <a:pt x="6441" y="9560"/>
                  <a:pt x="6440" y="9536"/>
                </a:cubicBezTo>
                <a:cubicBezTo>
                  <a:pt x="6439" y="9498"/>
                  <a:pt x="6436" y="9457"/>
                  <a:pt x="6449" y="9421"/>
                </a:cubicBezTo>
                <a:cubicBezTo>
                  <a:pt x="6462" y="9384"/>
                  <a:pt x="6486" y="9365"/>
                  <a:pt x="6524" y="9364"/>
                </a:cubicBezTo>
                <a:cubicBezTo>
                  <a:pt x="6558" y="9363"/>
                  <a:pt x="6581" y="9379"/>
                  <a:pt x="6606" y="9400"/>
                </a:cubicBezTo>
                <a:cubicBezTo>
                  <a:pt x="6633" y="9424"/>
                  <a:pt x="6654" y="9453"/>
                  <a:pt x="6669" y="9486"/>
                </a:cubicBezTo>
                <a:cubicBezTo>
                  <a:pt x="6682" y="9514"/>
                  <a:pt x="6689" y="9541"/>
                  <a:pt x="6690" y="9572"/>
                </a:cubicBezTo>
                <a:cubicBezTo>
                  <a:pt x="6680" y="9555"/>
                  <a:pt x="6679" y="9538"/>
                  <a:pt x="6679" y="9517"/>
                </a:cubicBezTo>
                <a:cubicBezTo>
                  <a:pt x="6678" y="9491"/>
                  <a:pt x="6676" y="9472"/>
                  <a:pt x="6693" y="9452"/>
                </a:cubicBezTo>
                <a:cubicBezTo>
                  <a:pt x="6714" y="9457"/>
                  <a:pt x="6724" y="9466"/>
                  <a:pt x="6733" y="9487"/>
                </a:cubicBezTo>
                <a:cubicBezTo>
                  <a:pt x="6745" y="9514"/>
                  <a:pt x="6748" y="9543"/>
                  <a:pt x="6748" y="9572"/>
                </a:cubicBezTo>
              </a:path>
              <a:path w="1291" h="2221">
                <a:moveTo>
                  <a:pt x="6228" y="9440"/>
                </a:moveTo>
                <a:cubicBezTo>
                  <a:pt x="6217" y="9418"/>
                  <a:pt x="6213" y="9406"/>
                  <a:pt x="6227" y="9383"/>
                </a:cubicBezTo>
                <a:cubicBezTo>
                  <a:pt x="6236" y="9369"/>
                  <a:pt x="6254" y="9355"/>
                  <a:pt x="6269" y="9348"/>
                </a:cubicBezTo>
                <a:cubicBezTo>
                  <a:pt x="6288" y="9339"/>
                  <a:pt x="6319" y="9335"/>
                  <a:pt x="6339" y="9343"/>
                </a:cubicBezTo>
                <a:cubicBezTo>
                  <a:pt x="6382" y="9361"/>
                  <a:pt x="6412" y="9418"/>
                  <a:pt x="6431" y="9457"/>
                </a:cubicBezTo>
                <a:cubicBezTo>
                  <a:pt x="6451" y="9498"/>
                  <a:pt x="6467" y="9544"/>
                  <a:pt x="6474" y="9589"/>
                </a:cubicBezTo>
                <a:cubicBezTo>
                  <a:pt x="6477" y="9607"/>
                  <a:pt x="6483" y="9649"/>
                  <a:pt x="6472" y="9666"/>
                </a:cubicBezTo>
                <a:cubicBezTo>
                  <a:pt x="6469" y="9668"/>
                  <a:pt x="6466" y="9670"/>
                  <a:pt x="6463" y="9672"/>
                </a:cubicBezTo>
                <a:cubicBezTo>
                  <a:pt x="6427" y="9655"/>
                  <a:pt x="6427" y="9625"/>
                  <a:pt x="6428" y="9582"/>
                </a:cubicBezTo>
                <a:cubicBezTo>
                  <a:pt x="6429" y="9528"/>
                  <a:pt x="6449" y="9480"/>
                  <a:pt x="6482" y="9438"/>
                </a:cubicBezTo>
                <a:cubicBezTo>
                  <a:pt x="6512" y="9399"/>
                  <a:pt x="6546" y="9378"/>
                  <a:pt x="6595" y="9375"/>
                </a:cubicBezTo>
                <a:cubicBezTo>
                  <a:pt x="6637" y="9372"/>
                  <a:pt x="6664" y="9394"/>
                  <a:pt x="6688" y="9428"/>
                </a:cubicBezTo>
                <a:cubicBezTo>
                  <a:pt x="6712" y="9463"/>
                  <a:pt x="6725" y="9509"/>
                  <a:pt x="6731" y="9550"/>
                </a:cubicBezTo>
                <a:cubicBezTo>
                  <a:pt x="6734" y="9571"/>
                  <a:pt x="6735" y="9686"/>
                  <a:pt x="6738" y="9654"/>
                </a:cubicBezTo>
              </a:path>
              <a:path w="1291" h="2221">
                <a:moveTo>
                  <a:pt x="6697" y="8829"/>
                </a:moveTo>
                <a:cubicBezTo>
                  <a:pt x="6704" y="8806"/>
                  <a:pt x="6711" y="8799"/>
                  <a:pt x="6719" y="8776"/>
                </a:cubicBezTo>
                <a:cubicBezTo>
                  <a:pt x="6724" y="8762"/>
                  <a:pt x="6730" y="8744"/>
                  <a:pt x="6727" y="8729"/>
                </a:cubicBezTo>
                <a:cubicBezTo>
                  <a:pt x="6726" y="8725"/>
                  <a:pt x="6724" y="8721"/>
                  <a:pt x="6723" y="8717"/>
                </a:cubicBezTo>
                <a:cubicBezTo>
                  <a:pt x="6695" y="8730"/>
                  <a:pt x="6688" y="8751"/>
                  <a:pt x="6686" y="8785"/>
                </a:cubicBezTo>
                <a:cubicBezTo>
                  <a:pt x="6684" y="8815"/>
                  <a:pt x="6689" y="8843"/>
                  <a:pt x="6709" y="8866"/>
                </a:cubicBezTo>
                <a:cubicBezTo>
                  <a:pt x="6719" y="8878"/>
                  <a:pt x="6763" y="8896"/>
                  <a:pt x="6764" y="8913"/>
                </a:cubicBezTo>
                <a:cubicBezTo>
                  <a:pt x="6766" y="8943"/>
                  <a:pt x="6737" y="8923"/>
                  <a:pt x="6734" y="8901"/>
                </a:cubicBezTo>
              </a:path>
              <a:path w="1291" h="2221">
                <a:moveTo>
                  <a:pt x="6697" y="8829"/>
                </a:moveTo>
                <a:cubicBezTo>
                  <a:pt x="6717" y="8826"/>
                  <a:pt x="6738" y="8824"/>
                  <a:pt x="6758" y="8821"/>
                </a:cubicBezTo>
                <a:cubicBezTo>
                  <a:pt x="6733" y="8835"/>
                  <a:pt x="6724" y="8847"/>
                  <a:pt x="6705" y="8873"/>
                </a:cubicBezTo>
                <a:cubicBezTo>
                  <a:pt x="6676" y="8913"/>
                  <a:pt x="6653" y="8956"/>
                  <a:pt x="6628" y="8998"/>
                </a:cubicBezTo>
                <a:cubicBezTo>
                  <a:pt x="6606" y="9035"/>
                  <a:pt x="6589" y="9075"/>
                  <a:pt x="6573" y="911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t and Clod Flows through Plate Heat Exchangers</a:t>
            </a:r>
            <a:endParaRPr b="0" lang="en-US" sz="2800" spc="-1" strike="noStrike">
              <a:solidFill>
                <a:srgbClr val="000000"/>
              </a:solidFill>
              <a:latin typeface="Times New Roman"/>
            </a:endParaRPr>
          </a:p>
        </p:txBody>
      </p:sp>
      <p:pic>
        <p:nvPicPr>
          <p:cNvPr id="75" name="Picture 4" descr=""/>
          <p:cNvPicPr/>
          <p:nvPr/>
        </p:nvPicPr>
        <p:blipFill>
          <a:blip r:embed="rId1"/>
          <a:stretch/>
        </p:blipFill>
        <p:spPr>
          <a:xfrm>
            <a:off x="380880" y="914400"/>
            <a:ext cx="7925040" cy="5776920"/>
          </a:xfrm>
          <a:prstGeom prst="rect">
            <a:avLst/>
          </a:prstGeom>
          <a:ln w="0">
            <a:noFill/>
          </a:ln>
        </p:spPr>
      </p:pic>
      <p:sp>
        <p:nvSpPr>
          <p:cNvPr id="76" name="Ink 4"/>
          <p:cNvSpPr/>
          <p:nvPr/>
        </p:nvSpPr>
        <p:spPr>
          <a:xfrm>
            <a:off x="5854680" y="3881520"/>
            <a:ext cx="1568520" cy="2471760"/>
          </a:xfrm>
          <a:custGeom>
            <a:avLst/>
            <a:gdLst/>
            <a:ahLst/>
            <a:rect l="l" t="t" r="r" b="b"/>
            <a:pathLst>
              <a:path w="4354" h="6869">
                <a:moveTo>
                  <a:pt x="16454" y="13357"/>
                </a:moveTo>
                <a:cubicBezTo>
                  <a:pt x="16458" y="13378"/>
                  <a:pt x="16446" y="13331"/>
                  <a:pt x="16451" y="13352"/>
                </a:cubicBezTo>
                <a:cubicBezTo>
                  <a:pt x="16462" y="13398"/>
                  <a:pt x="16476" y="13443"/>
                  <a:pt x="16485" y="13490"/>
                </a:cubicBezTo>
                <a:cubicBezTo>
                  <a:pt x="16651" y="14307"/>
                  <a:pt x="16646" y="15155"/>
                  <a:pt x="16678" y="15985"/>
                </a:cubicBezTo>
                <a:cubicBezTo>
                  <a:pt x="16696" y="16452"/>
                  <a:pt x="16713" y="16919"/>
                  <a:pt x="16708" y="17387"/>
                </a:cubicBezTo>
                <a:cubicBezTo>
                  <a:pt x="16707" y="17462"/>
                  <a:pt x="16714" y="17599"/>
                  <a:pt x="16717" y="17642"/>
                </a:cubicBezTo>
              </a:path>
              <a:path w="4354" h="6869">
                <a:moveTo>
                  <a:pt x="17890" y="13119"/>
                </a:moveTo>
                <a:cubicBezTo>
                  <a:pt x="17891" y="13092"/>
                  <a:pt x="17893" y="13066"/>
                  <a:pt x="17894" y="13039"/>
                </a:cubicBezTo>
                <a:cubicBezTo>
                  <a:pt x="17882" y="13127"/>
                  <a:pt x="17871" y="13214"/>
                  <a:pt x="17866" y="13303"/>
                </a:cubicBezTo>
                <a:cubicBezTo>
                  <a:pt x="17822" y="14070"/>
                  <a:pt x="17923" y="14852"/>
                  <a:pt x="17974" y="15617"/>
                </a:cubicBezTo>
                <a:cubicBezTo>
                  <a:pt x="18013" y="16202"/>
                  <a:pt x="18130" y="16844"/>
                  <a:pt x="18085" y="17422"/>
                </a:cubicBezTo>
                <a:cubicBezTo>
                  <a:pt x="18084" y="17418"/>
                  <a:pt x="18083" y="17414"/>
                  <a:pt x="18082" y="17410"/>
                </a:cubicBezTo>
              </a:path>
              <a:path w="4354" h="6869">
                <a:moveTo>
                  <a:pt x="17766" y="13252"/>
                </a:moveTo>
                <a:cubicBezTo>
                  <a:pt x="17792" y="13231"/>
                  <a:pt x="17811" y="13213"/>
                  <a:pt x="17837" y="13192"/>
                </a:cubicBezTo>
                <a:cubicBezTo>
                  <a:pt x="17907" y="13138"/>
                  <a:pt x="17981" y="13088"/>
                  <a:pt x="18052" y="13036"/>
                </a:cubicBezTo>
                <a:cubicBezTo>
                  <a:pt x="18320" y="12840"/>
                  <a:pt x="18593" y="12650"/>
                  <a:pt x="18859" y="12452"/>
                </a:cubicBezTo>
                <a:cubicBezTo>
                  <a:pt x="19210" y="12190"/>
                  <a:pt x="19540" y="11910"/>
                  <a:pt x="19863" y="11615"/>
                </a:cubicBezTo>
                <a:cubicBezTo>
                  <a:pt x="20085" y="11412"/>
                  <a:pt x="20302" y="11146"/>
                  <a:pt x="20564" y="10992"/>
                </a:cubicBezTo>
                <a:cubicBezTo>
                  <a:pt x="20580" y="10983"/>
                  <a:pt x="20604" y="10979"/>
                  <a:pt x="20618" y="10971"/>
                </a:cubicBezTo>
              </a:path>
              <a:path w="4354" h="6869">
                <a:moveTo>
                  <a:pt x="16313" y="13427"/>
                </a:moveTo>
                <a:cubicBezTo>
                  <a:pt x="16288" y="13435"/>
                  <a:pt x="16282" y="13438"/>
                  <a:pt x="16266" y="13436"/>
                </a:cubicBezTo>
                <a:cubicBezTo>
                  <a:pt x="16279" y="13420"/>
                  <a:pt x="16273" y="13395"/>
                  <a:pt x="16296" y="13373"/>
                </a:cubicBezTo>
                <a:cubicBezTo>
                  <a:pt x="16430" y="13247"/>
                  <a:pt x="16592" y="13146"/>
                  <a:pt x="16736" y="13032"/>
                </a:cubicBezTo>
                <a:cubicBezTo>
                  <a:pt x="17046" y="12787"/>
                  <a:pt x="17365" y="12558"/>
                  <a:pt x="17683" y="12324"/>
                </a:cubicBezTo>
                <a:cubicBezTo>
                  <a:pt x="18061" y="12046"/>
                  <a:pt x="18431" y="11757"/>
                  <a:pt x="18800" y="11466"/>
                </a:cubicBezTo>
                <a:cubicBezTo>
                  <a:pt x="19022" y="11291"/>
                  <a:pt x="19289" y="11111"/>
                  <a:pt x="19474" y="10894"/>
                </a:cubicBezTo>
                <a:cubicBezTo>
                  <a:pt x="19509" y="10853"/>
                  <a:pt x="19511" y="10816"/>
                  <a:pt x="19531" y="10780"/>
                </a:cubicBezTo>
              </a:path>
              <a:path w="4354" h="6869">
                <a:moveTo>
                  <a:pt x="19513" y="10838"/>
                </a:moveTo>
                <a:cubicBezTo>
                  <a:pt x="19565" y="10830"/>
                  <a:pt x="19609" y="10833"/>
                  <a:pt x="19661" y="10842"/>
                </a:cubicBezTo>
                <a:cubicBezTo>
                  <a:pt x="19718" y="10852"/>
                  <a:pt x="19775" y="10865"/>
                  <a:pt x="19833" y="10873"/>
                </a:cubicBezTo>
                <a:cubicBezTo>
                  <a:pt x="19910" y="10884"/>
                  <a:pt x="19987" y="10886"/>
                  <a:pt x="20065" y="10887"/>
                </a:cubicBezTo>
                <a:cubicBezTo>
                  <a:pt x="20150" y="10888"/>
                  <a:pt x="20235" y="10886"/>
                  <a:pt x="20320" y="10880"/>
                </a:cubicBezTo>
                <a:cubicBezTo>
                  <a:pt x="20389" y="10875"/>
                  <a:pt x="20456" y="10872"/>
                  <a:pt x="20525" y="10872"/>
                </a:cubicBezTo>
                <a:cubicBezTo>
                  <a:pt x="20536" y="10872"/>
                  <a:pt x="20583" y="10870"/>
                  <a:pt x="20568" y="10896"/>
                </a:cubicBezTo>
                <a:cubicBezTo>
                  <a:pt x="20555" y="10900"/>
                  <a:pt x="20551" y="10900"/>
                  <a:pt x="20543" y="10904"/>
                </a:cubicBezTo>
              </a:path>
              <a:path w="4354" h="6869">
                <a:moveTo>
                  <a:pt x="16579" y="15481"/>
                </a:moveTo>
                <a:cubicBezTo>
                  <a:pt x="16586" y="15466"/>
                  <a:pt x="16585" y="15453"/>
                  <a:pt x="16600" y="15438"/>
                </a:cubicBezTo>
                <a:cubicBezTo>
                  <a:pt x="16621" y="15418"/>
                  <a:pt x="16644" y="15420"/>
                  <a:pt x="16670" y="15421"/>
                </a:cubicBezTo>
                <a:cubicBezTo>
                  <a:pt x="16697" y="15422"/>
                  <a:pt x="16723" y="15432"/>
                  <a:pt x="16749" y="15436"/>
                </a:cubicBezTo>
                <a:cubicBezTo>
                  <a:pt x="16803" y="15444"/>
                  <a:pt x="16858" y="15451"/>
                  <a:pt x="16912" y="15457"/>
                </a:cubicBezTo>
                <a:cubicBezTo>
                  <a:pt x="17141" y="15484"/>
                  <a:pt x="17370" y="15505"/>
                  <a:pt x="17594" y="15564"/>
                </a:cubicBezTo>
                <a:cubicBezTo>
                  <a:pt x="17674" y="15585"/>
                  <a:pt x="17754" y="15610"/>
                  <a:pt x="17830" y="15641"/>
                </a:cubicBezTo>
                <a:cubicBezTo>
                  <a:pt x="17891" y="15666"/>
                  <a:pt x="17947" y="15706"/>
                  <a:pt x="18008" y="15729"/>
                </a:cubicBezTo>
                <a:cubicBezTo>
                  <a:pt x="18021" y="15734"/>
                  <a:pt x="18035" y="15752"/>
                  <a:pt x="18046" y="15744"/>
                </a:cubicBezTo>
                <a:cubicBezTo>
                  <a:pt x="18047" y="15732"/>
                  <a:pt x="18047" y="15726"/>
                  <a:pt x="18045" y="15717"/>
                </a:cubicBezTo>
              </a:path>
              <a:path w="4354" h="6869">
                <a:moveTo>
                  <a:pt x="16598" y="15386"/>
                </a:moveTo>
                <a:cubicBezTo>
                  <a:pt x="16613" y="15351"/>
                  <a:pt x="16608" y="15327"/>
                  <a:pt x="16652" y="15283"/>
                </a:cubicBezTo>
                <a:cubicBezTo>
                  <a:pt x="16842" y="15095"/>
                  <a:pt x="17062" y="14927"/>
                  <a:pt x="17280" y="14774"/>
                </a:cubicBezTo>
                <a:cubicBezTo>
                  <a:pt x="17605" y="14546"/>
                  <a:pt x="17892" y="14282"/>
                  <a:pt x="18206" y="14043"/>
                </a:cubicBezTo>
                <a:cubicBezTo>
                  <a:pt x="18420" y="13880"/>
                  <a:pt x="18633" y="13728"/>
                  <a:pt x="18837" y="13551"/>
                </a:cubicBezTo>
                <a:cubicBezTo>
                  <a:pt x="18998" y="13412"/>
                  <a:pt x="19168" y="13284"/>
                  <a:pt x="19350" y="13174"/>
                </a:cubicBezTo>
                <a:cubicBezTo>
                  <a:pt x="19423" y="13130"/>
                  <a:pt x="19500" y="13091"/>
                  <a:pt x="19575" y="13057"/>
                </a:cubicBezTo>
              </a:path>
              <a:path w="4354" h="6869">
                <a:moveTo>
                  <a:pt x="19536" y="13068"/>
                </a:moveTo>
                <a:cubicBezTo>
                  <a:pt x="19559" y="13076"/>
                  <a:pt x="19581" y="13083"/>
                  <a:pt x="19603" y="13092"/>
                </a:cubicBezTo>
                <a:cubicBezTo>
                  <a:pt x="19630" y="13103"/>
                  <a:pt x="19657" y="13115"/>
                  <a:pt x="19684" y="13127"/>
                </a:cubicBezTo>
                <a:cubicBezTo>
                  <a:pt x="19714" y="13140"/>
                  <a:pt x="19744" y="13154"/>
                  <a:pt x="19775" y="13167"/>
                </a:cubicBezTo>
                <a:cubicBezTo>
                  <a:pt x="19811" y="13182"/>
                  <a:pt x="19846" y="13198"/>
                  <a:pt x="19881" y="13213"/>
                </a:cubicBezTo>
                <a:cubicBezTo>
                  <a:pt x="19938" y="13237"/>
                  <a:pt x="19994" y="13255"/>
                  <a:pt x="20056" y="13260"/>
                </a:cubicBezTo>
                <a:cubicBezTo>
                  <a:pt x="20093" y="13263"/>
                  <a:pt x="20131" y="13265"/>
                  <a:pt x="20168" y="13266"/>
                </a:cubicBezTo>
                <a:cubicBezTo>
                  <a:pt x="20203" y="13267"/>
                  <a:pt x="20237" y="13270"/>
                  <a:pt x="20272" y="13276"/>
                </a:cubicBezTo>
                <a:cubicBezTo>
                  <a:pt x="20297" y="13280"/>
                  <a:pt x="20301" y="13286"/>
                  <a:pt x="20318" y="13297"/>
                </a:cubicBezTo>
                <a:cubicBezTo>
                  <a:pt x="20296" y="13295"/>
                  <a:pt x="20292" y="13290"/>
                  <a:pt x="20273" y="13280"/>
                </a:cubicBezTo>
              </a:path>
              <a:path w="4354" h="6869">
                <a:moveTo>
                  <a:pt x="20234" y="13311"/>
                </a:moveTo>
                <a:cubicBezTo>
                  <a:pt x="20230" y="13316"/>
                  <a:pt x="20218" y="13328"/>
                  <a:pt x="20211" y="13337"/>
                </a:cubicBezTo>
                <a:cubicBezTo>
                  <a:pt x="20077" y="13509"/>
                  <a:pt x="19976" y="13704"/>
                  <a:pt x="19849" y="13881"/>
                </a:cubicBezTo>
                <a:cubicBezTo>
                  <a:pt x="19632" y="14182"/>
                  <a:pt x="19357" y="14460"/>
                  <a:pt x="19073" y="14698"/>
                </a:cubicBezTo>
                <a:cubicBezTo>
                  <a:pt x="18771" y="14951"/>
                  <a:pt x="18470" y="15237"/>
                  <a:pt x="18218" y="15541"/>
                </a:cubicBezTo>
                <a:cubicBezTo>
                  <a:pt x="18144" y="15630"/>
                  <a:pt x="18084" y="15706"/>
                  <a:pt x="17993" y="15770"/>
                </a:cubicBezTo>
              </a:path>
              <a:path w="4354" h="6869">
                <a:moveTo>
                  <a:pt x="18569" y="13693"/>
                </a:moveTo>
                <a:cubicBezTo>
                  <a:pt x="18540" y="13661"/>
                  <a:pt x="18526" y="13643"/>
                  <a:pt x="18521" y="13602"/>
                </a:cubicBezTo>
                <a:cubicBezTo>
                  <a:pt x="18519" y="13590"/>
                  <a:pt x="18522" y="13579"/>
                  <a:pt x="18523" y="13567"/>
                </a:cubicBezTo>
                <a:cubicBezTo>
                  <a:pt x="18525" y="13592"/>
                  <a:pt x="18527" y="13619"/>
                  <a:pt x="18527" y="13646"/>
                </a:cubicBezTo>
                <a:cubicBezTo>
                  <a:pt x="18526" y="13715"/>
                  <a:pt x="18521" y="13784"/>
                  <a:pt x="18515" y="13852"/>
                </a:cubicBezTo>
                <a:cubicBezTo>
                  <a:pt x="18504" y="13973"/>
                  <a:pt x="18496" y="14093"/>
                  <a:pt x="18485" y="14214"/>
                </a:cubicBezTo>
                <a:cubicBezTo>
                  <a:pt x="18474" y="14340"/>
                  <a:pt x="18462" y="14466"/>
                  <a:pt x="18447" y="14592"/>
                </a:cubicBezTo>
                <a:cubicBezTo>
                  <a:pt x="18438" y="14666"/>
                  <a:pt x="18439" y="14767"/>
                  <a:pt x="18403" y="14835"/>
                </a:cubicBezTo>
                <a:cubicBezTo>
                  <a:pt x="18400" y="14851"/>
                  <a:pt x="18402" y="14857"/>
                  <a:pt x="18389" y="14853"/>
                </a:cubicBezTo>
              </a:path>
              <a:path w="4354" h="6869">
                <a:moveTo>
                  <a:pt x="18226" y="14563"/>
                </a:moveTo>
                <a:cubicBezTo>
                  <a:pt x="18233" y="14592"/>
                  <a:pt x="18237" y="14621"/>
                  <a:pt x="18244" y="14649"/>
                </a:cubicBezTo>
                <a:cubicBezTo>
                  <a:pt x="18251" y="14680"/>
                  <a:pt x="18262" y="14721"/>
                  <a:pt x="18281" y="14748"/>
                </a:cubicBezTo>
                <a:cubicBezTo>
                  <a:pt x="18296" y="14770"/>
                  <a:pt x="18326" y="14774"/>
                  <a:pt x="18346" y="14753"/>
                </a:cubicBezTo>
                <a:cubicBezTo>
                  <a:pt x="18375" y="14722"/>
                  <a:pt x="18400" y="14675"/>
                  <a:pt x="18422" y="14639"/>
                </a:cubicBezTo>
                <a:cubicBezTo>
                  <a:pt x="18435" y="14617"/>
                  <a:pt x="18443" y="14603"/>
                  <a:pt x="18462" y="14588"/>
                </a:cubicBezTo>
                <a:cubicBezTo>
                  <a:pt x="18479" y="14639"/>
                  <a:pt x="18471" y="14690"/>
                  <a:pt x="18463" y="14745"/>
                </a:cubicBezTo>
                <a:cubicBezTo>
                  <a:pt x="18452" y="14817"/>
                  <a:pt x="18448" y="14904"/>
                  <a:pt x="18419" y="14971"/>
                </a:cubicBezTo>
                <a:cubicBezTo>
                  <a:pt x="18413" y="14978"/>
                  <a:pt x="18408" y="14985"/>
                  <a:pt x="18402" y="14992"/>
                </a:cubicBezTo>
              </a:path>
              <a:path w="4354" h="6869">
                <a:moveTo>
                  <a:pt x="17979" y="15657"/>
                </a:moveTo>
                <a:cubicBezTo>
                  <a:pt x="17971" y="15655"/>
                  <a:pt x="17944" y="15658"/>
                  <a:pt x="17939" y="15654"/>
                </a:cubicBezTo>
                <a:cubicBezTo>
                  <a:pt x="17938" y="15649"/>
                  <a:pt x="17937" y="15645"/>
                  <a:pt x="17936" y="15640"/>
                </a:cubicBezTo>
                <a:cubicBezTo>
                  <a:pt x="17956" y="15635"/>
                  <a:pt x="17968" y="15630"/>
                  <a:pt x="17991" y="15632"/>
                </a:cubicBezTo>
                <a:cubicBezTo>
                  <a:pt x="18068" y="15639"/>
                  <a:pt x="18143" y="15657"/>
                  <a:pt x="18222" y="15659"/>
                </a:cubicBezTo>
                <a:cubicBezTo>
                  <a:pt x="18336" y="15661"/>
                  <a:pt x="18449" y="15656"/>
                  <a:pt x="18562" y="15653"/>
                </a:cubicBezTo>
                <a:cubicBezTo>
                  <a:pt x="18702" y="15649"/>
                  <a:pt x="18844" y="15649"/>
                  <a:pt x="18984" y="15653"/>
                </a:cubicBezTo>
                <a:cubicBezTo>
                  <a:pt x="19049" y="15655"/>
                  <a:pt x="19114" y="15657"/>
                  <a:pt x="19178" y="15660"/>
                </a:cubicBezTo>
                <a:cubicBezTo>
                  <a:pt x="19165" y="15676"/>
                  <a:pt x="19165" y="15690"/>
                  <a:pt x="19133" y="15683"/>
                </a:cubicBezTo>
                <a:cubicBezTo>
                  <a:pt x="19120" y="15679"/>
                  <a:pt x="19115" y="15675"/>
                  <a:pt x="19108" y="15667"/>
                </a:cubicBezTo>
              </a:path>
              <a:path w="4354" h="6869">
                <a:moveTo>
                  <a:pt x="16635" y="15228"/>
                </a:moveTo>
                <a:cubicBezTo>
                  <a:pt x="16647" y="15211"/>
                  <a:pt x="16647" y="15184"/>
                  <a:pt x="16666" y="15172"/>
                </a:cubicBezTo>
                <a:cubicBezTo>
                  <a:pt x="16684" y="15161"/>
                  <a:pt x="16722" y="15160"/>
                  <a:pt x="16742" y="15155"/>
                </a:cubicBezTo>
                <a:cubicBezTo>
                  <a:pt x="17053" y="15078"/>
                  <a:pt x="17365" y="14996"/>
                  <a:pt x="17680" y="14940"/>
                </a:cubicBezTo>
                <a:cubicBezTo>
                  <a:pt x="17795" y="14920"/>
                  <a:pt x="17908" y="14895"/>
                  <a:pt x="18022" y="14872"/>
                </a:cubicBezTo>
                <a:cubicBezTo>
                  <a:pt x="18133" y="14849"/>
                  <a:pt x="18242" y="14820"/>
                  <a:pt x="18352" y="14793"/>
                </a:cubicBezTo>
                <a:cubicBezTo>
                  <a:pt x="18454" y="14768"/>
                  <a:pt x="18557" y="14742"/>
                  <a:pt x="18661" y="14725"/>
                </a:cubicBezTo>
                <a:cubicBezTo>
                  <a:pt x="18747" y="14711"/>
                  <a:pt x="18833" y="14702"/>
                  <a:pt x="18919" y="14698"/>
                </a:cubicBezTo>
                <a:cubicBezTo>
                  <a:pt x="18933" y="14697"/>
                  <a:pt x="19236" y="14711"/>
                  <a:pt x="19245" y="14685"/>
                </a:cubicBezTo>
                <a:cubicBezTo>
                  <a:pt x="19251" y="14669"/>
                  <a:pt x="19210" y="14664"/>
                  <a:pt x="19209" y="14658"/>
                </a:cubicBezTo>
              </a:path>
              <a:path w="4354" h="6869">
                <a:moveTo>
                  <a:pt x="18893" y="15716"/>
                </a:moveTo>
                <a:cubicBezTo>
                  <a:pt x="18909" y="15708"/>
                  <a:pt x="18918" y="15695"/>
                  <a:pt x="18936" y="15689"/>
                </a:cubicBezTo>
                <a:cubicBezTo>
                  <a:pt x="18970" y="15678"/>
                  <a:pt x="19009" y="15674"/>
                  <a:pt x="19045" y="15672"/>
                </a:cubicBezTo>
                <a:cubicBezTo>
                  <a:pt x="19103" y="15669"/>
                  <a:pt x="19161" y="15666"/>
                  <a:pt x="19219" y="15665"/>
                </a:cubicBezTo>
                <a:cubicBezTo>
                  <a:pt x="19283" y="15664"/>
                  <a:pt x="19346" y="15665"/>
                  <a:pt x="19410" y="15664"/>
                </a:cubicBezTo>
                <a:cubicBezTo>
                  <a:pt x="19478" y="15662"/>
                  <a:pt x="19547" y="15660"/>
                  <a:pt x="19614" y="15646"/>
                </a:cubicBezTo>
                <a:cubicBezTo>
                  <a:pt x="19645" y="15639"/>
                  <a:pt x="19673" y="15629"/>
                  <a:pt x="19702" y="15616"/>
                </a:cubicBezTo>
                <a:cubicBezTo>
                  <a:pt x="19720" y="15608"/>
                  <a:pt x="19715" y="15603"/>
                  <a:pt x="19724" y="15595"/>
                </a:cubicBezTo>
              </a:path>
              <a:path w="4354" h="6869">
                <a:moveTo>
                  <a:pt x="19202" y="14720"/>
                </a:moveTo>
                <a:cubicBezTo>
                  <a:pt x="19207" y="14700"/>
                  <a:pt x="19210" y="14686"/>
                  <a:pt x="19225" y="14670"/>
                </a:cubicBezTo>
                <a:cubicBezTo>
                  <a:pt x="19240" y="14654"/>
                  <a:pt x="19258" y="14651"/>
                  <a:pt x="19279" y="14651"/>
                </a:cubicBezTo>
                <a:cubicBezTo>
                  <a:pt x="19304" y="14651"/>
                  <a:pt x="19326" y="14660"/>
                  <a:pt x="19350" y="14665"/>
                </a:cubicBezTo>
                <a:cubicBezTo>
                  <a:pt x="19391" y="14674"/>
                  <a:pt x="19431" y="14685"/>
                  <a:pt x="19472" y="14695"/>
                </a:cubicBezTo>
                <a:cubicBezTo>
                  <a:pt x="19517" y="14706"/>
                  <a:pt x="19562" y="14715"/>
                  <a:pt x="19607" y="14725"/>
                </a:cubicBezTo>
                <a:cubicBezTo>
                  <a:pt x="19631" y="14731"/>
                  <a:pt x="19654" y="14736"/>
                  <a:pt x="19678" y="14742"/>
                </a:cubicBezTo>
                <a:cubicBezTo>
                  <a:pt x="19656" y="14752"/>
                  <a:pt x="19645" y="14747"/>
                  <a:pt x="19621" y="14739"/>
                </a:cubicBezTo>
              </a:path>
              <a:path w="4354" h="6869">
                <a:moveTo>
                  <a:pt x="19576" y="14704"/>
                </a:moveTo>
                <a:cubicBezTo>
                  <a:pt x="19591" y="14679"/>
                  <a:pt x="19608" y="14653"/>
                  <a:pt x="19621" y="14627"/>
                </a:cubicBezTo>
                <a:cubicBezTo>
                  <a:pt x="19643" y="14583"/>
                  <a:pt x="19662" y="14535"/>
                  <a:pt x="19679" y="14488"/>
                </a:cubicBezTo>
                <a:cubicBezTo>
                  <a:pt x="19743" y="14315"/>
                  <a:pt x="19786" y="14134"/>
                  <a:pt x="19849" y="13960"/>
                </a:cubicBezTo>
                <a:cubicBezTo>
                  <a:pt x="19908" y="13798"/>
                  <a:pt x="19956" y="13634"/>
                  <a:pt x="20012" y="13471"/>
                </a:cubicBezTo>
                <a:cubicBezTo>
                  <a:pt x="20035" y="13403"/>
                  <a:pt x="20062" y="13336"/>
                  <a:pt x="20083" y="13267"/>
                </a:cubicBezTo>
                <a:cubicBezTo>
                  <a:pt x="20103" y="13204"/>
                  <a:pt x="20122" y="13138"/>
                  <a:pt x="20129" y="13072"/>
                </a:cubicBezTo>
                <a:cubicBezTo>
                  <a:pt x="20131" y="13049"/>
                  <a:pt x="20130" y="13021"/>
                  <a:pt x="20129" y="13003"/>
                </a:cubicBezTo>
              </a:path>
              <a:path w="4354" h="6869">
                <a:moveTo>
                  <a:pt x="19898" y="15442"/>
                </a:moveTo>
                <a:cubicBezTo>
                  <a:pt x="19929" y="15355"/>
                  <a:pt x="19958" y="15269"/>
                  <a:pt x="19985" y="15181"/>
                </a:cubicBezTo>
                <a:cubicBezTo>
                  <a:pt x="20012" y="15092"/>
                  <a:pt x="20041" y="15005"/>
                  <a:pt x="20071" y="14918"/>
                </a:cubicBezTo>
                <a:cubicBezTo>
                  <a:pt x="20103" y="14825"/>
                  <a:pt x="20143" y="14737"/>
                  <a:pt x="20181" y="14647"/>
                </a:cubicBezTo>
                <a:cubicBezTo>
                  <a:pt x="20220" y="14556"/>
                  <a:pt x="20262" y="14465"/>
                  <a:pt x="20295" y="14372"/>
                </a:cubicBezTo>
                <a:cubicBezTo>
                  <a:pt x="20329" y="14277"/>
                  <a:pt x="20359" y="14181"/>
                  <a:pt x="20389" y="14085"/>
                </a:cubicBezTo>
                <a:cubicBezTo>
                  <a:pt x="20415" y="14002"/>
                  <a:pt x="20443" y="13920"/>
                  <a:pt x="20471" y="13837"/>
                </a:cubicBezTo>
                <a:cubicBezTo>
                  <a:pt x="20509" y="13724"/>
                  <a:pt x="20552" y="13609"/>
                  <a:pt x="20571" y="13491"/>
                </a:cubicBezTo>
                <a:cubicBezTo>
                  <a:pt x="20574" y="13471"/>
                  <a:pt x="20578" y="13457"/>
                  <a:pt x="20568" y="13447"/>
                </a:cubicBezTo>
                <a:cubicBezTo>
                  <a:pt x="20553" y="13447"/>
                  <a:pt x="20547" y="13448"/>
                  <a:pt x="20538" y="13455"/>
                </a:cubicBezTo>
              </a:path>
              <a:path w="4354" h="6869">
                <a:moveTo>
                  <a:pt x="20037" y="13042"/>
                </a:moveTo>
                <a:cubicBezTo>
                  <a:pt x="20044" y="13035"/>
                  <a:pt x="20049" y="13024"/>
                  <a:pt x="20063" y="13023"/>
                </a:cubicBezTo>
                <a:cubicBezTo>
                  <a:pt x="20083" y="13021"/>
                  <a:pt x="20115" y="13067"/>
                  <a:pt x="20125" y="13078"/>
                </a:cubicBezTo>
                <a:cubicBezTo>
                  <a:pt x="20220" y="13182"/>
                  <a:pt x="20310" y="13290"/>
                  <a:pt x="20408" y="13392"/>
                </a:cubicBezTo>
              </a:path>
              <a:path w="4354" h="6869">
                <a:moveTo>
                  <a:pt x="20514" y="13499"/>
                </a:moveTo>
                <a:cubicBezTo>
                  <a:pt x="20518" y="13511"/>
                  <a:pt x="20525" y="13532"/>
                  <a:pt x="20520" y="1352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Ink 5"/>
          <p:cNvSpPr/>
          <p:nvPr/>
        </p:nvSpPr>
        <p:spPr>
          <a:xfrm>
            <a:off x="8250120" y="4307040"/>
            <a:ext cx="238320" cy="2131920"/>
          </a:xfrm>
          <a:custGeom>
            <a:avLst/>
            <a:gdLst/>
            <a:ahLst/>
            <a:rect l="l" t="t" r="r" b="b"/>
            <a:pathLst>
              <a:path w="661" h="5921">
                <a:moveTo>
                  <a:pt x="23330" y="11965"/>
                </a:moveTo>
                <a:cubicBezTo>
                  <a:pt x="23342" y="11983"/>
                  <a:pt x="23356" y="12004"/>
                  <a:pt x="23368" y="12023"/>
                </a:cubicBezTo>
                <a:cubicBezTo>
                  <a:pt x="23437" y="12129"/>
                  <a:pt x="23528" y="12273"/>
                  <a:pt x="23519" y="12405"/>
                </a:cubicBezTo>
                <a:cubicBezTo>
                  <a:pt x="23512" y="12505"/>
                  <a:pt x="23439" y="12594"/>
                  <a:pt x="23395" y="12681"/>
                </a:cubicBezTo>
                <a:cubicBezTo>
                  <a:pt x="23315" y="12836"/>
                  <a:pt x="23237" y="12989"/>
                  <a:pt x="23147" y="13139"/>
                </a:cubicBezTo>
                <a:cubicBezTo>
                  <a:pt x="23049" y="13303"/>
                  <a:pt x="22931" y="13527"/>
                  <a:pt x="23049" y="13711"/>
                </a:cubicBezTo>
                <a:cubicBezTo>
                  <a:pt x="23154" y="13875"/>
                  <a:pt x="23408" y="13875"/>
                  <a:pt x="23492" y="14050"/>
                </a:cubicBezTo>
                <a:cubicBezTo>
                  <a:pt x="23540" y="14150"/>
                  <a:pt x="23519" y="14317"/>
                  <a:pt x="23500" y="14421"/>
                </a:cubicBezTo>
                <a:cubicBezTo>
                  <a:pt x="23457" y="14652"/>
                  <a:pt x="23308" y="14770"/>
                  <a:pt x="23156" y="14932"/>
                </a:cubicBezTo>
                <a:cubicBezTo>
                  <a:pt x="23018" y="15079"/>
                  <a:pt x="22929" y="15220"/>
                  <a:pt x="22917" y="15424"/>
                </a:cubicBezTo>
                <a:cubicBezTo>
                  <a:pt x="22913" y="15497"/>
                  <a:pt x="22922" y="15557"/>
                  <a:pt x="22947" y="15625"/>
                </a:cubicBezTo>
                <a:cubicBezTo>
                  <a:pt x="23000" y="15770"/>
                  <a:pt x="23110" y="15834"/>
                  <a:pt x="23240" y="15902"/>
                </a:cubicBezTo>
                <a:cubicBezTo>
                  <a:pt x="23379" y="15975"/>
                  <a:pt x="23502" y="16039"/>
                  <a:pt x="23512" y="16210"/>
                </a:cubicBezTo>
                <a:cubicBezTo>
                  <a:pt x="23528" y="16496"/>
                  <a:pt x="23344" y="16670"/>
                  <a:pt x="23187" y="16875"/>
                </a:cubicBezTo>
                <a:cubicBezTo>
                  <a:pt x="23067" y="17032"/>
                  <a:pt x="23087" y="17227"/>
                  <a:pt x="23214" y="17375"/>
                </a:cubicBezTo>
                <a:cubicBezTo>
                  <a:pt x="23336" y="17517"/>
                  <a:pt x="23636" y="17623"/>
                  <a:pt x="23559" y="17851"/>
                </a:cubicBezTo>
                <a:cubicBezTo>
                  <a:pt x="23543" y="17862"/>
                  <a:pt x="23528" y="17874"/>
                  <a:pt x="23512" y="1788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Ink 6"/>
          <p:cNvSpPr/>
          <p:nvPr/>
        </p:nvSpPr>
        <p:spPr>
          <a:xfrm>
            <a:off x="7149960" y="3935520"/>
            <a:ext cx="270000" cy="2322360"/>
          </a:xfrm>
          <a:custGeom>
            <a:avLst/>
            <a:gdLst/>
            <a:ahLst/>
            <a:rect l="l" t="t" r="r" b="b"/>
            <a:pathLst>
              <a:path w="750" h="6453">
                <a:moveTo>
                  <a:pt x="20611" y="10930"/>
                </a:moveTo>
                <a:cubicBezTo>
                  <a:pt x="20605" y="10940"/>
                  <a:pt x="20576" y="10927"/>
                  <a:pt x="20563" y="10954"/>
                </a:cubicBezTo>
                <a:cubicBezTo>
                  <a:pt x="20524" y="11039"/>
                  <a:pt x="20513" y="11158"/>
                  <a:pt x="20499" y="11249"/>
                </a:cubicBezTo>
                <a:cubicBezTo>
                  <a:pt x="20418" y="11757"/>
                  <a:pt x="20394" y="12276"/>
                  <a:pt x="20333" y="12787"/>
                </a:cubicBezTo>
                <a:cubicBezTo>
                  <a:pt x="20254" y="13446"/>
                  <a:pt x="20173" y="14102"/>
                  <a:pt x="20078" y="14758"/>
                </a:cubicBezTo>
                <a:cubicBezTo>
                  <a:pt x="19962" y="15563"/>
                  <a:pt x="19918" y="16355"/>
                  <a:pt x="19923" y="17166"/>
                </a:cubicBezTo>
                <a:cubicBezTo>
                  <a:pt x="19923" y="17199"/>
                  <a:pt x="19930" y="17371"/>
                  <a:pt x="19914" y="17375"/>
                </a:cubicBezTo>
                <a:cubicBezTo>
                  <a:pt x="19882" y="17383"/>
                  <a:pt x="19889" y="17312"/>
                  <a:pt x="19862" y="1729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Ink 7"/>
          <p:cNvSpPr/>
          <p:nvPr/>
        </p:nvSpPr>
        <p:spPr>
          <a:xfrm>
            <a:off x="7918560" y="4316400"/>
            <a:ext cx="144360" cy="2073240"/>
          </a:xfrm>
          <a:custGeom>
            <a:avLst/>
            <a:gdLst/>
            <a:ahLst/>
            <a:rect l="l" t="t" r="r" b="b"/>
            <a:pathLst>
              <a:path w="399" h="5763">
                <a:moveTo>
                  <a:pt x="22395" y="12070"/>
                </a:moveTo>
                <a:cubicBezTo>
                  <a:pt x="22385" y="12053"/>
                  <a:pt x="22371" y="12028"/>
                  <a:pt x="22360" y="12013"/>
                </a:cubicBezTo>
                <a:cubicBezTo>
                  <a:pt x="22354" y="12005"/>
                  <a:pt x="22340" y="11991"/>
                  <a:pt x="22338" y="11988"/>
                </a:cubicBezTo>
                <a:cubicBezTo>
                  <a:pt x="22308" y="12077"/>
                  <a:pt x="22279" y="12160"/>
                  <a:pt x="22266" y="12255"/>
                </a:cubicBezTo>
                <a:cubicBezTo>
                  <a:pt x="22234" y="12492"/>
                  <a:pt x="22250" y="12737"/>
                  <a:pt x="22260" y="12975"/>
                </a:cubicBezTo>
                <a:cubicBezTo>
                  <a:pt x="22308" y="14127"/>
                  <a:pt x="22396" y="15263"/>
                  <a:pt x="22218" y="16409"/>
                </a:cubicBezTo>
                <a:cubicBezTo>
                  <a:pt x="22184" y="16628"/>
                  <a:pt x="22139" y="16845"/>
                  <a:pt x="22095" y="17063"/>
                </a:cubicBezTo>
                <a:cubicBezTo>
                  <a:pt x="22048" y="17292"/>
                  <a:pt x="22005" y="17516"/>
                  <a:pt x="22001" y="1775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ance of Plate HXs</a:t>
            </a:r>
            <a:endParaRPr b="0" lang="en-US" sz="2800" spc="-1" strike="noStrike">
              <a:solidFill>
                <a:srgbClr val="000000"/>
              </a:solidFill>
              <a:latin typeface="Times New Roman"/>
            </a:endParaRPr>
          </a:p>
        </p:txBody>
      </p:sp>
      <p:sp>
        <p:nvSpPr>
          <p:cNvPr id="81" name="PlaceHolder 2"/>
          <p:cNvSpPr>
            <a:spLocks noGrp="1"/>
          </p:cNvSpPr>
          <p:nvPr>
            <p:ph/>
          </p:nvPr>
        </p:nvSpPr>
        <p:spPr>
          <a:xfrm>
            <a:off x="685800" y="1294920"/>
            <a:ext cx="7772400" cy="4800600"/>
          </a:xfrm>
          <a:prstGeom prst="rect">
            <a:avLst/>
          </a:prstGeom>
          <a:noFill/>
          <a:ln w="0">
            <a:noFill/>
          </a:ln>
        </p:spPr>
        <p:txBody>
          <a:bodyPr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erior thermal performance is the hallmark of plate heat exchangers.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red to shell-and-tube units, plate heat exchangers offer overall heat transfer coefficients 3 to 4 times higher.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values, typically 4000 to 7000 W/m</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C (clean), result in very compact equipment.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high performance also allows the specification of very small approach temperature (as low as 2 to 3°C) which is sometimes useful in geothermal applications.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high thermal performance does come at the expense of a somewhat higher pressure drop.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ion of a plate heat exchanger is a trade-off between U-value (which influences surface area and hence, capital cost) and pressure drop (which influences pump head and hence, operating cost).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reasing U-value comes at the expense of increasing pressure drop.</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 name="Ink 4"/>
          <p:cNvSpPr/>
          <p:nvPr/>
        </p:nvSpPr>
        <p:spPr>
          <a:xfrm>
            <a:off x="6014880" y="635040"/>
            <a:ext cx="268560" cy="506520"/>
          </a:xfrm>
          <a:custGeom>
            <a:avLst/>
            <a:gdLst/>
            <a:ahLst/>
            <a:rect l="l" t="t" r="r" b="b"/>
            <a:pathLst>
              <a:path w="745" h="1405">
                <a:moveTo>
                  <a:pt x="16946" y="2241"/>
                </a:moveTo>
                <a:cubicBezTo>
                  <a:pt x="16884" y="2196"/>
                  <a:pt x="16850" y="2169"/>
                  <a:pt x="16804" y="2115"/>
                </a:cubicBezTo>
                <a:cubicBezTo>
                  <a:pt x="16801" y="2112"/>
                  <a:pt x="16798" y="2109"/>
                  <a:pt x="16795" y="2106"/>
                </a:cubicBezTo>
                <a:cubicBezTo>
                  <a:pt x="16775" y="2145"/>
                  <a:pt x="16765" y="2181"/>
                  <a:pt x="16755" y="2226"/>
                </a:cubicBezTo>
                <a:cubicBezTo>
                  <a:pt x="16732" y="2332"/>
                  <a:pt x="16718" y="2440"/>
                  <a:pt x="16711" y="2548"/>
                </a:cubicBezTo>
                <a:cubicBezTo>
                  <a:pt x="16703" y="2675"/>
                  <a:pt x="16701" y="2805"/>
                  <a:pt x="16721" y="2931"/>
                </a:cubicBezTo>
                <a:cubicBezTo>
                  <a:pt x="16732" y="3002"/>
                  <a:pt x="16753" y="3117"/>
                  <a:pt x="16822" y="3158"/>
                </a:cubicBezTo>
                <a:cubicBezTo>
                  <a:pt x="16895" y="3201"/>
                  <a:pt x="16976" y="3128"/>
                  <a:pt x="17020" y="3078"/>
                </a:cubicBezTo>
                <a:cubicBezTo>
                  <a:pt x="17106" y="2982"/>
                  <a:pt x="17164" y="2857"/>
                  <a:pt x="17194" y="2733"/>
                </a:cubicBezTo>
                <a:cubicBezTo>
                  <a:pt x="17225" y="2606"/>
                  <a:pt x="17233" y="2466"/>
                  <a:pt x="17201" y="2339"/>
                </a:cubicBezTo>
                <a:cubicBezTo>
                  <a:pt x="17179" y="2250"/>
                  <a:pt x="17129" y="2158"/>
                  <a:pt x="17054" y="2102"/>
                </a:cubicBezTo>
                <a:cubicBezTo>
                  <a:pt x="17006" y="2066"/>
                  <a:pt x="16943" y="2057"/>
                  <a:pt x="16885" y="2060"/>
                </a:cubicBezTo>
                <a:cubicBezTo>
                  <a:pt x="16835" y="2063"/>
                  <a:pt x="16815" y="2087"/>
                  <a:pt x="16789" y="2125"/>
                </a:cubicBezTo>
              </a:path>
              <a:path w="745" h="1405">
                <a:moveTo>
                  <a:pt x="16735" y="2776"/>
                </a:moveTo>
                <a:cubicBezTo>
                  <a:pt x="16762" y="2727"/>
                  <a:pt x="16765" y="2713"/>
                  <a:pt x="16794" y="2665"/>
                </a:cubicBezTo>
                <a:cubicBezTo>
                  <a:pt x="16840" y="2590"/>
                  <a:pt x="16898" y="2508"/>
                  <a:pt x="16975" y="2460"/>
                </a:cubicBezTo>
                <a:cubicBezTo>
                  <a:pt x="17042" y="2418"/>
                  <a:pt x="17116" y="2421"/>
                  <a:pt x="17182" y="2461"/>
                </a:cubicBezTo>
                <a:cubicBezTo>
                  <a:pt x="17244" y="2499"/>
                  <a:pt x="17286" y="2561"/>
                  <a:pt x="17331" y="2616"/>
                </a:cubicBezTo>
                <a:cubicBezTo>
                  <a:pt x="17361" y="2653"/>
                  <a:pt x="17371" y="2657"/>
                  <a:pt x="17411" y="2667"/>
                </a:cubicBezTo>
                <a:cubicBezTo>
                  <a:pt x="17435" y="2609"/>
                  <a:pt x="17442" y="2554"/>
                  <a:pt x="17447" y="2491"/>
                </a:cubicBezTo>
                <a:cubicBezTo>
                  <a:pt x="17454" y="2393"/>
                  <a:pt x="17457" y="2291"/>
                  <a:pt x="17444" y="2193"/>
                </a:cubicBezTo>
                <a:cubicBezTo>
                  <a:pt x="17433" y="2133"/>
                  <a:pt x="17430" y="2116"/>
                  <a:pt x="17417" y="2079"/>
                </a:cubicBezTo>
              </a:path>
              <a:path w="745" h="1405">
                <a:moveTo>
                  <a:pt x="17232" y="1920"/>
                </a:moveTo>
                <a:cubicBezTo>
                  <a:pt x="17233" y="1885"/>
                  <a:pt x="17235" y="1849"/>
                  <a:pt x="17234" y="1814"/>
                </a:cubicBezTo>
                <a:cubicBezTo>
                  <a:pt x="17234" y="1795"/>
                  <a:pt x="17232" y="1782"/>
                  <a:pt x="17226" y="1764"/>
                </a:cubicBezTo>
                <a:cubicBezTo>
                  <a:pt x="17200" y="1771"/>
                  <a:pt x="17200" y="1789"/>
                  <a:pt x="17201" y="1818"/>
                </a:cubicBezTo>
                <a:cubicBezTo>
                  <a:pt x="17202" y="1853"/>
                  <a:pt x="17207" y="1870"/>
                  <a:pt x="17237" y="188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Ink 5"/>
          <p:cNvSpPr/>
          <p:nvPr/>
        </p:nvSpPr>
        <p:spPr>
          <a:xfrm>
            <a:off x="6467400" y="806400"/>
            <a:ext cx="106560" cy="158760"/>
          </a:xfrm>
          <a:custGeom>
            <a:avLst/>
            <a:gdLst/>
            <a:ahLst/>
            <a:rect l="l" t="t" r="r" b="b"/>
            <a:pathLst>
              <a:path w="295" h="439">
                <a:moveTo>
                  <a:pt x="17971" y="2315"/>
                </a:moveTo>
                <a:cubicBezTo>
                  <a:pt x="17969" y="2322"/>
                  <a:pt x="17968" y="2329"/>
                  <a:pt x="17966" y="2336"/>
                </a:cubicBezTo>
                <a:cubicBezTo>
                  <a:pt x="18002" y="2330"/>
                  <a:pt x="18038" y="2313"/>
                  <a:pt x="18072" y="2295"/>
                </a:cubicBezTo>
                <a:cubicBezTo>
                  <a:pt x="18108" y="2275"/>
                  <a:pt x="18144" y="2258"/>
                  <a:pt x="18181" y="2241"/>
                </a:cubicBezTo>
              </a:path>
              <a:path w="295" h="439">
                <a:moveTo>
                  <a:pt x="18198" y="2458"/>
                </a:moveTo>
                <a:cubicBezTo>
                  <a:pt x="18170" y="2525"/>
                  <a:pt x="18125" y="2598"/>
                  <a:pt x="18098" y="2665"/>
                </a:cubicBezTo>
                <a:cubicBezTo>
                  <a:pt x="18098" y="2670"/>
                  <a:pt x="18098" y="2674"/>
                  <a:pt x="18098" y="2679"/>
                </a:cubicBezTo>
                <a:cubicBezTo>
                  <a:pt x="18141" y="2630"/>
                  <a:pt x="18180" y="2579"/>
                  <a:pt x="18219" y="2527"/>
                </a:cubicBezTo>
                <a:cubicBezTo>
                  <a:pt x="18233" y="2509"/>
                  <a:pt x="18246" y="2492"/>
                  <a:pt x="18260" y="247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Ink 6"/>
          <p:cNvSpPr/>
          <p:nvPr/>
        </p:nvSpPr>
        <p:spPr>
          <a:xfrm>
            <a:off x="6899400" y="590400"/>
            <a:ext cx="455400" cy="438480"/>
          </a:xfrm>
          <a:custGeom>
            <a:avLst/>
            <a:gdLst/>
            <a:ahLst/>
            <a:rect l="l" t="t" r="r" b="b"/>
            <a:pathLst>
              <a:path w="1267" h="1218">
                <a:moveTo>
                  <a:pt x="19219" y="1860"/>
                </a:moveTo>
                <a:cubicBezTo>
                  <a:pt x="19219" y="1830"/>
                  <a:pt x="19221" y="1799"/>
                  <a:pt x="19221" y="1769"/>
                </a:cubicBezTo>
                <a:cubicBezTo>
                  <a:pt x="19221" y="1747"/>
                  <a:pt x="19217" y="1729"/>
                  <a:pt x="19213" y="1708"/>
                </a:cubicBezTo>
                <a:cubicBezTo>
                  <a:pt x="19209" y="1690"/>
                  <a:pt x="19209" y="1685"/>
                  <a:pt x="19205" y="1674"/>
                </a:cubicBezTo>
                <a:cubicBezTo>
                  <a:pt x="19196" y="1712"/>
                  <a:pt x="19189" y="1748"/>
                  <a:pt x="19184" y="1787"/>
                </a:cubicBezTo>
                <a:cubicBezTo>
                  <a:pt x="19154" y="2030"/>
                  <a:pt x="19147" y="2287"/>
                  <a:pt x="19177" y="2531"/>
                </a:cubicBezTo>
                <a:cubicBezTo>
                  <a:pt x="19188" y="2624"/>
                  <a:pt x="19202" y="2730"/>
                  <a:pt x="19256" y="2809"/>
                </a:cubicBezTo>
                <a:cubicBezTo>
                  <a:pt x="19291" y="2860"/>
                  <a:pt x="19353" y="2873"/>
                  <a:pt x="19409" y="2847"/>
                </a:cubicBezTo>
                <a:cubicBezTo>
                  <a:pt x="19482" y="2814"/>
                  <a:pt x="19541" y="2737"/>
                  <a:pt x="19578" y="2669"/>
                </a:cubicBezTo>
                <a:cubicBezTo>
                  <a:pt x="19625" y="2583"/>
                  <a:pt x="19652" y="2482"/>
                  <a:pt x="19663" y="2385"/>
                </a:cubicBezTo>
                <a:cubicBezTo>
                  <a:pt x="19675" y="2277"/>
                  <a:pt x="19674" y="2166"/>
                  <a:pt x="19678" y="2057"/>
                </a:cubicBezTo>
                <a:cubicBezTo>
                  <a:pt x="19680" y="2002"/>
                  <a:pt x="19687" y="1945"/>
                  <a:pt x="19702" y="1891"/>
                </a:cubicBezTo>
                <a:cubicBezTo>
                  <a:pt x="19713" y="1860"/>
                  <a:pt x="19716" y="1850"/>
                  <a:pt x="19724" y="1830"/>
                </a:cubicBezTo>
              </a:path>
              <a:path w="1267" h="1218">
                <a:moveTo>
                  <a:pt x="20017" y="1641"/>
                </a:moveTo>
                <a:cubicBezTo>
                  <a:pt x="20043" y="1664"/>
                  <a:pt x="20038" y="1644"/>
                  <a:pt x="20039" y="1682"/>
                </a:cubicBezTo>
                <a:cubicBezTo>
                  <a:pt x="20041" y="1738"/>
                  <a:pt x="20030" y="1795"/>
                  <a:pt x="20027" y="1851"/>
                </a:cubicBezTo>
                <a:cubicBezTo>
                  <a:pt x="20022" y="1939"/>
                  <a:pt x="20017" y="2028"/>
                  <a:pt x="20010" y="2116"/>
                </a:cubicBezTo>
                <a:cubicBezTo>
                  <a:pt x="20004" y="2198"/>
                  <a:pt x="19995" y="2279"/>
                  <a:pt x="19987" y="2360"/>
                </a:cubicBezTo>
                <a:cubicBezTo>
                  <a:pt x="19984" y="2390"/>
                  <a:pt x="19980" y="2418"/>
                  <a:pt x="19975" y="2447"/>
                </a:cubicBezTo>
                <a:cubicBezTo>
                  <a:pt x="19969" y="2403"/>
                  <a:pt x="19967" y="2353"/>
                  <a:pt x="19967" y="2306"/>
                </a:cubicBezTo>
                <a:cubicBezTo>
                  <a:pt x="19967" y="2186"/>
                  <a:pt x="19976" y="2067"/>
                  <a:pt x="19987" y="1948"/>
                </a:cubicBezTo>
                <a:cubicBezTo>
                  <a:pt x="19995" y="1869"/>
                  <a:pt x="19991" y="1732"/>
                  <a:pt x="20037" y="1662"/>
                </a:cubicBezTo>
                <a:cubicBezTo>
                  <a:pt x="20041" y="1660"/>
                  <a:pt x="20045" y="1657"/>
                  <a:pt x="20049" y="1655"/>
                </a:cubicBezTo>
                <a:cubicBezTo>
                  <a:pt x="20078" y="1697"/>
                  <a:pt x="20100" y="1739"/>
                  <a:pt x="20122" y="1787"/>
                </a:cubicBezTo>
                <a:cubicBezTo>
                  <a:pt x="20202" y="1967"/>
                  <a:pt x="20267" y="2152"/>
                  <a:pt x="20332" y="2338"/>
                </a:cubicBezTo>
                <a:cubicBezTo>
                  <a:pt x="20344" y="2373"/>
                  <a:pt x="20368" y="2483"/>
                  <a:pt x="20410" y="2502"/>
                </a:cubicBezTo>
                <a:cubicBezTo>
                  <a:pt x="20421" y="2504"/>
                  <a:pt x="20424" y="2504"/>
                  <a:pt x="20429" y="2496"/>
                </a:cubicBezTo>
              </a:path>
              <a:path w="1267" h="1218">
                <a:moveTo>
                  <a:pt x="20130" y="2211"/>
                </a:moveTo>
                <a:cubicBezTo>
                  <a:pt x="20124" y="2213"/>
                  <a:pt x="20005" y="2257"/>
                  <a:pt x="20011" y="2240"/>
                </a:cubicBezTo>
                <a:cubicBezTo>
                  <a:pt x="20068" y="2209"/>
                  <a:pt x="20128" y="2194"/>
                  <a:pt x="20189" y="2172"/>
                </a:cubicBezTo>
                <a:cubicBezTo>
                  <a:pt x="20255" y="2148"/>
                  <a:pt x="20322" y="2125"/>
                  <a:pt x="20388" y="210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Ink 7"/>
          <p:cNvSpPr/>
          <p:nvPr/>
        </p:nvSpPr>
        <p:spPr>
          <a:xfrm>
            <a:off x="7578720" y="501480"/>
            <a:ext cx="720720" cy="336600"/>
          </a:xfrm>
          <a:custGeom>
            <a:avLst/>
            <a:gdLst/>
            <a:ahLst/>
            <a:rect l="l" t="t" r="r" b="b"/>
            <a:pathLst>
              <a:path w="2002" h="935">
                <a:moveTo>
                  <a:pt x="21163" y="1456"/>
                </a:moveTo>
                <a:cubicBezTo>
                  <a:pt x="21191" y="1412"/>
                  <a:pt x="21186" y="1445"/>
                  <a:pt x="21187" y="1492"/>
                </a:cubicBezTo>
                <a:cubicBezTo>
                  <a:pt x="21190" y="1576"/>
                  <a:pt x="21181" y="1656"/>
                  <a:pt x="21166" y="1739"/>
                </a:cubicBezTo>
                <a:cubicBezTo>
                  <a:pt x="21150" y="1829"/>
                  <a:pt x="21128" y="1917"/>
                  <a:pt x="21098" y="2003"/>
                </a:cubicBezTo>
                <a:cubicBezTo>
                  <a:pt x="21088" y="2033"/>
                  <a:pt x="21076" y="2052"/>
                  <a:pt x="21062" y="2078"/>
                </a:cubicBezTo>
                <a:cubicBezTo>
                  <a:pt x="21050" y="2020"/>
                  <a:pt x="21061" y="1963"/>
                  <a:pt x="21071" y="1905"/>
                </a:cubicBezTo>
                <a:cubicBezTo>
                  <a:pt x="21097" y="1750"/>
                  <a:pt x="21132" y="1588"/>
                  <a:pt x="21191" y="1442"/>
                </a:cubicBezTo>
                <a:cubicBezTo>
                  <a:pt x="21206" y="1410"/>
                  <a:pt x="21207" y="1399"/>
                  <a:pt x="21231" y="1395"/>
                </a:cubicBezTo>
                <a:cubicBezTo>
                  <a:pt x="21275" y="1423"/>
                  <a:pt x="21288" y="1472"/>
                  <a:pt x="21308" y="1520"/>
                </a:cubicBezTo>
                <a:cubicBezTo>
                  <a:pt x="21344" y="1606"/>
                  <a:pt x="21376" y="1693"/>
                  <a:pt x="21409" y="1780"/>
                </a:cubicBezTo>
                <a:cubicBezTo>
                  <a:pt x="21441" y="1865"/>
                  <a:pt x="21480" y="1954"/>
                  <a:pt x="21492" y="2044"/>
                </a:cubicBezTo>
                <a:cubicBezTo>
                  <a:pt x="21493" y="2059"/>
                  <a:pt x="21493" y="2063"/>
                  <a:pt x="21492" y="2072"/>
                </a:cubicBezTo>
                <a:cubicBezTo>
                  <a:pt x="21457" y="2074"/>
                  <a:pt x="21430" y="2072"/>
                  <a:pt x="21394" y="2066"/>
                </a:cubicBezTo>
                <a:cubicBezTo>
                  <a:pt x="21307" y="2052"/>
                  <a:pt x="21213" y="2048"/>
                  <a:pt x="21125" y="2060"/>
                </a:cubicBezTo>
                <a:cubicBezTo>
                  <a:pt x="21111" y="2062"/>
                  <a:pt x="21055" y="2087"/>
                  <a:pt x="21051" y="2071"/>
                </a:cubicBezTo>
                <a:cubicBezTo>
                  <a:pt x="21055" y="2066"/>
                  <a:pt x="21060" y="2062"/>
                  <a:pt x="21064" y="2057"/>
                </a:cubicBezTo>
              </a:path>
              <a:path w="2002" h="935">
                <a:moveTo>
                  <a:pt x="21750" y="1814"/>
                </a:moveTo>
                <a:cubicBezTo>
                  <a:pt x="21762" y="1814"/>
                  <a:pt x="21766" y="1814"/>
                  <a:pt x="21774" y="1813"/>
                </a:cubicBezTo>
                <a:cubicBezTo>
                  <a:pt x="21780" y="1845"/>
                  <a:pt x="21780" y="1877"/>
                  <a:pt x="21779" y="1909"/>
                </a:cubicBezTo>
                <a:cubicBezTo>
                  <a:pt x="21777" y="1963"/>
                  <a:pt x="21774" y="2016"/>
                  <a:pt x="21770" y="2070"/>
                </a:cubicBezTo>
                <a:cubicBezTo>
                  <a:pt x="21767" y="2109"/>
                  <a:pt x="21760" y="2156"/>
                  <a:pt x="21770" y="2195"/>
                </a:cubicBezTo>
                <a:cubicBezTo>
                  <a:pt x="21778" y="2225"/>
                  <a:pt x="21802" y="2227"/>
                  <a:pt x="21828" y="2226"/>
                </a:cubicBezTo>
                <a:cubicBezTo>
                  <a:pt x="21873" y="2224"/>
                  <a:pt x="21909" y="2199"/>
                  <a:pt x="21947" y="2179"/>
                </a:cubicBezTo>
                <a:cubicBezTo>
                  <a:pt x="21996" y="2154"/>
                  <a:pt x="22046" y="2130"/>
                  <a:pt x="22095" y="2106"/>
                </a:cubicBezTo>
              </a:path>
              <a:path w="2002" h="935">
                <a:moveTo>
                  <a:pt x="21704" y="1621"/>
                </a:moveTo>
                <a:cubicBezTo>
                  <a:pt x="21701" y="1637"/>
                  <a:pt x="21700" y="1653"/>
                  <a:pt x="21713" y="1682"/>
                </a:cubicBezTo>
                <a:cubicBezTo>
                  <a:pt x="21734" y="1730"/>
                  <a:pt x="21756" y="1778"/>
                  <a:pt x="21772" y="1828"/>
                </a:cubicBezTo>
                <a:cubicBezTo>
                  <a:pt x="21811" y="1946"/>
                  <a:pt x="21824" y="2067"/>
                  <a:pt x="21825" y="2191"/>
                </a:cubicBezTo>
                <a:cubicBezTo>
                  <a:pt x="21825" y="2237"/>
                  <a:pt x="21828" y="2285"/>
                  <a:pt x="21817" y="2329"/>
                </a:cubicBezTo>
                <a:cubicBezTo>
                  <a:pt x="21805" y="2304"/>
                  <a:pt x="21800" y="2294"/>
                  <a:pt x="21801" y="2273"/>
                </a:cubicBezTo>
              </a:path>
              <a:path w="2002" h="935">
                <a:moveTo>
                  <a:pt x="21522" y="1556"/>
                </a:moveTo>
                <a:cubicBezTo>
                  <a:pt x="21553" y="1553"/>
                  <a:pt x="21585" y="1545"/>
                  <a:pt x="21616" y="1540"/>
                </a:cubicBezTo>
                <a:cubicBezTo>
                  <a:pt x="21675" y="1530"/>
                  <a:pt x="21735" y="1518"/>
                  <a:pt x="21795" y="1514"/>
                </a:cubicBezTo>
                <a:cubicBezTo>
                  <a:pt x="21842" y="1511"/>
                  <a:pt x="21888" y="1507"/>
                  <a:pt x="21935" y="1505"/>
                </a:cubicBezTo>
              </a:path>
              <a:path w="2002" h="935">
                <a:moveTo>
                  <a:pt x="22147" y="1989"/>
                </a:moveTo>
                <a:cubicBezTo>
                  <a:pt x="22126" y="2023"/>
                  <a:pt x="22107" y="2043"/>
                  <a:pt x="22101" y="2081"/>
                </a:cubicBezTo>
                <a:cubicBezTo>
                  <a:pt x="22095" y="2119"/>
                  <a:pt x="22092" y="2163"/>
                  <a:pt x="22095" y="2202"/>
                </a:cubicBezTo>
                <a:cubicBezTo>
                  <a:pt x="22096" y="2219"/>
                  <a:pt x="22097" y="2252"/>
                  <a:pt x="22118" y="2259"/>
                </a:cubicBezTo>
                <a:cubicBezTo>
                  <a:pt x="22145" y="2269"/>
                  <a:pt x="22190" y="2260"/>
                  <a:pt x="22217" y="2255"/>
                </a:cubicBezTo>
                <a:cubicBezTo>
                  <a:pt x="22270" y="2244"/>
                  <a:pt x="22316" y="2222"/>
                  <a:pt x="22364" y="2200"/>
                </a:cubicBezTo>
                <a:cubicBezTo>
                  <a:pt x="22378" y="2194"/>
                  <a:pt x="22391" y="2188"/>
                  <a:pt x="22405" y="2182"/>
                </a:cubicBezTo>
              </a:path>
              <a:path w="2002" h="935">
                <a:moveTo>
                  <a:pt x="22569" y="1858"/>
                </a:moveTo>
                <a:cubicBezTo>
                  <a:pt x="22590" y="1873"/>
                  <a:pt x="22598" y="1879"/>
                  <a:pt x="22611" y="1905"/>
                </a:cubicBezTo>
                <a:cubicBezTo>
                  <a:pt x="22631" y="1946"/>
                  <a:pt x="22646" y="1989"/>
                  <a:pt x="22654" y="2034"/>
                </a:cubicBezTo>
                <a:cubicBezTo>
                  <a:pt x="22663" y="2084"/>
                  <a:pt x="22664" y="2133"/>
                  <a:pt x="22664" y="2184"/>
                </a:cubicBezTo>
                <a:cubicBezTo>
                  <a:pt x="22664" y="2204"/>
                  <a:pt x="22663" y="2224"/>
                  <a:pt x="22663" y="2244"/>
                </a:cubicBezTo>
                <a:cubicBezTo>
                  <a:pt x="22664" y="2167"/>
                  <a:pt x="22672" y="2095"/>
                  <a:pt x="22689" y="2020"/>
                </a:cubicBezTo>
                <a:cubicBezTo>
                  <a:pt x="22700" y="1971"/>
                  <a:pt x="22708" y="1907"/>
                  <a:pt x="22738" y="1865"/>
                </a:cubicBezTo>
                <a:cubicBezTo>
                  <a:pt x="22741" y="1863"/>
                  <a:pt x="22745" y="1860"/>
                  <a:pt x="22748" y="1858"/>
                </a:cubicBezTo>
                <a:cubicBezTo>
                  <a:pt x="22765" y="1892"/>
                  <a:pt x="22764" y="1921"/>
                  <a:pt x="22773" y="1958"/>
                </a:cubicBezTo>
                <a:cubicBezTo>
                  <a:pt x="22781" y="1990"/>
                  <a:pt x="22792" y="2016"/>
                  <a:pt x="22828" y="2020"/>
                </a:cubicBezTo>
                <a:cubicBezTo>
                  <a:pt x="22870" y="2025"/>
                  <a:pt x="22912" y="1991"/>
                  <a:pt x="22945" y="1969"/>
                </a:cubicBezTo>
                <a:cubicBezTo>
                  <a:pt x="22976" y="1948"/>
                  <a:pt x="22999" y="1928"/>
                  <a:pt x="23036" y="1923"/>
                </a:cubicBezTo>
                <a:cubicBezTo>
                  <a:pt x="23050" y="1952"/>
                  <a:pt x="23054" y="1971"/>
                  <a:pt x="23049" y="2013"/>
                </a:cubicBezTo>
                <a:cubicBezTo>
                  <a:pt x="23041" y="2075"/>
                  <a:pt x="23026" y="2162"/>
                  <a:pt x="22987" y="2214"/>
                </a:cubicBezTo>
                <a:cubicBezTo>
                  <a:pt x="22963" y="2234"/>
                  <a:pt x="22956" y="2240"/>
                  <a:pt x="22939" y="225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Ink 8"/>
          <p:cNvSpPr/>
          <p:nvPr/>
        </p:nvSpPr>
        <p:spPr>
          <a:xfrm>
            <a:off x="7883640" y="4464000"/>
            <a:ext cx="830160" cy="1181160"/>
          </a:xfrm>
          <a:custGeom>
            <a:avLst/>
            <a:gdLst/>
            <a:ahLst/>
            <a:rect l="l" t="t" r="r" b="b"/>
            <a:pathLst>
              <a:path w="2303" h="3283">
                <a:moveTo>
                  <a:pt x="21933" y="13028"/>
                </a:moveTo>
                <a:cubicBezTo>
                  <a:pt x="21923" y="12999"/>
                  <a:pt x="21904" y="12978"/>
                  <a:pt x="21900" y="12947"/>
                </a:cubicBezTo>
                <a:cubicBezTo>
                  <a:pt x="21898" y="12935"/>
                  <a:pt x="21905" y="12920"/>
                  <a:pt x="21903" y="12909"/>
                </a:cubicBezTo>
                <a:cubicBezTo>
                  <a:pt x="21944" y="12911"/>
                  <a:pt x="21990" y="12916"/>
                  <a:pt x="22032" y="12917"/>
                </a:cubicBezTo>
                <a:cubicBezTo>
                  <a:pt x="22183" y="12921"/>
                  <a:pt x="22333" y="12909"/>
                  <a:pt x="22484" y="12913"/>
                </a:cubicBezTo>
                <a:cubicBezTo>
                  <a:pt x="22578" y="12915"/>
                  <a:pt x="22660" y="12921"/>
                  <a:pt x="22699" y="13015"/>
                </a:cubicBezTo>
                <a:cubicBezTo>
                  <a:pt x="22765" y="13174"/>
                  <a:pt x="22742" y="13409"/>
                  <a:pt x="22767" y="13577"/>
                </a:cubicBezTo>
                <a:cubicBezTo>
                  <a:pt x="22838" y="14048"/>
                  <a:pt x="23093" y="14731"/>
                  <a:pt x="22923" y="15202"/>
                </a:cubicBezTo>
                <a:cubicBezTo>
                  <a:pt x="22904" y="15256"/>
                  <a:pt x="22880" y="15307"/>
                  <a:pt x="22830" y="15338"/>
                </a:cubicBezTo>
                <a:cubicBezTo>
                  <a:pt x="22780" y="15369"/>
                  <a:pt x="22709" y="15370"/>
                  <a:pt x="22653" y="15375"/>
                </a:cubicBezTo>
                <a:cubicBezTo>
                  <a:pt x="22573" y="15382"/>
                  <a:pt x="22491" y="15381"/>
                  <a:pt x="22411" y="15381"/>
                </a:cubicBezTo>
                <a:cubicBezTo>
                  <a:pt x="22275" y="15382"/>
                  <a:pt x="22128" y="15406"/>
                  <a:pt x="21993" y="15393"/>
                </a:cubicBezTo>
                <a:cubicBezTo>
                  <a:pt x="21982" y="15390"/>
                  <a:pt x="21972" y="15386"/>
                  <a:pt x="21961" y="15383"/>
                </a:cubicBezTo>
              </a:path>
              <a:path w="2303" h="3283">
                <a:moveTo>
                  <a:pt x="22387" y="12459"/>
                </a:moveTo>
                <a:cubicBezTo>
                  <a:pt x="22357" y="12450"/>
                  <a:pt x="22327" y="12442"/>
                  <a:pt x="22297" y="12433"/>
                </a:cubicBezTo>
                <a:cubicBezTo>
                  <a:pt x="22465" y="12432"/>
                  <a:pt x="22631" y="12423"/>
                  <a:pt x="22799" y="12410"/>
                </a:cubicBezTo>
                <a:cubicBezTo>
                  <a:pt x="22931" y="12400"/>
                  <a:pt x="23098" y="12374"/>
                  <a:pt x="23226" y="12416"/>
                </a:cubicBezTo>
                <a:cubicBezTo>
                  <a:pt x="23334" y="12452"/>
                  <a:pt x="23346" y="12544"/>
                  <a:pt x="23362" y="12642"/>
                </a:cubicBezTo>
                <a:cubicBezTo>
                  <a:pt x="23450" y="13171"/>
                  <a:pt x="23334" y="13762"/>
                  <a:pt x="23358" y="14299"/>
                </a:cubicBezTo>
                <a:cubicBezTo>
                  <a:pt x="23375" y="14680"/>
                  <a:pt x="23511" y="15213"/>
                  <a:pt x="23387" y="15585"/>
                </a:cubicBezTo>
                <a:cubicBezTo>
                  <a:pt x="23365" y="15652"/>
                  <a:pt x="23314" y="15673"/>
                  <a:pt x="23248" y="15682"/>
                </a:cubicBezTo>
                <a:cubicBezTo>
                  <a:pt x="23079" y="15704"/>
                  <a:pt x="22805" y="15679"/>
                  <a:pt x="22649" y="15612"/>
                </a:cubicBezTo>
                <a:cubicBezTo>
                  <a:pt x="22612" y="15596"/>
                  <a:pt x="22599" y="15590"/>
                  <a:pt x="22582" y="15567"/>
                </a:cubicBezTo>
              </a:path>
              <a:path w="2303" h="3283">
                <a:moveTo>
                  <a:pt x="23621" y="13346"/>
                </a:moveTo>
                <a:cubicBezTo>
                  <a:pt x="23647" y="13325"/>
                  <a:pt x="23625" y="13336"/>
                  <a:pt x="23654" y="13333"/>
                </a:cubicBezTo>
                <a:cubicBezTo>
                  <a:pt x="23674" y="13397"/>
                  <a:pt x="23686" y="13465"/>
                  <a:pt x="23696" y="13531"/>
                </a:cubicBezTo>
                <a:cubicBezTo>
                  <a:pt x="23703" y="13573"/>
                  <a:pt x="23703" y="13606"/>
                  <a:pt x="23733" y="13636"/>
                </a:cubicBezTo>
                <a:cubicBezTo>
                  <a:pt x="23776" y="13600"/>
                  <a:pt x="23805" y="13554"/>
                  <a:pt x="23833" y="13505"/>
                </a:cubicBezTo>
                <a:cubicBezTo>
                  <a:pt x="23881" y="13421"/>
                  <a:pt x="23926" y="13333"/>
                  <a:pt x="23972" y="13248"/>
                </a:cubicBezTo>
                <a:cubicBezTo>
                  <a:pt x="23998" y="13201"/>
                  <a:pt x="24021" y="13140"/>
                  <a:pt x="24056" y="13098"/>
                </a:cubicBezTo>
                <a:cubicBezTo>
                  <a:pt x="24079" y="13070"/>
                  <a:pt x="24082" y="13077"/>
                  <a:pt x="24089" y="13099"/>
                </a:cubicBezTo>
              </a:path>
              <a:path w="2303" h="3283">
                <a:moveTo>
                  <a:pt x="23704" y="13859"/>
                </a:moveTo>
                <a:cubicBezTo>
                  <a:pt x="23691" y="13893"/>
                  <a:pt x="23674" y="13928"/>
                  <a:pt x="23679" y="13966"/>
                </a:cubicBezTo>
                <a:cubicBezTo>
                  <a:pt x="23682" y="13991"/>
                  <a:pt x="23698" y="14028"/>
                  <a:pt x="23721" y="14041"/>
                </a:cubicBezTo>
                <a:cubicBezTo>
                  <a:pt x="23766" y="14067"/>
                  <a:pt x="23803" y="14026"/>
                  <a:pt x="23832" y="13999"/>
                </a:cubicBezTo>
                <a:cubicBezTo>
                  <a:pt x="23900" y="13936"/>
                  <a:pt x="23950" y="13856"/>
                  <a:pt x="24001" y="13779"/>
                </a:cubicBezTo>
                <a:cubicBezTo>
                  <a:pt x="24053" y="13701"/>
                  <a:pt x="24110" y="13628"/>
                  <a:pt x="24157" y="13548"/>
                </a:cubicBezTo>
                <a:cubicBezTo>
                  <a:pt x="24172" y="13522"/>
                  <a:pt x="24187" y="13496"/>
                  <a:pt x="24202" y="1347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4" presetSubtype="32">
                                  <p:stCondLst>
                                    <p:cond delay="0"/>
                                  </p:stCondLst>
                                  <p:childTnLst>
                                    <p:audio isNarration="0">
                                      <p:cMediaNode showWhenStopped="1">
                                        <p:cTn/>
                                        <p:tgtEl>
                                          <p:sndTgt r:embed="rId1" name="camera.wav"/>
                                        </p:tgtEl>
                                      </p:cMediaNode>
                                    </p:audio>
                                    <p:set>
                                      <p:cBhvr>
                                        <p:cTn id="40" dur="1" fill="hold">
                                          <p:stCondLst>
                                            <p:cond delay="0"/>
                                          </p:stCondLst>
                                        </p:cTn>
                                        <p:tgtEl>
                                          <p:spTgt spid="81">
                                            <p:txEl>
                                              <p:pRg st="0" end="0"/>
                                            </p:txEl>
                                          </p:spTgt>
                                        </p:tgtEl>
                                        <p:attrNameLst>
                                          <p:attrName>style.visibility</p:attrName>
                                        </p:attrNameLst>
                                      </p:cBhvr>
                                      <p:to>
                                        <p:strVal val="visible"/>
                                      </p:to>
                                    </p:set>
                                    <p:animEffect filter="box(out)" transition="in">
                                      <p:cBhvr additive="repl">
                                        <p:cTn id="41" dur="500"/>
                                        <p:tgtEl>
                                          <p:spTgt spid="8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32">
                                  <p:stCondLst>
                                    <p:cond delay="0"/>
                                  </p:stCondLst>
                                  <p:childTnLst>
                                    <p:audio isNarration="0">
                                      <p:cMediaNode showWhenStopped="1">
                                        <p:cTn/>
                                        <p:tgtEl>
                                          <p:sndTgt r:embed="rId2" name="camera.wav"/>
                                        </p:tgtEl>
                                      </p:cMediaNode>
                                    </p:audio>
                                    <p:set>
                                      <p:cBhvr>
                                        <p:cTn id="45" dur="1" fill="hold">
                                          <p:stCondLst>
                                            <p:cond delay="0"/>
                                          </p:stCondLst>
                                        </p:cTn>
                                        <p:tgtEl>
                                          <p:spTgt spid="81">
                                            <p:txEl>
                                              <p:pRg st="1" end="1"/>
                                            </p:txEl>
                                          </p:spTgt>
                                        </p:tgtEl>
                                        <p:attrNameLst>
                                          <p:attrName>style.visibility</p:attrName>
                                        </p:attrNameLst>
                                      </p:cBhvr>
                                      <p:to>
                                        <p:strVal val="visible"/>
                                      </p:to>
                                    </p:set>
                                    <p:animEffect filter="box(out)" transition="in">
                                      <p:cBhvr additive="repl">
                                        <p:cTn id="46" dur="500"/>
                                        <p:tgtEl>
                                          <p:spTgt spid="8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32">
                                  <p:stCondLst>
                                    <p:cond delay="0"/>
                                  </p:stCondLst>
                                  <p:childTnLst>
                                    <p:audio isNarration="0">
                                      <p:cMediaNode showWhenStopped="1">
                                        <p:cTn/>
                                        <p:tgtEl>
                                          <p:sndTgt r:embed="rId3" name="camera.wav"/>
                                        </p:tgtEl>
                                      </p:cMediaNode>
                                    </p:audio>
                                    <p:set>
                                      <p:cBhvr>
                                        <p:cTn id="50" dur="1" fill="hold">
                                          <p:stCondLst>
                                            <p:cond delay="0"/>
                                          </p:stCondLst>
                                        </p:cTn>
                                        <p:tgtEl>
                                          <p:spTgt spid="81">
                                            <p:txEl>
                                              <p:pRg st="2" end="2"/>
                                            </p:txEl>
                                          </p:spTgt>
                                        </p:tgtEl>
                                        <p:attrNameLst>
                                          <p:attrName>style.visibility</p:attrName>
                                        </p:attrNameLst>
                                      </p:cBhvr>
                                      <p:to>
                                        <p:strVal val="visible"/>
                                      </p:to>
                                    </p:set>
                                    <p:animEffect filter="box(out)" transition="in">
                                      <p:cBhvr additive="repl">
                                        <p:cTn id="51" dur="500"/>
                                        <p:tgtEl>
                                          <p:spTgt spid="8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32">
                                  <p:stCondLst>
                                    <p:cond delay="0"/>
                                  </p:stCondLst>
                                  <p:childTnLst>
                                    <p:audio isNarration="0">
                                      <p:cMediaNode showWhenStopped="1">
                                        <p:cTn/>
                                        <p:tgtEl>
                                          <p:sndTgt r:embed="rId4" name="camera.wav"/>
                                        </p:tgtEl>
                                      </p:cMediaNode>
                                    </p:audio>
                                    <p:set>
                                      <p:cBhvr>
                                        <p:cTn id="55" dur="1" fill="hold">
                                          <p:stCondLst>
                                            <p:cond delay="0"/>
                                          </p:stCondLst>
                                        </p:cTn>
                                        <p:tgtEl>
                                          <p:spTgt spid="81">
                                            <p:txEl>
                                              <p:pRg st="3" end="3"/>
                                            </p:txEl>
                                          </p:spTgt>
                                        </p:tgtEl>
                                        <p:attrNameLst>
                                          <p:attrName>style.visibility</p:attrName>
                                        </p:attrNameLst>
                                      </p:cBhvr>
                                      <p:to>
                                        <p:strVal val="visible"/>
                                      </p:to>
                                    </p:set>
                                    <p:animEffect filter="box(out)" transition="in">
                                      <p:cBhvr additive="repl">
                                        <p:cTn id="56" dur="500"/>
                                        <p:tgtEl>
                                          <p:spTgt spid="81">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32">
                                  <p:stCondLst>
                                    <p:cond delay="0"/>
                                  </p:stCondLst>
                                  <p:childTnLst>
                                    <p:audio isNarration="0">
                                      <p:cMediaNode showWhenStopped="1">
                                        <p:cTn/>
                                        <p:tgtEl>
                                          <p:sndTgt r:embed="rId5" name="camera.wav"/>
                                        </p:tgtEl>
                                      </p:cMediaNode>
                                    </p:audio>
                                    <p:set>
                                      <p:cBhvr>
                                        <p:cTn id="60" dur="1" fill="hold">
                                          <p:stCondLst>
                                            <p:cond delay="0"/>
                                          </p:stCondLst>
                                        </p:cTn>
                                        <p:tgtEl>
                                          <p:spTgt spid="81">
                                            <p:txEl>
                                              <p:pRg st="4" end="4"/>
                                            </p:txEl>
                                          </p:spTgt>
                                        </p:tgtEl>
                                        <p:attrNameLst>
                                          <p:attrName>style.visibility</p:attrName>
                                        </p:attrNameLst>
                                      </p:cBhvr>
                                      <p:to>
                                        <p:strVal val="visible"/>
                                      </p:to>
                                    </p:set>
                                    <p:animEffect filter="box(out)" transition="in">
                                      <p:cBhvr additive="repl">
                                        <p:cTn id="61" dur="500"/>
                                        <p:tgtEl>
                                          <p:spTgt spid="81">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32">
                                  <p:stCondLst>
                                    <p:cond delay="0"/>
                                  </p:stCondLst>
                                  <p:childTnLst>
                                    <p:audio isNarration="0">
                                      <p:cMediaNode showWhenStopped="1">
                                        <p:cTn/>
                                        <p:tgtEl>
                                          <p:sndTgt r:embed="rId6" name="camera.wav"/>
                                        </p:tgtEl>
                                      </p:cMediaNode>
                                    </p:audio>
                                    <p:set>
                                      <p:cBhvr>
                                        <p:cTn id="65" dur="1" fill="hold">
                                          <p:stCondLst>
                                            <p:cond delay="0"/>
                                          </p:stCondLst>
                                        </p:cTn>
                                        <p:tgtEl>
                                          <p:spTgt spid="81">
                                            <p:txEl>
                                              <p:pRg st="5" end="5"/>
                                            </p:txEl>
                                          </p:spTgt>
                                        </p:tgtEl>
                                        <p:attrNameLst>
                                          <p:attrName>style.visibility</p:attrName>
                                        </p:attrNameLst>
                                      </p:cBhvr>
                                      <p:to>
                                        <p:strVal val="visible"/>
                                      </p:to>
                                    </p:set>
                                    <p:animEffect filter="box(out)" transition="in">
                                      <p:cBhvr additive="repl">
                                        <p:cTn id="66" dur="500"/>
                                        <p:tgtEl>
                                          <p:spTgt spid="81">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32">
                                  <p:stCondLst>
                                    <p:cond delay="0"/>
                                  </p:stCondLst>
                                  <p:childTnLst>
                                    <p:audio isNarration="0">
                                      <p:cMediaNode showWhenStopped="1">
                                        <p:cTn/>
                                        <p:tgtEl>
                                          <p:sndTgt r:embed="rId7" name="camera.wav"/>
                                        </p:tgtEl>
                                      </p:cMediaNode>
                                    </p:audio>
                                    <p:set>
                                      <p:cBhvr>
                                        <p:cTn id="70" dur="1" fill="hold">
                                          <p:stCondLst>
                                            <p:cond delay="0"/>
                                          </p:stCondLst>
                                        </p:cTn>
                                        <p:tgtEl>
                                          <p:spTgt spid="81">
                                            <p:txEl>
                                              <p:pRg st="6" end="6"/>
                                            </p:txEl>
                                          </p:spTgt>
                                        </p:tgtEl>
                                        <p:attrNameLst>
                                          <p:attrName>style.visibility</p:attrName>
                                        </p:attrNameLst>
                                      </p:cBhvr>
                                      <p:to>
                                        <p:strVal val="visible"/>
                                      </p:to>
                                    </p:set>
                                    <p:animEffect filter="box(out)" transition="in">
                                      <p:cBhvr additive="repl">
                                        <p:cTn id="71" dur="500"/>
                                        <p:tgtEl>
                                          <p:spTgt spid="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Classification of Plate HXs</a:t>
            </a:r>
            <a:endParaRPr b="0" lang="en-US" sz="2800" spc="-1" strike="noStrike">
              <a:solidFill>
                <a:srgbClr val="000000"/>
              </a:solidFill>
              <a:latin typeface="Times New Roman"/>
            </a:endParaRPr>
          </a:p>
        </p:txBody>
      </p:sp>
      <p:sp>
        <p:nvSpPr>
          <p:cNvPr id="88" name=""/>
          <p:cNvSpPr txBox="1"/>
          <p:nvPr/>
        </p:nvSpPr>
        <p:spPr>
          <a:xfrm>
            <a:off x="685800" y="1981080"/>
            <a:ext cx="7772400" cy="4114800"/>
          </a:xfrm>
          <a:prstGeom prst="rect">
            <a:avLst/>
          </a:prstGeom>
          <a:noFill/>
          <a:ln w="0">
            <a:noFill/>
          </a:ln>
        </p:spPr>
        <p:txBody>
          <a:bodyPr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Gasketed plate heat exchangers (plate and frame heat exchanger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Brazed plate heat exchanger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Welded plate heat exchanger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 presetSubtype="32">
                                  <p:stCondLst>
                                    <p:cond delay="0"/>
                                  </p:stCondLst>
                                  <p:childTnLst>
                                    <p:audio isNarration="0">
                                      <p:cMediaNode showWhenStopped="1">
                                        <p:cTn/>
                                        <p:tgtEl>
                                          <p:sndTgt r:embed="rId1" name="camera.wav"/>
                                        </p:tgtEl>
                                      </p:cMediaNode>
                                    </p:audio>
                                    <p:set>
                                      <p:cBhvr>
                                        <p:cTn id="77" dur="1" fill="hold">
                                          <p:stCondLst>
                                            <p:cond delay="0"/>
                                          </p:stCondLst>
                                        </p:cTn>
                                        <p:tgtEl>
                                          <p:spTgt spid="88">
                                            <p:txEl>
                                              <p:pRg st="0" end="0"/>
                                            </p:txEl>
                                          </p:spTgt>
                                        </p:tgtEl>
                                        <p:attrNameLst>
                                          <p:attrName>style.visibility</p:attrName>
                                        </p:attrNameLst>
                                      </p:cBhvr>
                                      <p:to>
                                        <p:strVal val="visible"/>
                                      </p:to>
                                    </p:set>
                                    <p:animEffect filter="box(out)" transition="in">
                                      <p:cBhvr additive="repl">
                                        <p:cTn id="78" dur="500"/>
                                        <p:tgtEl>
                                          <p:spTgt spid="88">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32">
                                  <p:stCondLst>
                                    <p:cond delay="0"/>
                                  </p:stCondLst>
                                  <p:childTnLst>
                                    <p:audio isNarration="0">
                                      <p:cMediaNode showWhenStopped="1">
                                        <p:cTn/>
                                        <p:tgtEl>
                                          <p:sndTgt r:embed="rId2" name="camera.wav"/>
                                        </p:tgtEl>
                                      </p:cMediaNode>
                                    </p:audio>
                                    <p:set>
                                      <p:cBhvr>
                                        <p:cTn id="82" dur="1" fill="hold">
                                          <p:stCondLst>
                                            <p:cond delay="0"/>
                                          </p:stCondLst>
                                        </p:cTn>
                                        <p:tgtEl>
                                          <p:spTgt spid="88">
                                            <p:txEl>
                                              <p:pRg st="1" end="1"/>
                                            </p:txEl>
                                          </p:spTgt>
                                        </p:tgtEl>
                                        <p:attrNameLst>
                                          <p:attrName>style.visibility</p:attrName>
                                        </p:attrNameLst>
                                      </p:cBhvr>
                                      <p:to>
                                        <p:strVal val="visible"/>
                                      </p:to>
                                    </p:set>
                                    <p:animEffect filter="box(out)" transition="in">
                                      <p:cBhvr additive="repl">
                                        <p:cTn id="83" dur="500"/>
                                        <p:tgtEl>
                                          <p:spTgt spid="88">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32">
                                  <p:stCondLst>
                                    <p:cond delay="0"/>
                                  </p:stCondLst>
                                  <p:childTnLst>
                                    <p:audio isNarration="0">
                                      <p:cMediaNode showWhenStopped="1">
                                        <p:cTn/>
                                        <p:tgtEl>
                                          <p:sndTgt r:embed="rId3" name="camera.wav"/>
                                        </p:tgtEl>
                                      </p:cMediaNode>
                                    </p:audio>
                                    <p:set>
                                      <p:cBhvr>
                                        <p:cTn id="87" dur="1" fill="hold">
                                          <p:stCondLst>
                                            <p:cond delay="0"/>
                                          </p:stCondLst>
                                        </p:cTn>
                                        <p:tgtEl>
                                          <p:spTgt spid="88">
                                            <p:txEl>
                                              <p:pRg st="2" end="2"/>
                                            </p:txEl>
                                          </p:spTgt>
                                        </p:tgtEl>
                                        <p:attrNameLst>
                                          <p:attrName>style.visibility</p:attrName>
                                        </p:attrNameLst>
                                      </p:cBhvr>
                                      <p:to>
                                        <p:strVal val="visible"/>
                                      </p:to>
                                    </p:set>
                                    <p:animEffect filter="box(out)" transition="in">
                                      <p:cBhvr additive="repl">
                                        <p:cTn id="88" dur="500"/>
                                        <p:tgtEl>
                                          <p:spTgt spid="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28600"/>
            <a:ext cx="777240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Gasketed plate heat exchangers</a:t>
            </a:r>
            <a:endParaRPr b="0" lang="en-US" sz="2800" spc="-1" strike="noStrike">
              <a:solidFill>
                <a:srgbClr val="000000"/>
              </a:solidFill>
              <a:latin typeface="Times New Roman"/>
            </a:endParaRPr>
          </a:p>
        </p:txBody>
      </p:sp>
      <p:sp>
        <p:nvSpPr>
          <p:cNvPr id="90" name="Rectangle 3"/>
          <p:cNvSpPr/>
          <p:nvPr/>
        </p:nvSpPr>
        <p:spPr>
          <a:xfrm>
            <a:off x="0" y="2263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 name="Group 4"/>
          <p:cNvGrpSpPr/>
          <p:nvPr/>
        </p:nvGrpSpPr>
        <p:grpSpPr>
          <a:xfrm>
            <a:off x="0" y="2263680"/>
            <a:ext cx="9144000" cy="2286000"/>
            <a:chOff x="0" y="2263680"/>
            <a:chExt cx="9144000" cy="2286000"/>
          </a:xfrm>
        </p:grpSpPr>
        <p:sp>
          <p:nvSpPr>
            <p:cNvPr id="92" name="Rectangle 5"/>
            <p:cNvSpPr/>
            <p:nvPr/>
          </p:nvSpPr>
          <p:spPr>
            <a:xfrm>
              <a:off x="0" y="22636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Rectangle 6"/>
            <p:cNvSpPr/>
            <p:nvPr/>
          </p:nvSpPr>
          <p:spPr>
            <a:xfrm>
              <a:off x="0" y="2263680"/>
              <a:ext cx="9144000" cy="228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400" spc="-1" strike="noStrike">
                  <a:solidFill>
                    <a:srgbClr val="000000"/>
                  </a:solidFill>
                  <a:latin typeface="Arial"/>
                  <a:ea typeface="Arial"/>
                </a:rPr>
                <a:t> </a:t>
              </a: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p:txBody>
        </p:sp>
      </p:grpSp>
      <p:pic>
        <p:nvPicPr>
          <p:cNvPr id="94" name="Picture 8" descr="http://www.geothermie.de/egec-geothernet/prof/fig60-1.gif"/>
          <p:cNvPicPr/>
          <p:nvPr/>
        </p:nvPicPr>
        <p:blipFill>
          <a:blip r:embed="rId1"/>
          <a:stretch/>
        </p:blipFill>
        <p:spPr>
          <a:xfrm>
            <a:off x="304920" y="838080"/>
            <a:ext cx="8458200" cy="5778720"/>
          </a:xfrm>
          <a:prstGeom prst="rect">
            <a:avLst/>
          </a:prstGeom>
          <a:ln w="0">
            <a:noFill/>
          </a:ln>
        </p:spPr>
      </p:pic>
      <p:sp>
        <p:nvSpPr>
          <p:cNvPr id="95" name="Rectangle 10"/>
          <p:cNvSpPr/>
          <p:nvPr/>
        </p:nvSpPr>
        <p:spPr>
          <a:xfrm>
            <a:off x="2362320" y="6172200"/>
            <a:ext cx="36576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 name="Picture 9" descr=""/>
          <p:cNvPicPr/>
          <p:nvPr/>
        </p:nvPicPr>
        <p:blipFill>
          <a:blip r:embed="rId2"/>
          <a:stretch/>
        </p:blipFill>
        <p:spPr>
          <a:xfrm>
            <a:off x="4267080" y="2819520"/>
            <a:ext cx="4692600" cy="3124080"/>
          </a:xfrm>
          <a:prstGeom prst="rect">
            <a:avLst/>
          </a:prstGeom>
          <a:ln w="0">
            <a:noFill/>
          </a:ln>
        </p:spPr>
      </p:pic>
      <p:sp>
        <p:nvSpPr>
          <p:cNvPr id="97" name="Ink 2"/>
          <p:cNvSpPr/>
          <p:nvPr/>
        </p:nvSpPr>
        <p:spPr>
          <a:xfrm>
            <a:off x="6643800" y="3430440"/>
            <a:ext cx="652320" cy="1252800"/>
          </a:xfrm>
          <a:custGeom>
            <a:avLst/>
            <a:gdLst/>
            <a:ahLst/>
            <a:rect l="l" t="t" r="r" b="b"/>
            <a:pathLst>
              <a:path w="1812" h="3477">
                <a:moveTo>
                  <a:pt x="18681" y="12554"/>
                </a:moveTo>
                <a:cubicBezTo>
                  <a:pt x="18675" y="12572"/>
                  <a:pt x="18661" y="12589"/>
                  <a:pt x="18658" y="12604"/>
                </a:cubicBezTo>
                <a:cubicBezTo>
                  <a:pt x="18648" y="12653"/>
                  <a:pt x="18637" y="12713"/>
                  <a:pt x="18639" y="12764"/>
                </a:cubicBezTo>
                <a:cubicBezTo>
                  <a:pt x="18640" y="12783"/>
                  <a:pt x="18649" y="12810"/>
                  <a:pt x="18650" y="12820"/>
                </a:cubicBezTo>
                <a:cubicBezTo>
                  <a:pt x="18663" y="12802"/>
                  <a:pt x="18689" y="12783"/>
                  <a:pt x="18706" y="12753"/>
                </a:cubicBezTo>
                <a:cubicBezTo>
                  <a:pt x="18737" y="12696"/>
                  <a:pt x="18759" y="12635"/>
                  <a:pt x="18790" y="12578"/>
                </a:cubicBezTo>
                <a:cubicBezTo>
                  <a:pt x="19062" y="12071"/>
                  <a:pt x="19327" y="11560"/>
                  <a:pt x="19609" y="11058"/>
                </a:cubicBezTo>
                <a:cubicBezTo>
                  <a:pt x="19763" y="10784"/>
                  <a:pt x="19879" y="10492"/>
                  <a:pt x="20031" y="10218"/>
                </a:cubicBezTo>
                <a:cubicBezTo>
                  <a:pt x="20056" y="10173"/>
                  <a:pt x="20119" y="10111"/>
                  <a:pt x="20131" y="10061"/>
                </a:cubicBezTo>
                <a:cubicBezTo>
                  <a:pt x="20137" y="10036"/>
                  <a:pt x="20119" y="10005"/>
                  <a:pt x="20124" y="9976"/>
                </a:cubicBezTo>
                <a:cubicBezTo>
                  <a:pt x="20145" y="9866"/>
                  <a:pt x="20196" y="9748"/>
                  <a:pt x="20233" y="9642"/>
                </a:cubicBezTo>
                <a:cubicBezTo>
                  <a:pt x="20244" y="9610"/>
                  <a:pt x="20251" y="9573"/>
                  <a:pt x="20258" y="9547"/>
                </a:cubicBezTo>
              </a:path>
              <a:path w="1812" h="3477">
                <a:moveTo>
                  <a:pt x="19982" y="9531"/>
                </a:moveTo>
                <a:cubicBezTo>
                  <a:pt x="19990" y="9557"/>
                  <a:pt x="19983" y="9556"/>
                  <a:pt x="20016" y="9558"/>
                </a:cubicBezTo>
                <a:cubicBezTo>
                  <a:pt x="20042" y="9559"/>
                  <a:pt x="20068" y="9557"/>
                  <a:pt x="20094" y="9554"/>
                </a:cubicBezTo>
                <a:cubicBezTo>
                  <a:pt x="20125" y="9551"/>
                  <a:pt x="20160" y="9544"/>
                  <a:pt x="20188" y="9562"/>
                </a:cubicBezTo>
                <a:cubicBezTo>
                  <a:pt x="20231" y="9590"/>
                  <a:pt x="20237" y="9647"/>
                  <a:pt x="20241" y="9693"/>
                </a:cubicBezTo>
                <a:cubicBezTo>
                  <a:pt x="20250" y="9807"/>
                  <a:pt x="20232" y="9915"/>
                  <a:pt x="20201" y="10024"/>
                </a:cubicBezTo>
                <a:cubicBezTo>
                  <a:pt x="20194" y="10049"/>
                  <a:pt x="20186" y="10075"/>
                  <a:pt x="20179" y="10100"/>
                </a:cubicBezTo>
              </a:path>
              <a:path w="1812" h="3477">
                <a:moveTo>
                  <a:pt x="18454" y="12459"/>
                </a:moveTo>
                <a:cubicBezTo>
                  <a:pt x="18480" y="12507"/>
                  <a:pt x="18502" y="12553"/>
                  <a:pt x="18520" y="12605"/>
                </a:cubicBezTo>
                <a:cubicBezTo>
                  <a:pt x="18551" y="12697"/>
                  <a:pt x="18569" y="12787"/>
                  <a:pt x="18571" y="12884"/>
                </a:cubicBezTo>
                <a:cubicBezTo>
                  <a:pt x="18571" y="12904"/>
                  <a:pt x="18578" y="12978"/>
                  <a:pt x="18557" y="12993"/>
                </a:cubicBezTo>
                <a:cubicBezTo>
                  <a:pt x="18547" y="12997"/>
                  <a:pt x="18544" y="12999"/>
                  <a:pt x="18536" y="12996"/>
                </a:cubicBezTo>
                <a:cubicBezTo>
                  <a:pt x="18539" y="12975"/>
                  <a:pt x="18533" y="12964"/>
                  <a:pt x="18550" y="12948"/>
                </a:cubicBezTo>
                <a:cubicBezTo>
                  <a:pt x="18572" y="12927"/>
                  <a:pt x="18631" y="12947"/>
                  <a:pt x="18653" y="12954"/>
                </a:cubicBezTo>
                <a:cubicBezTo>
                  <a:pt x="18705" y="12970"/>
                  <a:pt x="18755" y="12988"/>
                  <a:pt x="18808" y="13000"/>
                </a:cubicBezTo>
                <a:cubicBezTo>
                  <a:pt x="18845" y="13008"/>
                  <a:pt x="18881" y="13013"/>
                  <a:pt x="18916" y="12998"/>
                </a:cubicBezTo>
                <a:cubicBezTo>
                  <a:pt x="18921" y="12995"/>
                  <a:pt x="18926" y="12993"/>
                  <a:pt x="18931" y="12990"/>
                </a:cubicBezTo>
                <a:cubicBezTo>
                  <a:pt x="18933" y="12950"/>
                  <a:pt x="18922" y="12925"/>
                  <a:pt x="18899" y="12891"/>
                </a:cubicBezTo>
                <a:cubicBezTo>
                  <a:pt x="18813" y="12768"/>
                  <a:pt x="18693" y="12646"/>
                  <a:pt x="18565" y="12567"/>
                </a:cubicBezTo>
                <a:cubicBezTo>
                  <a:pt x="18561" y="12565"/>
                  <a:pt x="18512" y="12545"/>
                  <a:pt x="18515" y="12534"/>
                </a:cubicBezTo>
                <a:cubicBezTo>
                  <a:pt x="18517" y="12529"/>
                  <a:pt x="18538" y="12523"/>
                  <a:pt x="18543" y="1251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Ink 3"/>
          <p:cNvSpPr/>
          <p:nvPr/>
        </p:nvSpPr>
        <p:spPr>
          <a:xfrm>
            <a:off x="8986680" y="4937040"/>
            <a:ext cx="154080" cy="47880"/>
          </a:xfrm>
          <a:custGeom>
            <a:avLst/>
            <a:gdLst/>
            <a:ahLst/>
            <a:rect l="l" t="t" r="r" b="b"/>
            <a:pathLst>
              <a:path w="429" h="129">
                <a:moveTo>
                  <a:pt x="24962" y="13809"/>
                </a:moveTo>
                <a:lnTo>
                  <a:pt x="24962" y="13809"/>
                </a:lnTo>
                <a:lnTo>
                  <a:pt x="24962" y="13809"/>
                </a:lnTo>
                <a:lnTo>
                  <a:pt x="24962" y="13809"/>
                </a:lnTo>
                <a:lnTo>
                  <a:pt x="24962" y="13809"/>
                </a:lnTo>
                <a:lnTo>
                  <a:pt x="24962" y="13809"/>
                </a:lnTo>
                <a:lnTo>
                  <a:pt x="24962" y="13809"/>
                </a:lnTo>
                <a:lnTo>
                  <a:pt x="24962" y="13809"/>
                </a:lnTo>
                <a:lnTo>
                  <a:pt x="24962" y="13809"/>
                </a:lnTo>
                <a:lnTo>
                  <a:pt x="24962" y="13809"/>
                </a:lnTo>
                <a:lnTo>
                  <a:pt x="24962" y="13809"/>
                </a:lnTo>
                <a:lnTo>
                  <a:pt x="24962" y="13809"/>
                </a:lnTo>
                <a:lnTo>
                  <a:pt x="24962" y="13809"/>
                </a:lnTo>
                <a:lnTo>
                  <a:pt x="24962" y="13809"/>
                </a:lnTo>
              </a:path>
              <a:path w="429" h="129">
                <a:moveTo>
                  <a:pt x="25390" y="13716"/>
                </a:moveTo>
                <a:lnTo>
                  <a:pt x="25390" y="13716"/>
                </a:lnTo>
              </a:path>
              <a:path w="429" h="129">
                <a:moveTo>
                  <a:pt x="25381" y="13844"/>
                </a:move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lnTo>
                  <a:pt x="25381" y="13844"/>
                </a:lnTo>
              </a:path>
            </a:pathLst>
          </a:custGeom>
          <a:noFill/>
          <a:ln cap="rnd" w="19080">
            <a:solidFill>
              <a:srgbClr val="ff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94"/>
                                        </p:tgtEl>
                                        <p:attrNameLst>
                                          <p:attrName>style.visibility</p:attrName>
                                        </p:attrNameLst>
                                      </p:cBhvr>
                                      <p:to>
                                        <p:strVal val="visible"/>
                                      </p:to>
                                    </p:set>
                                    <p:animEffect filter="dissolve" transition="in">
                                      <p:cBhvr additive="repl">
                                        <p:cTn id="95" dur="500"/>
                                        <p:tgtEl>
                                          <p:spTgt spid="94"/>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96"/>
                                        </p:tgtEl>
                                        <p:attrNameLst>
                                          <p:attrName>style.visibility</p:attrName>
                                        </p:attrNameLst>
                                      </p:cBhvr>
                                      <p:to>
                                        <p:strVal val="visible"/>
                                      </p:to>
                                    </p:set>
                                    <p:animEffect filter="dissolve" transition="in">
                                      <p:cBhvr additive="repl">
                                        <p:cTn id="10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Characteristic Parameter</a:t>
            </a:r>
            <a:endParaRPr b="0" lang="en-US" sz="2800" spc="-1" strike="noStrike">
              <a:solidFill>
                <a:srgbClr val="000000"/>
              </a:solidFill>
              <a:latin typeface="Times New Roman"/>
            </a:endParaRPr>
          </a:p>
        </p:txBody>
      </p:sp>
      <p:sp>
        <p:nvSpPr>
          <p:cNvPr id="100" name="PlaceHolder 2"/>
          <p:cNvSpPr>
            <a:spLocks noGrp="1"/>
          </p:cNvSpPr>
          <p:nvPr>
            <p:ph/>
          </p:nvPr>
        </p:nvSpPr>
        <p:spPr>
          <a:xfrm>
            <a:off x="-360" y="1218960"/>
            <a:ext cx="8915400" cy="24382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rmal length </a:t>
            </a:r>
            <a:r>
              <a:rPr b="0" lang="en-US" sz="2000" spc="-1" strike="noStrike">
                <a:solidFill>
                  <a:srgbClr val="000000"/>
                </a:solidFill>
                <a:latin typeface="Times New Roman"/>
              </a:rPr>
              <a:t>is a dimensionless number that allows the design engineer to relate the performance characteristics of a channel geometry to those of a duty requiremen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mal length (Θ) is the relationship between temperature difference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T</a:t>
            </a:r>
            <a:r>
              <a:rPr b="0" lang="en-US" sz="2000" spc="-1" strike="noStrike">
                <a:solidFill>
                  <a:srgbClr val="000000"/>
                </a:solidFill>
                <a:latin typeface="Times New Roman"/>
              </a:rPr>
              <a:t> on one fluid side and LMT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hermal length of a channel describes the ability of the channel to affect a temperature change based on the log mean temperature difference </a:t>
            </a:r>
            <a:r>
              <a:rPr b="0" i="1" lang="en-US" sz="2000" spc="-1" strike="noStrike">
                <a:solidFill>
                  <a:srgbClr val="000000"/>
                </a:solidFill>
                <a:latin typeface="Times New Roman"/>
              </a:rPr>
              <a:t>(LMTD).</a:t>
            </a:r>
            <a:endParaRPr b="0" lang="en-US" sz="2000" spc="-1" strike="noStrike">
              <a:solidFill>
                <a:srgbClr val="000000"/>
              </a:solidFill>
              <a:latin typeface="Times New Roman"/>
            </a:endParaRPr>
          </a:p>
        </p:txBody>
      </p:sp>
      <mc:AlternateContent>
        <mc:Choice xmlns:a14="http://schemas.microsoft.com/office/drawing/2010/main" Requires="a14">
          <p:sp>
            <p:nvSpPr>
              <p:cNvPr id="101" name="Object 4"/>
              <p:cNvSpPr txBox="1"/>
              <p:nvPr/>
            </p:nvSpPr>
            <p:spPr>
              <a:xfrm>
                <a:off x="838080" y="3733920"/>
                <a:ext cx="1905120" cy="907920"/>
              </a:xfrm>
              <a:prstGeom prst="rect">
                <a:avLst/>
              </a:prstGeom>
            </p:spPr>
            <p:txBody>
              <a:bodyPr/>
              <a:p>
                <a14:m>
                  <m:oMath xmlns:m="http://schemas.openxmlformats.org/officeDocument/2006/math">
                    <m:r>
                      <m:t xml:space="preserve">Θ</m:t>
                    </m:r>
                    <m:r>
                      <m:t xml:space="preserve">=</m:t>
                    </m:r>
                    <m:f>
                      <m:num>
                        <m:sSub>
                          <m:e>
                            <m:r>
                              <m:t xml:space="preserve">T</m:t>
                            </m:r>
                          </m:e>
                          <m:sub>
                            <m:r>
                              <m:rPr>
                                <m:lit/>
                                <m:nor/>
                              </m:rPr>
                              <m:t xml:space="preserve">in</m:t>
                            </m:r>
                          </m:sub>
                        </m:sSub>
                        <m:r>
                          <m:t xml:space="preserve">−</m:t>
                        </m:r>
                        <m:sSub>
                          <m:e>
                            <m:r>
                              <m:t xml:space="preserve">T</m:t>
                            </m:r>
                          </m:e>
                          <m:sub>
                            <m:r>
                              <m:rPr>
                                <m:lit/>
                                <m:nor/>
                              </m:rPr>
                              <m:t xml:space="preserve">out</m:t>
                            </m:r>
                          </m:sub>
                        </m:sSub>
                      </m:num>
                      <m:den>
                        <m:r>
                          <m:rPr>
                            <m:lit/>
                            <m:nor/>
                          </m:rPr>
                          <m:t xml:space="preserve">LMTD</m:t>
                        </m:r>
                      </m:den>
                    </m:f>
                  </m:oMath>
                </a14:m>
              </a:p>
            </p:txBody>
          </p:sp>
        </mc:Choice>
        <mc:Fallback/>
      </mc:AlternateContent>
      <p:sp>
        <p:nvSpPr>
          <p:cNvPr id="102" name="Rectangle 5"/>
          <p:cNvSpPr/>
          <p:nvPr/>
        </p:nvSpPr>
        <p:spPr>
          <a:xfrm>
            <a:off x="76320" y="5105520"/>
            <a:ext cx="8991360" cy="167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hermal length of a channel is a function of the channel hydraulic diameter, plate length, and the angle of the corrugations, along with the physical properties of the process fluids and available pressure drop.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properly design a PHE, the thermal length required by the duty must be matched with that achievable by the selected channel geometr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Ink 6"/>
          <p:cNvSpPr/>
          <p:nvPr/>
        </p:nvSpPr>
        <p:spPr>
          <a:xfrm>
            <a:off x="3576600" y="3594240"/>
            <a:ext cx="225360" cy="430200"/>
          </a:xfrm>
          <a:custGeom>
            <a:avLst/>
            <a:gdLst/>
            <a:ahLst/>
            <a:rect l="l" t="t" r="r" b="b"/>
            <a:pathLst>
              <a:path w="630" h="1193">
                <a:moveTo>
                  <a:pt x="10153" y="10553"/>
                </a:moveTo>
                <a:cubicBezTo>
                  <a:pt x="10154" y="10520"/>
                  <a:pt x="10156" y="10488"/>
                  <a:pt x="10156" y="10455"/>
                </a:cubicBezTo>
                <a:cubicBezTo>
                  <a:pt x="10156" y="10439"/>
                  <a:pt x="10154" y="10424"/>
                  <a:pt x="10153" y="10408"/>
                </a:cubicBezTo>
                <a:cubicBezTo>
                  <a:pt x="10127" y="10410"/>
                  <a:pt x="10121" y="10409"/>
                  <a:pt x="10096" y="10422"/>
                </a:cubicBezTo>
                <a:cubicBezTo>
                  <a:pt x="10018" y="10464"/>
                  <a:pt x="9967" y="10569"/>
                  <a:pt x="9946" y="10650"/>
                </a:cubicBezTo>
                <a:cubicBezTo>
                  <a:pt x="9934" y="10698"/>
                  <a:pt x="9933" y="10746"/>
                  <a:pt x="9933" y="10796"/>
                </a:cubicBezTo>
                <a:cubicBezTo>
                  <a:pt x="9933" y="10850"/>
                  <a:pt x="9942" y="10905"/>
                  <a:pt x="9959" y="10956"/>
                </a:cubicBezTo>
                <a:cubicBezTo>
                  <a:pt x="9976" y="11008"/>
                  <a:pt x="9999" y="11060"/>
                  <a:pt x="10033" y="11103"/>
                </a:cubicBezTo>
                <a:cubicBezTo>
                  <a:pt x="10077" y="11159"/>
                  <a:pt x="10151" y="11191"/>
                  <a:pt x="10222" y="11176"/>
                </a:cubicBezTo>
                <a:cubicBezTo>
                  <a:pt x="10270" y="11166"/>
                  <a:pt x="10321" y="11130"/>
                  <a:pt x="10353" y="11093"/>
                </a:cubicBezTo>
                <a:cubicBezTo>
                  <a:pt x="10391" y="11048"/>
                  <a:pt x="10411" y="10989"/>
                  <a:pt x="10419" y="10931"/>
                </a:cubicBezTo>
                <a:cubicBezTo>
                  <a:pt x="10434" y="10818"/>
                  <a:pt x="10415" y="10706"/>
                  <a:pt x="10381" y="10598"/>
                </a:cubicBezTo>
                <a:cubicBezTo>
                  <a:pt x="10356" y="10520"/>
                  <a:pt x="10318" y="10404"/>
                  <a:pt x="10242" y="10360"/>
                </a:cubicBezTo>
                <a:cubicBezTo>
                  <a:pt x="10212" y="10343"/>
                  <a:pt x="10168" y="10345"/>
                  <a:pt x="10138" y="10359"/>
                </a:cubicBezTo>
                <a:cubicBezTo>
                  <a:pt x="10098" y="10378"/>
                  <a:pt x="10069" y="10418"/>
                  <a:pt x="10046" y="10454"/>
                </a:cubicBezTo>
                <a:cubicBezTo>
                  <a:pt x="10019" y="10497"/>
                  <a:pt x="10012" y="10551"/>
                  <a:pt x="10005" y="10600"/>
                </a:cubicBezTo>
              </a:path>
              <a:path w="630" h="1193">
                <a:moveTo>
                  <a:pt x="9981" y="10940"/>
                </a:moveTo>
                <a:cubicBezTo>
                  <a:pt x="9982" y="10917"/>
                  <a:pt x="9981" y="10887"/>
                  <a:pt x="9992" y="10866"/>
                </a:cubicBezTo>
                <a:cubicBezTo>
                  <a:pt x="10006" y="10838"/>
                  <a:pt x="10037" y="10827"/>
                  <a:pt x="10067" y="10827"/>
                </a:cubicBezTo>
                <a:cubicBezTo>
                  <a:pt x="10136" y="10827"/>
                  <a:pt x="10192" y="10880"/>
                  <a:pt x="10239" y="10923"/>
                </a:cubicBezTo>
                <a:cubicBezTo>
                  <a:pt x="10290" y="10969"/>
                  <a:pt x="10334" y="11031"/>
                  <a:pt x="10391" y="11069"/>
                </a:cubicBezTo>
                <a:cubicBezTo>
                  <a:pt x="10428" y="11093"/>
                  <a:pt x="10445" y="11079"/>
                  <a:pt x="10467" y="11050"/>
                </a:cubicBezTo>
                <a:cubicBezTo>
                  <a:pt x="10502" y="11005"/>
                  <a:pt x="10516" y="10947"/>
                  <a:pt x="10532" y="10893"/>
                </a:cubicBezTo>
                <a:cubicBezTo>
                  <a:pt x="10548" y="10841"/>
                  <a:pt x="10560" y="10788"/>
                  <a:pt x="10562" y="10733"/>
                </a:cubicBezTo>
                <a:cubicBezTo>
                  <a:pt x="10563" y="10702"/>
                  <a:pt x="10565" y="10680"/>
                  <a:pt x="10538" y="10660"/>
                </a:cubicBezTo>
                <a:cubicBezTo>
                  <a:pt x="10524" y="10650"/>
                  <a:pt x="10508" y="10642"/>
                  <a:pt x="10494" y="10632"/>
                </a:cubicBezTo>
              </a:path>
              <a:path w="630" h="1193">
                <a:moveTo>
                  <a:pt x="10333" y="10057"/>
                </a:moveTo>
                <a:cubicBezTo>
                  <a:pt x="10340" y="10071"/>
                  <a:pt x="10346" y="10087"/>
                  <a:pt x="10354" y="10101"/>
                </a:cubicBezTo>
                <a:cubicBezTo>
                  <a:pt x="10368" y="10124"/>
                  <a:pt x="10387" y="10138"/>
                  <a:pt x="10407" y="10116"/>
                </a:cubicBezTo>
                <a:cubicBezTo>
                  <a:pt x="10426" y="10095"/>
                  <a:pt x="10430" y="10060"/>
                  <a:pt x="10431" y="10033"/>
                </a:cubicBezTo>
                <a:cubicBezTo>
                  <a:pt x="10432" y="10013"/>
                  <a:pt x="10434" y="9984"/>
                  <a:pt x="10407" y="9984"/>
                </a:cubicBezTo>
                <a:cubicBezTo>
                  <a:pt x="10377" y="9984"/>
                  <a:pt x="10368" y="10019"/>
                  <a:pt x="10366" y="10042"/>
                </a:cubicBezTo>
                <a:cubicBezTo>
                  <a:pt x="10363" y="10078"/>
                  <a:pt x="10374" y="10091"/>
                  <a:pt x="10404" y="1010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Ink 7"/>
          <p:cNvSpPr/>
          <p:nvPr/>
        </p:nvSpPr>
        <p:spPr>
          <a:xfrm>
            <a:off x="4059360" y="3743280"/>
            <a:ext cx="91800" cy="127080"/>
          </a:xfrm>
          <a:custGeom>
            <a:avLst/>
            <a:gdLst/>
            <a:ahLst/>
            <a:rect l="l" t="t" r="r" b="b"/>
            <a:pathLst>
              <a:path w="253" h="351">
                <a:moveTo>
                  <a:pt x="11277" y="10490"/>
                </a:moveTo>
                <a:cubicBezTo>
                  <a:pt x="11277" y="10495"/>
                  <a:pt x="11277" y="10500"/>
                  <a:pt x="11277" y="10505"/>
                </a:cubicBezTo>
                <a:cubicBezTo>
                  <a:pt x="11298" y="10492"/>
                  <a:pt x="11316" y="10477"/>
                  <a:pt x="11336" y="10464"/>
                </a:cubicBezTo>
                <a:cubicBezTo>
                  <a:pt x="11365" y="10445"/>
                  <a:pt x="11395" y="10438"/>
                  <a:pt x="11426" y="10424"/>
                </a:cubicBezTo>
                <a:cubicBezTo>
                  <a:pt x="11449" y="10414"/>
                  <a:pt x="11471" y="10407"/>
                  <a:pt x="11494" y="10399"/>
                </a:cubicBezTo>
              </a:path>
              <a:path w="253" h="351">
                <a:moveTo>
                  <a:pt x="11440" y="10616"/>
                </a:moveTo>
                <a:cubicBezTo>
                  <a:pt x="11417" y="10658"/>
                  <a:pt x="11383" y="10701"/>
                  <a:pt x="11380" y="10749"/>
                </a:cubicBezTo>
                <a:cubicBezTo>
                  <a:pt x="11425" y="10742"/>
                  <a:pt x="11450" y="10720"/>
                  <a:pt x="11490" y="10698"/>
                </a:cubicBezTo>
                <a:cubicBezTo>
                  <a:pt x="11503" y="10692"/>
                  <a:pt x="11516" y="10686"/>
                  <a:pt x="11529" y="1068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Ink 8"/>
          <p:cNvSpPr/>
          <p:nvPr/>
        </p:nvSpPr>
        <p:spPr>
          <a:xfrm>
            <a:off x="4278240" y="3498840"/>
            <a:ext cx="620640" cy="485640"/>
          </a:xfrm>
          <a:custGeom>
            <a:avLst/>
            <a:gdLst/>
            <a:ahLst/>
            <a:rect l="l" t="t" r="r" b="b"/>
            <a:pathLst>
              <a:path w="1726" h="1350">
                <a:moveTo>
                  <a:pt x="12018" y="10322"/>
                </a:moveTo>
                <a:cubicBezTo>
                  <a:pt x="12021" y="10310"/>
                  <a:pt x="12027" y="10286"/>
                  <a:pt x="12039" y="10277"/>
                </a:cubicBezTo>
                <a:cubicBezTo>
                  <a:pt x="12056" y="10265"/>
                  <a:pt x="12085" y="10267"/>
                  <a:pt x="12104" y="10273"/>
                </a:cubicBezTo>
                <a:cubicBezTo>
                  <a:pt x="12137" y="10284"/>
                  <a:pt x="12164" y="10311"/>
                  <a:pt x="12185" y="10338"/>
                </a:cubicBezTo>
                <a:cubicBezTo>
                  <a:pt x="12213" y="10373"/>
                  <a:pt x="12228" y="10413"/>
                  <a:pt x="12239" y="10456"/>
                </a:cubicBezTo>
                <a:cubicBezTo>
                  <a:pt x="12248" y="10489"/>
                  <a:pt x="12251" y="10520"/>
                  <a:pt x="12251" y="10554"/>
                </a:cubicBezTo>
                <a:cubicBezTo>
                  <a:pt x="12251" y="10575"/>
                  <a:pt x="12243" y="10581"/>
                  <a:pt x="12237" y="10595"/>
                </a:cubicBezTo>
                <a:cubicBezTo>
                  <a:pt x="12232" y="10560"/>
                  <a:pt x="12229" y="10523"/>
                  <a:pt x="12232" y="10487"/>
                </a:cubicBezTo>
                <a:cubicBezTo>
                  <a:pt x="12238" y="10422"/>
                  <a:pt x="12255" y="10326"/>
                  <a:pt x="12307" y="10281"/>
                </a:cubicBezTo>
                <a:cubicBezTo>
                  <a:pt x="12334" y="10257"/>
                  <a:pt x="12363" y="10266"/>
                  <a:pt x="12386" y="10288"/>
                </a:cubicBezTo>
                <a:cubicBezTo>
                  <a:pt x="12411" y="10311"/>
                  <a:pt x="12427" y="10345"/>
                  <a:pt x="12437" y="10377"/>
                </a:cubicBezTo>
                <a:cubicBezTo>
                  <a:pt x="12447" y="10407"/>
                  <a:pt x="12448" y="10437"/>
                  <a:pt x="12448" y="10468"/>
                </a:cubicBezTo>
                <a:cubicBezTo>
                  <a:pt x="12443" y="10457"/>
                  <a:pt x="12435" y="10439"/>
                  <a:pt x="12440" y="10416"/>
                </a:cubicBezTo>
                <a:cubicBezTo>
                  <a:pt x="12447" y="10387"/>
                  <a:pt x="12463" y="10355"/>
                  <a:pt x="12490" y="10339"/>
                </a:cubicBezTo>
                <a:cubicBezTo>
                  <a:pt x="12518" y="10323"/>
                  <a:pt x="12548" y="10334"/>
                  <a:pt x="12566" y="10359"/>
                </a:cubicBezTo>
                <a:cubicBezTo>
                  <a:pt x="12596" y="10401"/>
                  <a:pt x="12596" y="10452"/>
                  <a:pt x="12597" y="10501"/>
                </a:cubicBezTo>
                <a:cubicBezTo>
                  <a:pt x="12598" y="10543"/>
                  <a:pt x="12599" y="10590"/>
                  <a:pt x="12582" y="10630"/>
                </a:cubicBezTo>
                <a:cubicBezTo>
                  <a:pt x="12574" y="10641"/>
                  <a:pt x="12573" y="10646"/>
                  <a:pt x="12563" y="10643"/>
                </a:cubicBezTo>
                <a:cubicBezTo>
                  <a:pt x="12555" y="10603"/>
                  <a:pt x="12549" y="10564"/>
                  <a:pt x="12544" y="10523"/>
                </a:cubicBezTo>
              </a:path>
              <a:path w="1726" h="1350">
                <a:moveTo>
                  <a:pt x="12456" y="10014"/>
                </a:moveTo>
                <a:cubicBezTo>
                  <a:pt x="12446" y="10001"/>
                  <a:pt x="12423" y="9983"/>
                  <a:pt x="12452" y="9981"/>
                </a:cubicBezTo>
                <a:cubicBezTo>
                  <a:pt x="12459" y="9981"/>
                  <a:pt x="12467" y="9981"/>
                  <a:pt x="12474" y="9981"/>
                </a:cubicBezTo>
              </a:path>
              <a:path w="1726" h="1350">
                <a:moveTo>
                  <a:pt x="13010" y="10161"/>
                </a:moveTo>
                <a:cubicBezTo>
                  <a:pt x="13028" y="10148"/>
                  <a:pt x="13056" y="10133"/>
                  <a:pt x="13061" y="10110"/>
                </a:cubicBezTo>
                <a:cubicBezTo>
                  <a:pt x="13067" y="10083"/>
                  <a:pt x="13064" y="10042"/>
                  <a:pt x="13030" y="10038"/>
                </a:cubicBezTo>
                <a:cubicBezTo>
                  <a:pt x="13009" y="10036"/>
                  <a:pt x="12999" y="10049"/>
                  <a:pt x="12985" y="10063"/>
                </a:cubicBezTo>
                <a:cubicBezTo>
                  <a:pt x="12959" y="10090"/>
                  <a:pt x="12944" y="10120"/>
                  <a:pt x="12929" y="10154"/>
                </a:cubicBezTo>
                <a:cubicBezTo>
                  <a:pt x="12908" y="10203"/>
                  <a:pt x="12895" y="10255"/>
                  <a:pt x="12888" y="10308"/>
                </a:cubicBezTo>
                <a:cubicBezTo>
                  <a:pt x="12880" y="10366"/>
                  <a:pt x="12877" y="10431"/>
                  <a:pt x="12886" y="10489"/>
                </a:cubicBezTo>
                <a:cubicBezTo>
                  <a:pt x="12896" y="10557"/>
                  <a:pt x="12928" y="10637"/>
                  <a:pt x="12996" y="10664"/>
                </a:cubicBezTo>
                <a:cubicBezTo>
                  <a:pt x="13033" y="10679"/>
                  <a:pt x="13073" y="10675"/>
                  <a:pt x="13109" y="10661"/>
                </a:cubicBezTo>
                <a:cubicBezTo>
                  <a:pt x="13156" y="10643"/>
                  <a:pt x="13174" y="10612"/>
                  <a:pt x="13204" y="10577"/>
                </a:cubicBezTo>
                <a:cubicBezTo>
                  <a:pt x="13215" y="10564"/>
                  <a:pt x="13221" y="10567"/>
                  <a:pt x="13232" y="10560"/>
                </a:cubicBezTo>
              </a:path>
              <a:path w="1726" h="1350">
                <a:moveTo>
                  <a:pt x="13341" y="9842"/>
                </a:moveTo>
                <a:cubicBezTo>
                  <a:pt x="13359" y="9821"/>
                  <a:pt x="13348" y="9811"/>
                  <a:pt x="13384" y="9820"/>
                </a:cubicBezTo>
                <a:cubicBezTo>
                  <a:pt x="13499" y="9849"/>
                  <a:pt x="13574" y="10083"/>
                  <a:pt x="13591" y="10176"/>
                </a:cubicBezTo>
                <a:cubicBezTo>
                  <a:pt x="13629" y="10378"/>
                  <a:pt x="13598" y="10576"/>
                  <a:pt x="13550" y="10773"/>
                </a:cubicBezTo>
                <a:cubicBezTo>
                  <a:pt x="13529" y="10858"/>
                  <a:pt x="13501" y="10914"/>
                  <a:pt x="13438" y="10971"/>
                </a:cubicBezTo>
              </a:path>
              <a:path w="1726" h="1350">
                <a:moveTo>
                  <a:pt x="12128" y="9767"/>
                </a:moveTo>
                <a:cubicBezTo>
                  <a:pt x="12113" y="9750"/>
                  <a:pt x="12088" y="9708"/>
                  <a:pt x="12057" y="9719"/>
                </a:cubicBezTo>
                <a:cubicBezTo>
                  <a:pt x="12026" y="9730"/>
                  <a:pt x="12016" y="9792"/>
                  <a:pt x="12006" y="9817"/>
                </a:cubicBezTo>
                <a:cubicBezTo>
                  <a:pt x="11980" y="9885"/>
                  <a:pt x="11963" y="9954"/>
                  <a:pt x="11943" y="10024"/>
                </a:cubicBezTo>
                <a:cubicBezTo>
                  <a:pt x="11914" y="10127"/>
                  <a:pt x="11897" y="10231"/>
                  <a:pt x="11888" y="10338"/>
                </a:cubicBezTo>
                <a:cubicBezTo>
                  <a:pt x="11873" y="10520"/>
                  <a:pt x="11878" y="10715"/>
                  <a:pt x="11962" y="10882"/>
                </a:cubicBezTo>
                <a:cubicBezTo>
                  <a:pt x="12012" y="10981"/>
                  <a:pt x="12090" y="11021"/>
                  <a:pt x="12184" y="1106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Ink 9"/>
          <p:cNvSpPr/>
          <p:nvPr/>
        </p:nvSpPr>
        <p:spPr>
          <a:xfrm>
            <a:off x="5145120" y="3473280"/>
            <a:ext cx="1182600" cy="408240"/>
          </a:xfrm>
          <a:custGeom>
            <a:avLst/>
            <a:gdLst/>
            <a:ahLst/>
            <a:rect l="l" t="t" r="r" b="b"/>
            <a:pathLst>
              <a:path w="3287" h="1132">
                <a:moveTo>
                  <a:pt x="14339" y="9732"/>
                </a:moveTo>
                <a:cubicBezTo>
                  <a:pt x="14344" y="9705"/>
                  <a:pt x="14352" y="9683"/>
                  <a:pt x="14360" y="9660"/>
                </a:cubicBezTo>
                <a:cubicBezTo>
                  <a:pt x="14361" y="9656"/>
                  <a:pt x="14362" y="9652"/>
                  <a:pt x="14363" y="9648"/>
                </a:cubicBezTo>
                <a:cubicBezTo>
                  <a:pt x="14359" y="9677"/>
                  <a:pt x="14355" y="9707"/>
                  <a:pt x="14350" y="9736"/>
                </a:cubicBezTo>
                <a:cubicBezTo>
                  <a:pt x="14331" y="9859"/>
                  <a:pt x="14311" y="9983"/>
                  <a:pt x="14301" y="10107"/>
                </a:cubicBezTo>
                <a:cubicBezTo>
                  <a:pt x="14293" y="10208"/>
                  <a:pt x="14285" y="10312"/>
                  <a:pt x="14293" y="10413"/>
                </a:cubicBezTo>
                <a:cubicBezTo>
                  <a:pt x="14300" y="10500"/>
                  <a:pt x="14319" y="10589"/>
                  <a:pt x="14359" y="10667"/>
                </a:cubicBezTo>
                <a:cubicBezTo>
                  <a:pt x="14388" y="10724"/>
                  <a:pt x="14425" y="10760"/>
                  <a:pt x="14487" y="10773"/>
                </a:cubicBezTo>
                <a:cubicBezTo>
                  <a:pt x="14533" y="10783"/>
                  <a:pt x="14550" y="10772"/>
                  <a:pt x="14591" y="10754"/>
                </a:cubicBezTo>
              </a:path>
              <a:path w="3287" h="1132">
                <a:moveTo>
                  <a:pt x="14646" y="10246"/>
                </a:moveTo>
                <a:cubicBezTo>
                  <a:pt x="14641" y="10209"/>
                  <a:pt x="14636" y="10171"/>
                  <a:pt x="14635" y="10134"/>
                </a:cubicBezTo>
                <a:cubicBezTo>
                  <a:pt x="14661" y="10143"/>
                  <a:pt x="14660" y="10176"/>
                  <a:pt x="14665" y="10204"/>
                </a:cubicBezTo>
                <a:cubicBezTo>
                  <a:pt x="14679" y="10274"/>
                  <a:pt x="14684" y="10345"/>
                  <a:pt x="14689" y="10416"/>
                </a:cubicBezTo>
                <a:cubicBezTo>
                  <a:pt x="14694" y="10491"/>
                  <a:pt x="14698" y="10567"/>
                  <a:pt x="14701" y="10642"/>
                </a:cubicBezTo>
                <a:cubicBezTo>
                  <a:pt x="14702" y="10664"/>
                  <a:pt x="14702" y="10706"/>
                  <a:pt x="14702" y="10684"/>
                </a:cubicBezTo>
              </a:path>
              <a:path w="3287" h="1132">
                <a:moveTo>
                  <a:pt x="14483" y="10112"/>
                </a:moveTo>
                <a:cubicBezTo>
                  <a:pt x="14468" y="10103"/>
                  <a:pt x="14464" y="10100"/>
                  <a:pt x="14453" y="10102"/>
                </a:cubicBezTo>
                <a:cubicBezTo>
                  <a:pt x="14478" y="10102"/>
                  <a:pt x="14502" y="10102"/>
                  <a:pt x="14526" y="10098"/>
                </a:cubicBezTo>
                <a:cubicBezTo>
                  <a:pt x="14584" y="10090"/>
                  <a:pt x="14644" y="10079"/>
                  <a:pt x="14702" y="10068"/>
                </a:cubicBezTo>
                <a:cubicBezTo>
                  <a:pt x="14748" y="10057"/>
                  <a:pt x="14764" y="10053"/>
                  <a:pt x="14796" y="10054"/>
                </a:cubicBezTo>
              </a:path>
              <a:path w="3287" h="1132">
                <a:moveTo>
                  <a:pt x="15001" y="10249"/>
                </a:moveTo>
                <a:cubicBezTo>
                  <a:pt x="15004" y="10329"/>
                  <a:pt x="15004" y="10409"/>
                  <a:pt x="15005" y="10489"/>
                </a:cubicBezTo>
                <a:cubicBezTo>
                  <a:pt x="15006" y="10548"/>
                  <a:pt x="15007" y="10607"/>
                  <a:pt x="15022" y="10664"/>
                </a:cubicBezTo>
                <a:cubicBezTo>
                  <a:pt x="15029" y="10691"/>
                  <a:pt x="15040" y="10729"/>
                  <a:pt x="15073" y="10727"/>
                </a:cubicBezTo>
                <a:cubicBezTo>
                  <a:pt x="15107" y="10725"/>
                  <a:pt x="15115" y="10694"/>
                  <a:pt x="15132" y="10668"/>
                </a:cubicBezTo>
              </a:path>
              <a:path w="3287" h="1132">
                <a:moveTo>
                  <a:pt x="15100" y="10179"/>
                </a:moveTo>
                <a:cubicBezTo>
                  <a:pt x="15077" y="10156"/>
                  <a:pt x="15060" y="10141"/>
                  <a:pt x="15058" y="10106"/>
                </a:cubicBezTo>
                <a:cubicBezTo>
                  <a:pt x="15057" y="10084"/>
                  <a:pt x="15069" y="10073"/>
                  <a:pt x="15086" y="10065"/>
                </a:cubicBezTo>
              </a:path>
              <a:path w="3287" h="1132">
                <a:moveTo>
                  <a:pt x="15266" y="10493"/>
                </a:moveTo>
                <a:cubicBezTo>
                  <a:pt x="15269" y="10468"/>
                  <a:pt x="15274" y="10445"/>
                  <a:pt x="15289" y="10424"/>
                </a:cubicBezTo>
                <a:cubicBezTo>
                  <a:pt x="15301" y="10408"/>
                  <a:pt x="15321" y="10386"/>
                  <a:pt x="15341" y="10381"/>
                </a:cubicBezTo>
                <a:cubicBezTo>
                  <a:pt x="15363" y="10375"/>
                  <a:pt x="15373" y="10389"/>
                  <a:pt x="15379" y="10408"/>
                </a:cubicBezTo>
                <a:cubicBezTo>
                  <a:pt x="15386" y="10431"/>
                  <a:pt x="15384" y="10459"/>
                  <a:pt x="15378" y="10482"/>
                </a:cubicBezTo>
                <a:cubicBezTo>
                  <a:pt x="15374" y="10500"/>
                  <a:pt x="15371" y="10503"/>
                  <a:pt x="15356" y="10508"/>
                </a:cubicBezTo>
                <a:cubicBezTo>
                  <a:pt x="15359" y="10481"/>
                  <a:pt x="15368" y="10462"/>
                  <a:pt x="15388" y="10442"/>
                </a:cubicBezTo>
                <a:cubicBezTo>
                  <a:pt x="15402" y="10428"/>
                  <a:pt x="15433" y="10408"/>
                  <a:pt x="15454" y="10420"/>
                </a:cubicBezTo>
                <a:cubicBezTo>
                  <a:pt x="15478" y="10433"/>
                  <a:pt x="15484" y="10467"/>
                  <a:pt x="15487" y="10491"/>
                </a:cubicBezTo>
                <a:cubicBezTo>
                  <a:pt x="15489" y="10505"/>
                  <a:pt x="15488" y="10520"/>
                  <a:pt x="15488" y="10535"/>
                </a:cubicBezTo>
                <a:cubicBezTo>
                  <a:pt x="15501" y="10507"/>
                  <a:pt x="15510" y="10486"/>
                  <a:pt x="15520" y="10457"/>
                </a:cubicBezTo>
              </a:path>
              <a:path w="3287" h="1132">
                <a:moveTo>
                  <a:pt x="15732" y="10360"/>
                </a:moveTo>
                <a:cubicBezTo>
                  <a:pt x="15756" y="10367"/>
                  <a:pt x="15782" y="10371"/>
                  <a:pt x="15808" y="10366"/>
                </a:cubicBezTo>
                <a:cubicBezTo>
                  <a:pt x="15855" y="10357"/>
                  <a:pt x="15898" y="10348"/>
                  <a:pt x="15943" y="10332"/>
                </a:cubicBezTo>
                <a:cubicBezTo>
                  <a:pt x="15982" y="10318"/>
                  <a:pt x="15994" y="10315"/>
                  <a:pt x="16015" y="10297"/>
                </a:cubicBezTo>
              </a:path>
              <a:path w="3287" h="1132">
                <a:moveTo>
                  <a:pt x="16187" y="10082"/>
                </a:moveTo>
                <a:cubicBezTo>
                  <a:pt x="16199" y="10109"/>
                  <a:pt x="16200" y="10135"/>
                  <a:pt x="16203" y="10165"/>
                </a:cubicBezTo>
                <a:cubicBezTo>
                  <a:pt x="16208" y="10217"/>
                  <a:pt x="16214" y="10269"/>
                  <a:pt x="16221" y="10321"/>
                </a:cubicBezTo>
                <a:cubicBezTo>
                  <a:pt x="16230" y="10391"/>
                  <a:pt x="16243" y="10461"/>
                  <a:pt x="16250" y="10531"/>
                </a:cubicBezTo>
                <a:cubicBezTo>
                  <a:pt x="16252" y="10547"/>
                  <a:pt x="16252" y="10551"/>
                  <a:pt x="16257" y="10560"/>
                </a:cubicBezTo>
              </a:path>
              <a:path w="3287" h="1132">
                <a:moveTo>
                  <a:pt x="16032" y="10106"/>
                </a:moveTo>
                <a:cubicBezTo>
                  <a:pt x="16000" y="10075"/>
                  <a:pt x="15999" y="10063"/>
                  <a:pt x="16042" y="10037"/>
                </a:cubicBezTo>
                <a:cubicBezTo>
                  <a:pt x="16093" y="10006"/>
                  <a:pt x="16141" y="9989"/>
                  <a:pt x="16197" y="9969"/>
                </a:cubicBezTo>
                <a:cubicBezTo>
                  <a:pt x="16239" y="9952"/>
                  <a:pt x="16254" y="9946"/>
                  <a:pt x="16285" y="9943"/>
                </a:cubicBezTo>
              </a:path>
              <a:path w="3287" h="1132">
                <a:moveTo>
                  <a:pt x="16532" y="10122"/>
                </a:moveTo>
                <a:cubicBezTo>
                  <a:pt x="16531" y="10171"/>
                  <a:pt x="16529" y="10218"/>
                  <a:pt x="16522" y="10266"/>
                </a:cubicBezTo>
                <a:cubicBezTo>
                  <a:pt x="16513" y="10326"/>
                  <a:pt x="16510" y="10387"/>
                  <a:pt x="16509" y="10448"/>
                </a:cubicBezTo>
                <a:cubicBezTo>
                  <a:pt x="16508" y="10513"/>
                  <a:pt x="16507" y="10575"/>
                  <a:pt x="16518" y="10639"/>
                </a:cubicBezTo>
                <a:cubicBezTo>
                  <a:pt x="16522" y="10663"/>
                  <a:pt x="16530" y="10721"/>
                  <a:pt x="16567" y="10720"/>
                </a:cubicBezTo>
                <a:cubicBezTo>
                  <a:pt x="16610" y="10719"/>
                  <a:pt x="16618" y="10674"/>
                  <a:pt x="16631" y="10640"/>
                </a:cubicBezTo>
                <a:cubicBezTo>
                  <a:pt x="16651" y="10584"/>
                  <a:pt x="16656" y="10523"/>
                  <a:pt x="16654" y="10463"/>
                </a:cubicBezTo>
                <a:cubicBezTo>
                  <a:pt x="16653" y="10418"/>
                  <a:pt x="16644" y="10379"/>
                  <a:pt x="16634" y="10336"/>
                </a:cubicBezTo>
                <a:cubicBezTo>
                  <a:pt x="16627" y="10305"/>
                  <a:pt x="16620" y="10297"/>
                  <a:pt x="16642" y="10275"/>
                </a:cubicBezTo>
                <a:cubicBezTo>
                  <a:pt x="16658" y="10260"/>
                  <a:pt x="16708" y="10248"/>
                  <a:pt x="16727" y="10263"/>
                </a:cubicBezTo>
                <a:cubicBezTo>
                  <a:pt x="16757" y="10287"/>
                  <a:pt x="16752" y="10355"/>
                  <a:pt x="16753" y="10388"/>
                </a:cubicBezTo>
                <a:cubicBezTo>
                  <a:pt x="16755" y="10426"/>
                  <a:pt x="16755" y="10463"/>
                  <a:pt x="16770" y="10499"/>
                </a:cubicBezTo>
                <a:cubicBezTo>
                  <a:pt x="16773" y="10503"/>
                  <a:pt x="16775" y="10506"/>
                  <a:pt x="16778" y="10510"/>
                </a:cubicBezTo>
                <a:cubicBezTo>
                  <a:pt x="16808" y="10509"/>
                  <a:pt x="16803" y="10515"/>
                  <a:pt x="16832" y="10497"/>
                </a:cubicBezTo>
                <a:cubicBezTo>
                  <a:pt x="16862" y="10478"/>
                  <a:pt x="16880" y="10441"/>
                  <a:pt x="16898" y="10412"/>
                </a:cubicBezTo>
                <a:cubicBezTo>
                  <a:pt x="16911" y="10391"/>
                  <a:pt x="16924" y="10369"/>
                  <a:pt x="16923" y="10344"/>
                </a:cubicBezTo>
                <a:cubicBezTo>
                  <a:pt x="16920" y="10344"/>
                  <a:pt x="16918" y="10344"/>
                  <a:pt x="16915" y="10344"/>
                </a:cubicBezTo>
                <a:cubicBezTo>
                  <a:pt x="16909" y="10366"/>
                  <a:pt x="16894" y="10389"/>
                  <a:pt x="16918" y="10410"/>
                </a:cubicBezTo>
                <a:cubicBezTo>
                  <a:pt x="16944" y="10433"/>
                  <a:pt x="16990" y="10435"/>
                  <a:pt x="17023" y="10430"/>
                </a:cubicBezTo>
                <a:cubicBezTo>
                  <a:pt x="17135" y="10412"/>
                  <a:pt x="17180" y="10308"/>
                  <a:pt x="17183" y="10207"/>
                </a:cubicBezTo>
                <a:cubicBezTo>
                  <a:pt x="17184" y="10160"/>
                  <a:pt x="17177" y="10115"/>
                  <a:pt x="17165" y="10070"/>
                </a:cubicBezTo>
                <a:cubicBezTo>
                  <a:pt x="17157" y="10039"/>
                  <a:pt x="17147" y="10030"/>
                  <a:pt x="17133" y="10014"/>
                </a:cubicBezTo>
                <a:cubicBezTo>
                  <a:pt x="17127" y="10044"/>
                  <a:pt x="17124" y="10071"/>
                  <a:pt x="17124" y="10102"/>
                </a:cubicBezTo>
                <a:cubicBezTo>
                  <a:pt x="17124" y="10160"/>
                  <a:pt x="17125" y="10217"/>
                  <a:pt x="17136" y="10275"/>
                </a:cubicBezTo>
                <a:cubicBezTo>
                  <a:pt x="17145" y="10320"/>
                  <a:pt x="17155" y="10418"/>
                  <a:pt x="17201" y="10442"/>
                </a:cubicBezTo>
                <a:cubicBezTo>
                  <a:pt x="17225" y="10455"/>
                  <a:pt x="17217" y="10439"/>
                  <a:pt x="17237" y="10433"/>
                </a:cubicBezTo>
              </a:path>
              <a:path w="3287" h="1132">
                <a:moveTo>
                  <a:pt x="17082" y="10247"/>
                </a:moveTo>
                <a:cubicBezTo>
                  <a:pt x="17072" y="10249"/>
                  <a:pt x="17063" y="10252"/>
                  <a:pt x="17053" y="10254"/>
                </a:cubicBezTo>
                <a:cubicBezTo>
                  <a:pt x="17083" y="10243"/>
                  <a:pt x="17112" y="10231"/>
                  <a:pt x="17141" y="10217"/>
                </a:cubicBezTo>
                <a:cubicBezTo>
                  <a:pt x="17194" y="10192"/>
                  <a:pt x="17246" y="10168"/>
                  <a:pt x="17298" y="10140"/>
                </a:cubicBezTo>
              </a:path>
              <a:path w="3287" h="1132">
                <a:moveTo>
                  <a:pt x="17380" y="9760"/>
                </a:moveTo>
                <a:cubicBezTo>
                  <a:pt x="17380" y="9755"/>
                  <a:pt x="17380" y="9750"/>
                  <a:pt x="17380" y="9745"/>
                </a:cubicBezTo>
                <a:cubicBezTo>
                  <a:pt x="17414" y="9744"/>
                  <a:pt x="17415" y="9743"/>
                  <a:pt x="17444" y="9779"/>
                </a:cubicBezTo>
                <a:cubicBezTo>
                  <a:pt x="17486" y="9832"/>
                  <a:pt x="17518" y="9898"/>
                  <a:pt x="17541" y="9961"/>
                </a:cubicBezTo>
                <a:cubicBezTo>
                  <a:pt x="17599" y="10118"/>
                  <a:pt x="17583" y="10287"/>
                  <a:pt x="17539" y="10445"/>
                </a:cubicBezTo>
                <a:cubicBezTo>
                  <a:pt x="17517" y="10525"/>
                  <a:pt x="17492" y="10602"/>
                  <a:pt x="17461" y="10677"/>
                </a:cubicBezTo>
                <a:cubicBezTo>
                  <a:pt x="17449" y="10711"/>
                  <a:pt x="17448" y="10720"/>
                  <a:pt x="17428" y="1073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Ink 10"/>
          <p:cNvSpPr/>
          <p:nvPr/>
        </p:nvSpPr>
        <p:spPr>
          <a:xfrm>
            <a:off x="4071960" y="4381560"/>
            <a:ext cx="95400" cy="163440"/>
          </a:xfrm>
          <a:custGeom>
            <a:avLst/>
            <a:gdLst/>
            <a:ahLst/>
            <a:rect l="l" t="t" r="r" b="b"/>
            <a:pathLst>
              <a:path w="265" h="452">
                <a:moveTo>
                  <a:pt x="11336" y="12241"/>
                </a:moveTo>
                <a:cubicBezTo>
                  <a:pt x="11323" y="12250"/>
                  <a:pt x="11320" y="12252"/>
                  <a:pt x="11310" y="12255"/>
                </a:cubicBezTo>
                <a:cubicBezTo>
                  <a:pt x="11328" y="12235"/>
                  <a:pt x="11355" y="12223"/>
                  <a:pt x="11380" y="12210"/>
                </a:cubicBezTo>
                <a:cubicBezTo>
                  <a:pt x="11422" y="12187"/>
                  <a:pt x="11470" y="12179"/>
                  <a:pt x="11517" y="12173"/>
                </a:cubicBezTo>
              </a:path>
              <a:path w="265" h="452">
                <a:moveTo>
                  <a:pt x="11429" y="12487"/>
                </a:moveTo>
                <a:cubicBezTo>
                  <a:pt x="11404" y="12531"/>
                  <a:pt x="11382" y="12575"/>
                  <a:pt x="11357" y="12617"/>
                </a:cubicBezTo>
                <a:cubicBezTo>
                  <a:pt x="11381" y="12629"/>
                  <a:pt x="11423" y="12621"/>
                  <a:pt x="11447" y="12610"/>
                </a:cubicBezTo>
                <a:cubicBezTo>
                  <a:pt x="11491" y="12590"/>
                  <a:pt x="11532" y="12564"/>
                  <a:pt x="11574" y="1254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Ink 11"/>
          <p:cNvSpPr/>
          <p:nvPr/>
        </p:nvSpPr>
        <p:spPr>
          <a:xfrm>
            <a:off x="4433760" y="4184640"/>
            <a:ext cx="439920" cy="341280"/>
          </a:xfrm>
          <a:custGeom>
            <a:avLst/>
            <a:gdLst/>
            <a:ahLst/>
            <a:rect l="l" t="t" r="r" b="b"/>
            <a:pathLst>
              <a:path w="1223" h="949">
                <a:moveTo>
                  <a:pt x="12322" y="11703"/>
                </a:moveTo>
                <a:cubicBezTo>
                  <a:pt x="12319" y="11677"/>
                  <a:pt x="12319" y="11659"/>
                  <a:pt x="12320" y="11634"/>
                </a:cubicBezTo>
                <a:cubicBezTo>
                  <a:pt x="12327" y="11653"/>
                  <a:pt x="12324" y="11650"/>
                  <a:pt x="12325" y="11670"/>
                </a:cubicBezTo>
                <a:cubicBezTo>
                  <a:pt x="12329" y="11731"/>
                  <a:pt x="12332" y="11793"/>
                  <a:pt x="12337" y="11854"/>
                </a:cubicBezTo>
                <a:cubicBezTo>
                  <a:pt x="12345" y="11955"/>
                  <a:pt x="12353" y="12056"/>
                  <a:pt x="12364" y="12156"/>
                </a:cubicBezTo>
                <a:cubicBezTo>
                  <a:pt x="12377" y="12272"/>
                  <a:pt x="12385" y="12414"/>
                  <a:pt x="12457" y="12512"/>
                </a:cubicBezTo>
                <a:cubicBezTo>
                  <a:pt x="12488" y="12555"/>
                  <a:pt x="12533" y="12576"/>
                  <a:pt x="12586" y="12570"/>
                </a:cubicBezTo>
                <a:cubicBezTo>
                  <a:pt x="12648" y="12563"/>
                  <a:pt x="12690" y="12510"/>
                  <a:pt x="12719" y="12460"/>
                </a:cubicBezTo>
                <a:cubicBezTo>
                  <a:pt x="12760" y="12389"/>
                  <a:pt x="12773" y="12307"/>
                  <a:pt x="12778" y="12226"/>
                </a:cubicBezTo>
                <a:cubicBezTo>
                  <a:pt x="12783" y="12132"/>
                  <a:pt x="12773" y="12041"/>
                  <a:pt x="12750" y="11950"/>
                </a:cubicBezTo>
                <a:cubicBezTo>
                  <a:pt x="12746" y="11933"/>
                  <a:pt x="12716" y="11862"/>
                  <a:pt x="12721" y="11856"/>
                </a:cubicBezTo>
                <a:cubicBezTo>
                  <a:pt x="12731" y="11856"/>
                  <a:pt x="12734" y="11856"/>
                  <a:pt x="12740" y="11859"/>
                </a:cubicBezTo>
              </a:path>
              <a:path w="1223" h="949">
                <a:moveTo>
                  <a:pt x="13153" y="11741"/>
                </a:moveTo>
                <a:cubicBezTo>
                  <a:pt x="13193" y="11717"/>
                  <a:pt x="13186" y="11706"/>
                  <a:pt x="13193" y="11759"/>
                </a:cubicBezTo>
                <a:cubicBezTo>
                  <a:pt x="13218" y="11949"/>
                  <a:pt x="13221" y="12156"/>
                  <a:pt x="13192" y="12345"/>
                </a:cubicBezTo>
                <a:cubicBezTo>
                  <a:pt x="13187" y="12379"/>
                  <a:pt x="13180" y="12442"/>
                  <a:pt x="13158" y="12471"/>
                </a:cubicBezTo>
                <a:cubicBezTo>
                  <a:pt x="13154" y="12471"/>
                  <a:pt x="13149" y="12470"/>
                  <a:pt x="13145" y="12470"/>
                </a:cubicBezTo>
                <a:cubicBezTo>
                  <a:pt x="13137" y="12410"/>
                  <a:pt x="13136" y="12350"/>
                  <a:pt x="13135" y="12289"/>
                </a:cubicBezTo>
                <a:cubicBezTo>
                  <a:pt x="13134" y="12171"/>
                  <a:pt x="13137" y="12055"/>
                  <a:pt x="13150" y="11938"/>
                </a:cubicBezTo>
                <a:cubicBezTo>
                  <a:pt x="13159" y="11855"/>
                  <a:pt x="13162" y="11758"/>
                  <a:pt x="13203" y="11688"/>
                </a:cubicBezTo>
                <a:cubicBezTo>
                  <a:pt x="13230" y="11707"/>
                  <a:pt x="13250" y="11726"/>
                  <a:pt x="13271" y="11758"/>
                </a:cubicBezTo>
                <a:cubicBezTo>
                  <a:pt x="13315" y="11825"/>
                  <a:pt x="13353" y="11898"/>
                  <a:pt x="13387" y="11970"/>
                </a:cubicBezTo>
                <a:cubicBezTo>
                  <a:pt x="13425" y="12049"/>
                  <a:pt x="13455" y="12131"/>
                  <a:pt x="13483" y="12214"/>
                </a:cubicBezTo>
                <a:cubicBezTo>
                  <a:pt x="13486" y="12222"/>
                  <a:pt x="13546" y="12389"/>
                  <a:pt x="13539" y="12394"/>
                </a:cubicBezTo>
                <a:cubicBezTo>
                  <a:pt x="13525" y="12394"/>
                  <a:pt x="13519" y="12392"/>
                  <a:pt x="13513" y="12382"/>
                </a:cubicBezTo>
              </a:path>
              <a:path w="1223" h="949">
                <a:moveTo>
                  <a:pt x="13216" y="12298"/>
                </a:moveTo>
                <a:cubicBezTo>
                  <a:pt x="13169" y="12303"/>
                  <a:pt x="13163" y="12306"/>
                  <a:pt x="13136" y="12305"/>
                </a:cubicBezTo>
                <a:cubicBezTo>
                  <a:pt x="13176" y="12297"/>
                  <a:pt x="13208" y="12268"/>
                  <a:pt x="13246" y="12253"/>
                </a:cubicBezTo>
                <a:cubicBezTo>
                  <a:pt x="13307" y="12228"/>
                  <a:pt x="13363" y="12202"/>
                  <a:pt x="13422" y="1217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Ink 12"/>
          <p:cNvSpPr/>
          <p:nvPr/>
        </p:nvSpPr>
        <p:spPr>
          <a:xfrm>
            <a:off x="5254560" y="4064040"/>
            <a:ext cx="771480" cy="358560"/>
          </a:xfrm>
          <a:custGeom>
            <a:avLst/>
            <a:gdLst/>
            <a:ahLst/>
            <a:rect l="l" t="t" r="r" b="b"/>
            <a:pathLst>
              <a:path w="2143" h="1000">
                <a:moveTo>
                  <a:pt x="14609" y="11528"/>
                </a:moveTo>
                <a:cubicBezTo>
                  <a:pt x="14612" y="11494"/>
                  <a:pt x="14613" y="11468"/>
                  <a:pt x="14623" y="11437"/>
                </a:cubicBezTo>
                <a:cubicBezTo>
                  <a:pt x="14625" y="11431"/>
                  <a:pt x="14626" y="11426"/>
                  <a:pt x="14628" y="11420"/>
                </a:cubicBezTo>
                <a:cubicBezTo>
                  <a:pt x="14628" y="11440"/>
                  <a:pt x="14629" y="11460"/>
                  <a:pt x="14628" y="11480"/>
                </a:cubicBezTo>
                <a:cubicBezTo>
                  <a:pt x="14622" y="11580"/>
                  <a:pt x="14606" y="11676"/>
                  <a:pt x="14608" y="11776"/>
                </a:cubicBezTo>
                <a:cubicBezTo>
                  <a:pt x="14609" y="11831"/>
                  <a:pt x="14612" y="11887"/>
                  <a:pt x="14612" y="11942"/>
                </a:cubicBezTo>
                <a:cubicBezTo>
                  <a:pt x="14613" y="12013"/>
                  <a:pt x="14611" y="12083"/>
                  <a:pt x="14605" y="12154"/>
                </a:cubicBezTo>
                <a:cubicBezTo>
                  <a:pt x="14603" y="12183"/>
                  <a:pt x="14584" y="12257"/>
                  <a:pt x="14599" y="12286"/>
                </a:cubicBezTo>
                <a:cubicBezTo>
                  <a:pt x="14602" y="12286"/>
                  <a:pt x="14606" y="12286"/>
                  <a:pt x="14609" y="12286"/>
                </a:cubicBezTo>
                <a:cubicBezTo>
                  <a:pt x="14617" y="12267"/>
                  <a:pt x="14622" y="12243"/>
                  <a:pt x="14639" y="12234"/>
                </a:cubicBezTo>
                <a:cubicBezTo>
                  <a:pt x="14652" y="12227"/>
                  <a:pt x="14681" y="12229"/>
                  <a:pt x="14695" y="12228"/>
                </a:cubicBezTo>
                <a:cubicBezTo>
                  <a:pt x="14736" y="12226"/>
                  <a:pt x="14777" y="12223"/>
                  <a:pt x="14818" y="12222"/>
                </a:cubicBezTo>
                <a:cubicBezTo>
                  <a:pt x="14885" y="12220"/>
                  <a:pt x="14952" y="12214"/>
                  <a:pt x="15019" y="12209"/>
                </a:cubicBezTo>
                <a:cubicBezTo>
                  <a:pt x="15067" y="12205"/>
                  <a:pt x="15042" y="12210"/>
                  <a:pt x="15059" y="12179"/>
                </a:cubicBezTo>
              </a:path>
              <a:path w="2143" h="1000">
                <a:moveTo>
                  <a:pt x="15094" y="11622"/>
                </a:moveTo>
                <a:cubicBezTo>
                  <a:pt x="15106" y="11598"/>
                  <a:pt x="15115" y="11590"/>
                  <a:pt x="15125" y="11572"/>
                </a:cubicBezTo>
                <a:cubicBezTo>
                  <a:pt x="15149" y="11604"/>
                  <a:pt x="15157" y="11637"/>
                  <a:pt x="15167" y="11676"/>
                </a:cubicBezTo>
                <a:cubicBezTo>
                  <a:pt x="15187" y="11756"/>
                  <a:pt x="15202" y="11838"/>
                  <a:pt x="15208" y="11920"/>
                </a:cubicBezTo>
                <a:cubicBezTo>
                  <a:pt x="15214" y="12006"/>
                  <a:pt x="15214" y="12093"/>
                  <a:pt x="15205" y="12178"/>
                </a:cubicBezTo>
                <a:cubicBezTo>
                  <a:pt x="15204" y="12186"/>
                  <a:pt x="15204" y="12193"/>
                  <a:pt x="15203" y="12201"/>
                </a:cubicBezTo>
                <a:cubicBezTo>
                  <a:pt x="15202" y="12147"/>
                  <a:pt x="15204" y="12095"/>
                  <a:pt x="15210" y="12040"/>
                </a:cubicBezTo>
                <a:cubicBezTo>
                  <a:pt x="15221" y="11939"/>
                  <a:pt x="15231" y="11839"/>
                  <a:pt x="15242" y="11738"/>
                </a:cubicBezTo>
                <a:cubicBezTo>
                  <a:pt x="15248" y="11685"/>
                  <a:pt x="15253" y="11633"/>
                  <a:pt x="15260" y="11581"/>
                </a:cubicBezTo>
                <a:cubicBezTo>
                  <a:pt x="15264" y="11619"/>
                  <a:pt x="15264" y="11658"/>
                  <a:pt x="15272" y="11696"/>
                </a:cubicBezTo>
                <a:cubicBezTo>
                  <a:pt x="15281" y="11737"/>
                  <a:pt x="15292" y="11795"/>
                  <a:pt x="15329" y="11821"/>
                </a:cubicBezTo>
                <a:cubicBezTo>
                  <a:pt x="15362" y="11844"/>
                  <a:pt x="15410" y="11834"/>
                  <a:pt x="15438" y="11810"/>
                </a:cubicBezTo>
                <a:cubicBezTo>
                  <a:pt x="15497" y="11760"/>
                  <a:pt x="15521" y="11681"/>
                  <a:pt x="15540" y="11610"/>
                </a:cubicBezTo>
                <a:cubicBezTo>
                  <a:pt x="15544" y="11659"/>
                  <a:pt x="15548" y="11707"/>
                  <a:pt x="15550" y="11756"/>
                </a:cubicBezTo>
                <a:cubicBezTo>
                  <a:pt x="15553" y="11827"/>
                  <a:pt x="15557" y="11897"/>
                  <a:pt x="15561" y="11968"/>
                </a:cubicBezTo>
                <a:cubicBezTo>
                  <a:pt x="15562" y="11988"/>
                  <a:pt x="15557" y="12089"/>
                  <a:pt x="15588" y="12097"/>
                </a:cubicBezTo>
                <a:cubicBezTo>
                  <a:pt x="15618" y="12105"/>
                  <a:pt x="15624" y="12073"/>
                  <a:pt x="15635" y="12055"/>
                </a:cubicBezTo>
              </a:path>
              <a:path w="2143" h="1000">
                <a:moveTo>
                  <a:pt x="15869" y="11552"/>
                </a:moveTo>
                <a:cubicBezTo>
                  <a:pt x="15874" y="11545"/>
                  <a:pt x="15880" y="11539"/>
                  <a:pt x="15885" y="11532"/>
                </a:cubicBezTo>
                <a:cubicBezTo>
                  <a:pt x="15904" y="11563"/>
                  <a:pt x="15910" y="11605"/>
                  <a:pt x="15917" y="11643"/>
                </a:cubicBezTo>
                <a:cubicBezTo>
                  <a:pt x="15931" y="11722"/>
                  <a:pt x="15943" y="11800"/>
                  <a:pt x="15947" y="11880"/>
                </a:cubicBezTo>
                <a:cubicBezTo>
                  <a:pt x="15952" y="11964"/>
                  <a:pt x="15951" y="12047"/>
                  <a:pt x="15951" y="12131"/>
                </a:cubicBezTo>
                <a:cubicBezTo>
                  <a:pt x="15951" y="12166"/>
                  <a:pt x="15957" y="12267"/>
                  <a:pt x="15943" y="12235"/>
                </a:cubicBezTo>
                <a:cubicBezTo>
                  <a:pt x="15941" y="12221"/>
                  <a:pt x="15941" y="12213"/>
                  <a:pt x="15942" y="12202"/>
                </a:cubicBezTo>
              </a:path>
              <a:path w="2143" h="1000">
                <a:moveTo>
                  <a:pt x="15675" y="11619"/>
                </a:moveTo>
                <a:cubicBezTo>
                  <a:pt x="15640" y="11604"/>
                  <a:pt x="15634" y="11602"/>
                  <a:pt x="15615" y="11592"/>
                </a:cubicBezTo>
                <a:cubicBezTo>
                  <a:pt x="15641" y="11577"/>
                  <a:pt x="15671" y="11574"/>
                  <a:pt x="15701" y="11567"/>
                </a:cubicBezTo>
                <a:cubicBezTo>
                  <a:pt x="15764" y="11553"/>
                  <a:pt x="15828" y="11541"/>
                  <a:pt x="15890" y="11524"/>
                </a:cubicBezTo>
                <a:cubicBezTo>
                  <a:pt x="15959" y="11505"/>
                  <a:pt x="16025" y="11489"/>
                  <a:pt x="16093" y="11468"/>
                </a:cubicBezTo>
              </a:path>
              <a:path w="2143" h="1000">
                <a:moveTo>
                  <a:pt x="16371" y="11319"/>
                </a:moveTo>
                <a:cubicBezTo>
                  <a:pt x="16377" y="11357"/>
                  <a:pt x="16380" y="11394"/>
                  <a:pt x="16381" y="11433"/>
                </a:cubicBezTo>
                <a:cubicBezTo>
                  <a:pt x="16382" y="11498"/>
                  <a:pt x="16396" y="11562"/>
                  <a:pt x="16403" y="11626"/>
                </a:cubicBezTo>
                <a:cubicBezTo>
                  <a:pt x="16411" y="11704"/>
                  <a:pt x="16420" y="11782"/>
                  <a:pt x="16425" y="11860"/>
                </a:cubicBezTo>
                <a:cubicBezTo>
                  <a:pt x="16429" y="11920"/>
                  <a:pt x="16434" y="11986"/>
                  <a:pt x="16432" y="12046"/>
                </a:cubicBezTo>
                <a:cubicBezTo>
                  <a:pt x="16428" y="12068"/>
                  <a:pt x="16427" y="12074"/>
                  <a:pt x="16428" y="12089"/>
                </a:cubicBezTo>
              </a:path>
              <a:path w="2143" h="1000">
                <a:moveTo>
                  <a:pt x="16285" y="11399"/>
                </a:moveTo>
                <a:cubicBezTo>
                  <a:pt x="16289" y="11376"/>
                  <a:pt x="16274" y="11371"/>
                  <a:pt x="16302" y="11348"/>
                </a:cubicBezTo>
                <a:cubicBezTo>
                  <a:pt x="16333" y="11323"/>
                  <a:pt x="16372" y="11303"/>
                  <a:pt x="16411" y="11294"/>
                </a:cubicBezTo>
                <a:cubicBezTo>
                  <a:pt x="16468" y="11281"/>
                  <a:pt x="16533" y="11282"/>
                  <a:pt x="16585" y="11308"/>
                </a:cubicBezTo>
                <a:cubicBezTo>
                  <a:pt x="16672" y="11352"/>
                  <a:pt x="16715" y="11454"/>
                  <a:pt x="16731" y="11545"/>
                </a:cubicBezTo>
                <a:cubicBezTo>
                  <a:pt x="16748" y="11639"/>
                  <a:pt x="16746" y="11744"/>
                  <a:pt x="16725" y="11837"/>
                </a:cubicBezTo>
                <a:cubicBezTo>
                  <a:pt x="16704" y="11929"/>
                  <a:pt x="16663" y="12021"/>
                  <a:pt x="16612" y="12100"/>
                </a:cubicBezTo>
                <a:cubicBezTo>
                  <a:pt x="16575" y="12158"/>
                  <a:pt x="16517" y="12230"/>
                  <a:pt x="16446" y="12248"/>
                </a:cubicBezTo>
                <a:cubicBezTo>
                  <a:pt x="16430" y="12248"/>
                  <a:pt x="16415" y="12249"/>
                  <a:pt x="16399" y="1224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Ink 13"/>
          <p:cNvSpPr/>
          <p:nvPr/>
        </p:nvSpPr>
        <p:spPr>
          <a:xfrm>
            <a:off x="6481800" y="3978360"/>
            <a:ext cx="119160" cy="131760"/>
          </a:xfrm>
          <a:custGeom>
            <a:avLst/>
            <a:gdLst/>
            <a:ahLst/>
            <a:rect l="l" t="t" r="r" b="b"/>
            <a:pathLst>
              <a:path w="331" h="367">
                <a:moveTo>
                  <a:pt x="18005" y="11160"/>
                </a:moveTo>
                <a:cubicBezTo>
                  <a:pt x="18012" y="11149"/>
                  <a:pt x="18021" y="11140"/>
                  <a:pt x="18037" y="11130"/>
                </a:cubicBezTo>
                <a:cubicBezTo>
                  <a:pt x="18071" y="11109"/>
                  <a:pt x="18110" y="11089"/>
                  <a:pt x="18147" y="11076"/>
                </a:cubicBezTo>
                <a:cubicBezTo>
                  <a:pt x="18190" y="11061"/>
                  <a:pt x="18251" y="11046"/>
                  <a:pt x="18297" y="11050"/>
                </a:cubicBezTo>
                <a:cubicBezTo>
                  <a:pt x="18302" y="11052"/>
                  <a:pt x="18307" y="11053"/>
                  <a:pt x="18312" y="11055"/>
                </a:cubicBezTo>
              </a:path>
              <a:path w="331" h="367">
                <a:moveTo>
                  <a:pt x="18245" y="11239"/>
                </a:moveTo>
                <a:cubicBezTo>
                  <a:pt x="18206" y="11294"/>
                  <a:pt x="18170" y="11333"/>
                  <a:pt x="18151" y="11395"/>
                </a:cubicBezTo>
                <a:cubicBezTo>
                  <a:pt x="18150" y="11398"/>
                  <a:pt x="18149" y="11402"/>
                  <a:pt x="18148" y="11405"/>
                </a:cubicBezTo>
                <a:cubicBezTo>
                  <a:pt x="18181" y="11423"/>
                  <a:pt x="18208" y="11412"/>
                  <a:pt x="18245" y="11405"/>
                </a:cubicBezTo>
                <a:cubicBezTo>
                  <a:pt x="18293" y="11397"/>
                  <a:pt x="18308" y="11395"/>
                  <a:pt x="18335" y="1137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Ink 14"/>
          <p:cNvSpPr/>
          <p:nvPr/>
        </p:nvSpPr>
        <p:spPr>
          <a:xfrm>
            <a:off x="7097760" y="3602160"/>
            <a:ext cx="138240" cy="353880"/>
          </a:xfrm>
          <a:custGeom>
            <a:avLst/>
            <a:gdLst/>
            <a:ahLst/>
            <a:rect l="l" t="t" r="r" b="b"/>
            <a:pathLst>
              <a:path w="382" h="981">
                <a:moveTo>
                  <a:pt x="19732" y="10117"/>
                </a:moveTo>
                <a:cubicBezTo>
                  <a:pt x="19725" y="10085"/>
                  <a:pt x="19721" y="10060"/>
                  <a:pt x="19718" y="10029"/>
                </a:cubicBezTo>
                <a:cubicBezTo>
                  <a:pt x="19721" y="10013"/>
                  <a:pt x="19715" y="9996"/>
                  <a:pt x="19719" y="10026"/>
                </a:cubicBezTo>
                <a:cubicBezTo>
                  <a:pt x="19726" y="10078"/>
                  <a:pt x="19730" y="10131"/>
                  <a:pt x="19736" y="10183"/>
                </a:cubicBezTo>
                <a:cubicBezTo>
                  <a:pt x="19748" y="10291"/>
                  <a:pt x="19760" y="10399"/>
                  <a:pt x="19777" y="10507"/>
                </a:cubicBezTo>
                <a:cubicBezTo>
                  <a:pt x="19798" y="10642"/>
                  <a:pt x="19814" y="10805"/>
                  <a:pt x="19885" y="10925"/>
                </a:cubicBezTo>
                <a:cubicBezTo>
                  <a:pt x="19904" y="10957"/>
                  <a:pt x="19940" y="10998"/>
                  <a:pt x="19982" y="10986"/>
                </a:cubicBezTo>
                <a:cubicBezTo>
                  <a:pt x="20036" y="10971"/>
                  <a:pt x="20057" y="10892"/>
                  <a:pt x="20070" y="10847"/>
                </a:cubicBezTo>
                <a:cubicBezTo>
                  <a:pt x="20105" y="10721"/>
                  <a:pt x="20105" y="10581"/>
                  <a:pt x="20098" y="10451"/>
                </a:cubicBezTo>
                <a:cubicBezTo>
                  <a:pt x="20093" y="10360"/>
                  <a:pt x="20078" y="10268"/>
                  <a:pt x="20054" y="10180"/>
                </a:cubicBezTo>
                <a:cubicBezTo>
                  <a:pt x="20047" y="10156"/>
                  <a:pt x="20024" y="10130"/>
                  <a:pt x="20061" y="10140"/>
                </a:cubicBezTo>
                <a:cubicBezTo>
                  <a:pt x="20067" y="10143"/>
                  <a:pt x="20072" y="10147"/>
                  <a:pt x="20078" y="1015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Ink 15"/>
          <p:cNvSpPr/>
          <p:nvPr/>
        </p:nvSpPr>
        <p:spPr>
          <a:xfrm>
            <a:off x="8029440" y="6113520"/>
            <a:ext cx="1800" cy="1440"/>
          </a:xfrm>
          <a:custGeom>
            <a:avLst/>
            <a:gdLst/>
            <a:ahLst/>
            <a:rect l="l" t="t" r="r" b="b"/>
            <a:pathLst>
              <a:path w="1" h="1">
                <a:moveTo>
                  <a:pt x="22306" y="16984"/>
                </a:moveTo>
                <a:lnTo>
                  <a:pt x="22306" y="16984"/>
                </a:lnTo>
                <a:lnTo>
                  <a:pt x="22306" y="16984"/>
                </a:lnTo>
                <a:lnTo>
                  <a:pt x="22306" y="16984"/>
                </a:lnTo>
                <a:lnTo>
                  <a:pt x="22306" y="16984"/>
                </a:lnTo>
                <a:lnTo>
                  <a:pt x="22306" y="16984"/>
                </a:lnTo>
                <a:lnTo>
                  <a:pt x="22306" y="16984"/>
                </a:lnTo>
                <a:lnTo>
                  <a:pt x="22306" y="16984"/>
                </a:lnTo>
                <a:lnTo>
                  <a:pt x="22306" y="16984"/>
                </a:lnTo>
                <a:lnTo>
                  <a:pt x="22306" y="16984"/>
                </a:lnTo>
                <a:lnTo>
                  <a:pt x="22306" y="16984"/>
                </a:lnTo>
                <a:lnTo>
                  <a:pt x="22306" y="16984"/>
                </a:lnTo>
                <a:lnTo>
                  <a:pt x="22306" y="16984"/>
                </a:lnTo>
                <a:lnTo>
                  <a:pt x="22306" y="16984"/>
                </a:lnTo>
              </a:path>
            </a:pathLst>
          </a:custGeom>
          <a:noFill/>
          <a:ln cap="rnd" w="1908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 name="Ink 16"/>
          <p:cNvSpPr/>
          <p:nvPr/>
        </p:nvSpPr>
        <p:spPr>
          <a:xfrm>
            <a:off x="7369200" y="3651120"/>
            <a:ext cx="149040" cy="250920"/>
          </a:xfrm>
          <a:custGeom>
            <a:avLst/>
            <a:gdLst/>
            <a:ahLst/>
            <a:rect l="l" t="t" r="r" b="b"/>
            <a:pathLst>
              <a:path w="415" h="699">
                <a:moveTo>
                  <a:pt x="20471" y="10207"/>
                </a:moveTo>
                <a:cubicBezTo>
                  <a:pt x="20487" y="10193"/>
                  <a:pt x="20491" y="10188"/>
                  <a:pt x="20500" y="10179"/>
                </a:cubicBezTo>
                <a:cubicBezTo>
                  <a:pt x="20511" y="10225"/>
                  <a:pt x="20516" y="10271"/>
                  <a:pt x="20520" y="10319"/>
                </a:cubicBezTo>
                <a:cubicBezTo>
                  <a:pt x="20526" y="10407"/>
                  <a:pt x="20528" y="10494"/>
                  <a:pt x="20528" y="10582"/>
                </a:cubicBezTo>
                <a:cubicBezTo>
                  <a:pt x="20528" y="10654"/>
                  <a:pt x="20522" y="10724"/>
                  <a:pt x="20515" y="10796"/>
                </a:cubicBezTo>
                <a:cubicBezTo>
                  <a:pt x="20513" y="10821"/>
                  <a:pt x="20515" y="10827"/>
                  <a:pt x="20507" y="10840"/>
                </a:cubicBezTo>
                <a:cubicBezTo>
                  <a:pt x="20504" y="10794"/>
                  <a:pt x="20505" y="10745"/>
                  <a:pt x="20506" y="10698"/>
                </a:cubicBezTo>
                <a:cubicBezTo>
                  <a:pt x="20511" y="10527"/>
                  <a:pt x="20519" y="10355"/>
                  <a:pt x="20546" y="10186"/>
                </a:cubicBezTo>
                <a:cubicBezTo>
                  <a:pt x="20550" y="10161"/>
                  <a:pt x="20550" y="10155"/>
                  <a:pt x="20559" y="10142"/>
                </a:cubicBezTo>
                <a:cubicBezTo>
                  <a:pt x="20591" y="10161"/>
                  <a:pt x="20603" y="10195"/>
                  <a:pt x="20620" y="10231"/>
                </a:cubicBezTo>
                <a:cubicBezTo>
                  <a:pt x="20653" y="10301"/>
                  <a:pt x="20683" y="10372"/>
                  <a:pt x="20714" y="10443"/>
                </a:cubicBezTo>
                <a:cubicBezTo>
                  <a:pt x="20745" y="10515"/>
                  <a:pt x="20776" y="10589"/>
                  <a:pt x="20812" y="10659"/>
                </a:cubicBezTo>
                <a:cubicBezTo>
                  <a:pt x="20815" y="10664"/>
                  <a:pt x="20857" y="10762"/>
                  <a:pt x="20878" y="10752"/>
                </a:cubicBezTo>
                <a:cubicBezTo>
                  <a:pt x="20882" y="10745"/>
                  <a:pt x="20884" y="10741"/>
                  <a:pt x="20885" y="1073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Ink 17"/>
          <p:cNvSpPr/>
          <p:nvPr/>
        </p:nvSpPr>
        <p:spPr>
          <a:xfrm>
            <a:off x="7415280" y="3805200"/>
            <a:ext cx="98280" cy="34920"/>
          </a:xfrm>
          <a:custGeom>
            <a:avLst/>
            <a:gdLst/>
            <a:ahLst/>
            <a:rect l="l" t="t" r="r" b="b"/>
            <a:pathLst>
              <a:path w="271" h="97">
                <a:moveTo>
                  <a:pt x="20621" y="10619"/>
                </a:moveTo>
                <a:cubicBezTo>
                  <a:pt x="20604" y="10645"/>
                  <a:pt x="20597" y="10646"/>
                  <a:pt x="20599" y="10664"/>
                </a:cubicBezTo>
                <a:cubicBezTo>
                  <a:pt x="20641" y="10642"/>
                  <a:pt x="20683" y="10640"/>
                  <a:pt x="20726" y="10624"/>
                </a:cubicBezTo>
                <a:cubicBezTo>
                  <a:pt x="20774" y="10606"/>
                  <a:pt x="20821" y="10587"/>
                  <a:pt x="20869" y="10568"/>
                </a:cubicBezTo>
              </a:path>
            </a:pathLst>
          </a:custGeom>
          <a:noFill/>
          <a:ln cap="rnd" w="19080">
            <a:solidFill>
              <a:srgbClr val="ff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5" name="Ink 18"/>
          <p:cNvSpPr/>
          <p:nvPr/>
        </p:nvSpPr>
        <p:spPr>
          <a:xfrm>
            <a:off x="6958080" y="4067280"/>
            <a:ext cx="954000" cy="46080"/>
          </a:xfrm>
          <a:custGeom>
            <a:avLst/>
            <a:gdLst/>
            <a:ahLst/>
            <a:rect l="l" t="t" r="r" b="b"/>
            <a:pathLst>
              <a:path w="2653" h="128">
                <a:moveTo>
                  <a:pt x="19360" y="11426"/>
                </a:moveTo>
                <a:cubicBezTo>
                  <a:pt x="19338" y="11413"/>
                  <a:pt x="19331" y="11412"/>
                  <a:pt x="19327" y="11395"/>
                </a:cubicBezTo>
                <a:cubicBezTo>
                  <a:pt x="19341" y="11393"/>
                  <a:pt x="19360" y="11385"/>
                  <a:pt x="19381" y="11385"/>
                </a:cubicBezTo>
                <a:cubicBezTo>
                  <a:pt x="19461" y="11386"/>
                  <a:pt x="19541" y="11401"/>
                  <a:pt x="19621" y="11405"/>
                </a:cubicBezTo>
                <a:cubicBezTo>
                  <a:pt x="19876" y="11418"/>
                  <a:pt x="20131" y="11399"/>
                  <a:pt x="20385" y="11381"/>
                </a:cubicBezTo>
                <a:cubicBezTo>
                  <a:pt x="20741" y="11355"/>
                  <a:pt x="21095" y="11348"/>
                  <a:pt x="21452" y="11348"/>
                </a:cubicBezTo>
                <a:cubicBezTo>
                  <a:pt x="21581" y="11348"/>
                  <a:pt x="21711" y="11354"/>
                  <a:pt x="21840" y="11343"/>
                </a:cubicBezTo>
                <a:cubicBezTo>
                  <a:pt x="21855" y="11342"/>
                  <a:pt x="21970" y="11340"/>
                  <a:pt x="21979" y="11319"/>
                </a:cubicBezTo>
                <a:cubicBezTo>
                  <a:pt x="21991" y="11290"/>
                  <a:pt x="21944" y="11305"/>
                  <a:pt x="21940" y="11301"/>
                </a:cubicBezTo>
              </a:path>
            </a:pathLst>
          </a:custGeom>
          <a:noFill/>
          <a:ln cap="rnd" w="19080">
            <a:solidFill>
              <a:srgbClr val="ff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6" name="Ink 19"/>
          <p:cNvSpPr/>
          <p:nvPr/>
        </p:nvSpPr>
        <p:spPr>
          <a:xfrm>
            <a:off x="7075440" y="4275000"/>
            <a:ext cx="227160" cy="165240"/>
          </a:xfrm>
          <a:custGeom>
            <a:avLst/>
            <a:gdLst/>
            <a:ahLst/>
            <a:rect l="l" t="t" r="r" b="b"/>
            <a:pathLst>
              <a:path w="631" h="459">
                <a:moveTo>
                  <a:pt x="19669" y="11989"/>
                </a:moveTo>
                <a:cubicBezTo>
                  <a:pt x="19662" y="11964"/>
                  <a:pt x="19647" y="11927"/>
                  <a:pt x="19655" y="11900"/>
                </a:cubicBezTo>
                <a:cubicBezTo>
                  <a:pt x="19657" y="11885"/>
                  <a:pt x="19658" y="11879"/>
                  <a:pt x="19670" y="11875"/>
                </a:cubicBezTo>
                <a:cubicBezTo>
                  <a:pt x="19704" y="11881"/>
                  <a:pt x="19712" y="11884"/>
                  <a:pt x="19739" y="11910"/>
                </a:cubicBezTo>
                <a:cubicBezTo>
                  <a:pt x="19793" y="11962"/>
                  <a:pt x="19827" y="12027"/>
                  <a:pt x="19854" y="12096"/>
                </a:cubicBezTo>
                <a:cubicBezTo>
                  <a:pt x="19875" y="12150"/>
                  <a:pt x="19894" y="12216"/>
                  <a:pt x="19886" y="12275"/>
                </a:cubicBezTo>
                <a:cubicBezTo>
                  <a:pt x="19885" y="12280"/>
                  <a:pt x="19883" y="12284"/>
                  <a:pt x="19882" y="12289"/>
                </a:cubicBezTo>
                <a:cubicBezTo>
                  <a:pt x="19875" y="12266"/>
                  <a:pt x="19872" y="12248"/>
                  <a:pt x="19871" y="12222"/>
                </a:cubicBezTo>
                <a:cubicBezTo>
                  <a:pt x="19869" y="12156"/>
                  <a:pt x="19877" y="12088"/>
                  <a:pt x="19912" y="12031"/>
                </a:cubicBezTo>
                <a:cubicBezTo>
                  <a:pt x="19933" y="11997"/>
                  <a:pt x="19970" y="11978"/>
                  <a:pt x="20007" y="12002"/>
                </a:cubicBezTo>
                <a:cubicBezTo>
                  <a:pt x="20039" y="12023"/>
                  <a:pt x="20057" y="12061"/>
                  <a:pt x="20069" y="12096"/>
                </a:cubicBezTo>
                <a:cubicBezTo>
                  <a:pt x="20081" y="12132"/>
                  <a:pt x="20084" y="12167"/>
                  <a:pt x="20079" y="12205"/>
                </a:cubicBezTo>
                <a:cubicBezTo>
                  <a:pt x="20072" y="12176"/>
                  <a:pt x="20069" y="12157"/>
                  <a:pt x="20078" y="12124"/>
                </a:cubicBezTo>
                <a:cubicBezTo>
                  <a:pt x="20089" y="12083"/>
                  <a:pt x="20108" y="12038"/>
                  <a:pt x="20142" y="12013"/>
                </a:cubicBezTo>
                <a:cubicBezTo>
                  <a:pt x="20182" y="11984"/>
                  <a:pt x="20211" y="12025"/>
                  <a:pt x="20227" y="12058"/>
                </a:cubicBezTo>
                <a:cubicBezTo>
                  <a:pt x="20258" y="12121"/>
                  <a:pt x="20271" y="12200"/>
                  <a:pt x="20277" y="12269"/>
                </a:cubicBezTo>
                <a:cubicBezTo>
                  <a:pt x="20279" y="12290"/>
                  <a:pt x="20279" y="12312"/>
                  <a:pt x="20281" y="12333"/>
                </a:cubicBezTo>
                <a:cubicBezTo>
                  <a:pt x="20283" y="12307"/>
                  <a:pt x="20283" y="12294"/>
                  <a:pt x="20283" y="1226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Ink 20"/>
          <p:cNvSpPr/>
          <p:nvPr/>
        </p:nvSpPr>
        <p:spPr>
          <a:xfrm>
            <a:off x="7280280" y="4200480"/>
            <a:ext cx="20520" cy="4680"/>
          </a:xfrm>
          <a:custGeom>
            <a:avLst/>
            <a:gdLst/>
            <a:ahLst/>
            <a:rect l="l" t="t" r="r" b="b"/>
            <a:pathLst>
              <a:path w="57" h="10">
                <a:moveTo>
                  <a:pt x="20233" y="11672"/>
                </a:moveTo>
                <a:cubicBezTo>
                  <a:pt x="20230" y="11672"/>
                  <a:pt x="20226" y="11672"/>
                  <a:pt x="20223" y="11672"/>
                </a:cubicBezTo>
                <a:cubicBezTo>
                  <a:pt x="20238" y="11680"/>
                  <a:pt x="20258" y="11673"/>
                  <a:pt x="20279" y="11670"/>
                </a:cubicBezTo>
              </a:path>
            </a:pathLst>
          </a:custGeom>
          <a:noFill/>
          <a:ln cap="rnd" w="19080">
            <a:solidFill>
              <a:srgbClr val="ff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 name="Ink 21"/>
          <p:cNvSpPr/>
          <p:nvPr/>
        </p:nvSpPr>
        <p:spPr>
          <a:xfrm>
            <a:off x="7416720" y="4233960"/>
            <a:ext cx="115920" cy="230040"/>
          </a:xfrm>
          <a:custGeom>
            <a:avLst/>
            <a:gdLst/>
            <a:ahLst/>
            <a:rect l="l" t="t" r="r" b="b"/>
            <a:pathLst>
              <a:path w="321" h="643">
                <a:moveTo>
                  <a:pt x="20763" y="11894"/>
                </a:moveTo>
                <a:cubicBezTo>
                  <a:pt x="20775" y="11875"/>
                  <a:pt x="20781" y="11859"/>
                  <a:pt x="20781" y="11835"/>
                </a:cubicBezTo>
                <a:cubicBezTo>
                  <a:pt x="20781" y="11818"/>
                  <a:pt x="20777" y="11773"/>
                  <a:pt x="20760" y="11762"/>
                </a:cubicBezTo>
                <a:cubicBezTo>
                  <a:pt x="20729" y="11742"/>
                  <a:pt x="20703" y="11789"/>
                  <a:pt x="20693" y="11809"/>
                </a:cubicBezTo>
                <a:cubicBezTo>
                  <a:pt x="20660" y="11876"/>
                  <a:pt x="20640" y="11952"/>
                  <a:pt x="20624" y="12025"/>
                </a:cubicBezTo>
                <a:cubicBezTo>
                  <a:pt x="20606" y="12111"/>
                  <a:pt x="20585" y="12219"/>
                  <a:pt x="20606" y="12306"/>
                </a:cubicBezTo>
                <a:cubicBezTo>
                  <a:pt x="20617" y="12353"/>
                  <a:pt x="20647" y="12385"/>
                  <a:pt x="20694" y="12396"/>
                </a:cubicBezTo>
                <a:cubicBezTo>
                  <a:pt x="20742" y="12408"/>
                  <a:pt x="20800" y="12403"/>
                  <a:pt x="20848" y="12394"/>
                </a:cubicBezTo>
                <a:cubicBezTo>
                  <a:pt x="20888" y="12385"/>
                  <a:pt x="20900" y="12382"/>
                  <a:pt x="20921" y="1236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Ink 22"/>
          <p:cNvSpPr/>
          <p:nvPr/>
        </p:nvSpPr>
        <p:spPr>
          <a:xfrm>
            <a:off x="7620120" y="4148280"/>
            <a:ext cx="54000" cy="379440"/>
          </a:xfrm>
          <a:custGeom>
            <a:avLst/>
            <a:gdLst/>
            <a:ahLst/>
            <a:rect l="l" t="t" r="r" b="b"/>
            <a:pathLst>
              <a:path w="149" h="1054">
                <a:moveTo>
                  <a:pt x="21166" y="11524"/>
                </a:moveTo>
                <a:cubicBezTo>
                  <a:pt x="21205" y="11580"/>
                  <a:pt x="21239" y="11635"/>
                  <a:pt x="21262" y="11700"/>
                </a:cubicBezTo>
                <a:cubicBezTo>
                  <a:pt x="21313" y="11844"/>
                  <a:pt x="21327" y="12011"/>
                  <a:pt x="21312" y="12163"/>
                </a:cubicBezTo>
                <a:cubicBezTo>
                  <a:pt x="21302" y="12260"/>
                  <a:pt x="21281" y="12385"/>
                  <a:pt x="21239" y="12473"/>
                </a:cubicBezTo>
                <a:cubicBezTo>
                  <a:pt x="21204" y="12523"/>
                  <a:pt x="21193" y="12539"/>
                  <a:pt x="21179" y="1257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Ink 23"/>
          <p:cNvSpPr/>
          <p:nvPr/>
        </p:nvSpPr>
        <p:spPr>
          <a:xfrm>
            <a:off x="7051680" y="4118040"/>
            <a:ext cx="69840" cy="469800"/>
          </a:xfrm>
          <a:custGeom>
            <a:avLst/>
            <a:gdLst/>
            <a:ahLst/>
            <a:rect l="l" t="t" r="r" b="b"/>
            <a:pathLst>
              <a:path w="194" h="1306">
                <a:moveTo>
                  <a:pt x="19676" y="11447"/>
                </a:moveTo>
                <a:cubicBezTo>
                  <a:pt x="19654" y="11455"/>
                  <a:pt x="19659" y="11439"/>
                  <a:pt x="19638" y="11469"/>
                </a:cubicBezTo>
                <a:cubicBezTo>
                  <a:pt x="19613" y="11505"/>
                  <a:pt x="19608" y="11581"/>
                  <a:pt x="19603" y="11622"/>
                </a:cubicBezTo>
                <a:cubicBezTo>
                  <a:pt x="19583" y="11778"/>
                  <a:pt x="19585" y="11941"/>
                  <a:pt x="19595" y="12098"/>
                </a:cubicBezTo>
                <a:cubicBezTo>
                  <a:pt x="19605" y="12258"/>
                  <a:pt x="19634" y="12411"/>
                  <a:pt x="19689" y="12562"/>
                </a:cubicBezTo>
                <a:cubicBezTo>
                  <a:pt x="19727" y="12656"/>
                  <a:pt x="19742" y="12689"/>
                  <a:pt x="19783" y="1274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4" presetSubtype="32">
                                  <p:stCondLst>
                                    <p:cond delay="0"/>
                                  </p:stCondLst>
                                  <p:childTnLst>
                                    <p:audio isNarration="0">
                                      <p:cMediaNode showWhenStopped="1">
                                        <p:cTn/>
                                        <p:tgtEl>
                                          <p:sndTgt r:embed="rId1" name="camera.wav"/>
                                        </p:tgtEl>
                                      </p:cMediaNode>
                                    </p:audio>
                                    <p:set>
                                      <p:cBhvr>
                                        <p:cTn id="106" dur="1" fill="hold">
                                          <p:stCondLst>
                                            <p:cond delay="0"/>
                                          </p:stCondLst>
                                        </p:cTn>
                                        <p:tgtEl>
                                          <p:spTgt spid="100">
                                            <p:txEl>
                                              <p:pRg st="0" end="0"/>
                                            </p:txEl>
                                          </p:spTgt>
                                        </p:tgtEl>
                                        <p:attrNameLst>
                                          <p:attrName>style.visibility</p:attrName>
                                        </p:attrNameLst>
                                      </p:cBhvr>
                                      <p:to>
                                        <p:strVal val="visible"/>
                                      </p:to>
                                    </p:set>
                                    <p:animEffect filter="box(out)" transition="in">
                                      <p:cBhvr additive="repl">
                                        <p:cTn id="107" dur="500"/>
                                        <p:tgtEl>
                                          <p:spTgt spid="100">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32">
                                  <p:stCondLst>
                                    <p:cond delay="0"/>
                                  </p:stCondLst>
                                  <p:childTnLst>
                                    <p:audio isNarration="0">
                                      <p:cMediaNode showWhenStopped="1">
                                        <p:cTn/>
                                        <p:tgtEl>
                                          <p:sndTgt r:embed="rId2" name="camera.wav"/>
                                        </p:tgtEl>
                                      </p:cMediaNode>
                                    </p:audio>
                                    <p:set>
                                      <p:cBhvr>
                                        <p:cTn id="111" dur="1" fill="hold">
                                          <p:stCondLst>
                                            <p:cond delay="0"/>
                                          </p:stCondLst>
                                        </p:cTn>
                                        <p:tgtEl>
                                          <p:spTgt spid="100">
                                            <p:txEl>
                                              <p:pRg st="1" end="1"/>
                                            </p:txEl>
                                          </p:spTgt>
                                        </p:tgtEl>
                                        <p:attrNameLst>
                                          <p:attrName>style.visibility</p:attrName>
                                        </p:attrNameLst>
                                      </p:cBhvr>
                                      <p:to>
                                        <p:strVal val="visible"/>
                                      </p:to>
                                    </p:set>
                                    <p:animEffect filter="box(out)" transition="in">
                                      <p:cBhvr additive="repl">
                                        <p:cTn id="112" dur="500"/>
                                        <p:tgtEl>
                                          <p:spTgt spid="100">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32">
                                  <p:stCondLst>
                                    <p:cond delay="0"/>
                                  </p:stCondLst>
                                  <p:childTnLst>
                                    <p:audio isNarration="0">
                                      <p:cMediaNode showWhenStopped="1">
                                        <p:cTn/>
                                        <p:tgtEl>
                                          <p:sndTgt r:embed="rId3" name="camera.wav"/>
                                        </p:tgtEl>
                                      </p:cMediaNode>
                                    </p:audio>
                                    <p:set>
                                      <p:cBhvr>
                                        <p:cTn id="116" dur="1" fill="hold">
                                          <p:stCondLst>
                                            <p:cond delay="0"/>
                                          </p:stCondLst>
                                        </p:cTn>
                                        <p:tgtEl>
                                          <p:spTgt spid="100">
                                            <p:txEl>
                                              <p:pRg st="2" end="2"/>
                                            </p:txEl>
                                          </p:spTgt>
                                        </p:tgtEl>
                                        <p:attrNameLst>
                                          <p:attrName>style.visibility</p:attrName>
                                        </p:attrNameLst>
                                      </p:cBhvr>
                                      <p:to>
                                        <p:strVal val="visible"/>
                                      </p:to>
                                    </p:set>
                                    <p:animEffect filter="box(out)" transition="in">
                                      <p:cBhvr additive="repl">
                                        <p:cTn id="117" dur="500"/>
                                        <p:tgtEl>
                                          <p:spTgt spid="100">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101"/>
                                        </p:tgtEl>
                                        <p:attrNameLst>
                                          <p:attrName>style.visibility</p:attrName>
                                        </p:attrNameLst>
                                      </p:cBhvr>
                                      <p:to>
                                        <p:strVal val="visible"/>
                                      </p:to>
                                    </p:set>
                                    <p:animEffect filter="dissolve" transition="in">
                                      <p:cBhvr additive="repl">
                                        <p:cTn id="122" dur="500"/>
                                        <p:tgtEl>
                                          <p:spTgt spid="101"/>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32">
                                  <p:stCondLst>
                                    <p:cond delay="0"/>
                                  </p:stCondLst>
                                  <p:childTnLst>
                                    <p:audio isNarration="0">
                                      <p:cMediaNode showWhenStopped="1">
                                        <p:cTn/>
                                        <p:tgtEl>
                                          <p:sndTgt r:embed="rId4" name="camera.wav"/>
                                        </p:tgtEl>
                                      </p:cMediaNode>
                                    </p:audio>
                                    <p:set>
                                      <p:cBhvr>
                                        <p:cTn id="126" dur="1" fill="hold">
                                          <p:stCondLst>
                                            <p:cond delay="0"/>
                                          </p:stCondLst>
                                        </p:cTn>
                                        <p:tgtEl>
                                          <p:spTgt spid="102">
                                            <p:txEl>
                                              <p:pRg st="0" end="0"/>
                                            </p:txEl>
                                          </p:spTgt>
                                        </p:tgtEl>
                                        <p:attrNameLst>
                                          <p:attrName>style.visibility</p:attrName>
                                        </p:attrNameLst>
                                      </p:cBhvr>
                                      <p:to>
                                        <p:strVal val="visible"/>
                                      </p:to>
                                    </p:set>
                                    <p:animEffect filter="box(out)" transition="in">
                                      <p:cBhvr additive="repl">
                                        <p:cTn id="127" dur="500"/>
                                        <p:tgtEl>
                                          <p:spTgt spid="102">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32">
                                  <p:stCondLst>
                                    <p:cond delay="0"/>
                                  </p:stCondLst>
                                  <p:childTnLst>
                                    <p:audio isNarration="0">
                                      <p:cMediaNode showWhenStopped="1">
                                        <p:cTn/>
                                        <p:tgtEl>
                                          <p:sndTgt r:embed="rId5" name="camera.wav"/>
                                        </p:tgtEl>
                                      </p:cMediaNode>
                                    </p:audio>
                                    <p:set>
                                      <p:cBhvr>
                                        <p:cTn id="131" dur="1" fill="hold">
                                          <p:stCondLst>
                                            <p:cond delay="0"/>
                                          </p:stCondLst>
                                        </p:cTn>
                                        <p:tgtEl>
                                          <p:spTgt spid="102">
                                            <p:txEl>
                                              <p:pRg st="1" end="1"/>
                                            </p:txEl>
                                          </p:spTgt>
                                        </p:tgtEl>
                                        <p:attrNameLst>
                                          <p:attrName>style.visibility</p:attrName>
                                        </p:attrNameLst>
                                      </p:cBhvr>
                                      <p:to>
                                        <p:strVal val="visible"/>
                                      </p:to>
                                    </p:set>
                                    <p:animEffect filter="box(out)" transition="in">
                                      <p:cBhvr additive="repl">
                                        <p:cTn id="132" dur="500"/>
                                        <p:tgtEl>
                                          <p:spTgt spid="1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2514600"/>
            <a:ext cx="7772400" cy="261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Plate HX is said to be Optimally Sized, if the thermal length required by the duty can match the characteristic of the channel, by utilizing all the available pressure drop with no over-dimensioning, for any chosen channel geometry.</a:t>
            </a:r>
            <a:br>
              <a:rPr sz="2800"/>
            </a:br>
            <a:endParaRPr b="0" lang="en-US" sz="2800" spc="-1" strike="noStrike">
              <a:solidFill>
                <a:srgbClr val="000000"/>
              </a:solidFill>
              <a:latin typeface="Times New Roman"/>
            </a:endParaRPr>
          </a:p>
        </p:txBody>
      </p:sp>
      <p:sp>
        <p:nvSpPr>
          <p:cNvPr id="122" name="PlaceHolder 2"/>
          <p:cNvSpPr>
            <a:spLocks noGrp="1"/>
          </p:cNvSpPr>
          <p:nvPr>
            <p:ph type="subTitle"/>
          </p:nvPr>
        </p:nvSpPr>
        <p:spPr>
          <a:xfrm>
            <a:off x="1066680" y="685800"/>
            <a:ext cx="640080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ntral Ide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21"/>
                                        </p:tgtEl>
                                        <p:attrNameLst>
                                          <p:attrName>style.visibility</p:attrName>
                                        </p:attrNameLst>
                                      </p:cBhvr>
                                      <p:to>
                                        <p:strVal val="visible"/>
                                      </p:to>
                                    </p:set>
                                    <p:animEffect filter="dissolve" transition="in">
                                      <p:cBhvr additive="repl">
                                        <p:cTn id="139"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0T05:45:36Z</dcterms:created>
  <dc:creator>abc</dc:creator>
  <dc:description/>
  <dc:language>en-US</dc:language>
  <cp:lastModifiedBy>K13115</cp:lastModifiedBy>
  <dcterms:modified xsi:type="dcterms:W3CDTF">2018-10-22T10:42:39Z</dcterms:modified>
  <cp:revision>251</cp:revision>
  <dc:subject/>
  <dc:title>PowerPoint Presentation</dc:title>
</cp:coreProperties>
</file>