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8.gif" ContentType="image/gif"/>
  <Override PartName="/ppt/media/image16.png" ContentType="image/png"/>
  <Override PartName="/ppt/media/image15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5EB-5CB2-4863-AB88-1472D840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6A6-821C-4F93-9F8A-E3942E17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E5D5-FB70-401F-B7D0-4261F51C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EE2-145C-4E5F-8233-5233900C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41E4-F6C6-4AD1-B4B8-6A0F0F40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F820-E675-46ED-8100-1C40C893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53D1-C439-4492-BD26-4FCDBAD9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613F-95E9-4DC9-BC77-5440BA3A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6A4C-B616-43AA-945A-24C7D987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7FCC-64CE-4C47-9F28-BFC1260D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629A-C923-4D72-90AA-8BAC182C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313B-458E-4420-9D9F-820815F2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C942-5A8D-4739-8E36-9C6D9619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8DF4-C0E8-49F3-BB28-E5C412CF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AED0-5315-4B8F-8530-2CF431BF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671E-181F-4DFA-8FE3-7F1D6690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3113-E61F-4A7F-B47F-A848C67B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5978E-EEBB-4BC6-9476-4A1BAA65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DD1A5-3071-4E04-B962-AFE2CAAE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9176F-3E94-48EE-87CA-4BF1162B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A96DB-A97C-4813-ADA2-8893E726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2F94E-E2BF-42FA-9808-14AB58B4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E5C-4B76-4E6A-9440-A73FC845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E3518-B153-45AB-BAB2-9817018B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375C3-49BE-482A-9810-71F401B4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40FAE-4CF2-44CF-A3C0-75FE9D7B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2D98C-7B84-4ADE-AFA1-0447BA4F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63BE8-5F3F-4BBC-A70C-98E45C8F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FDD8B-80D8-4EA2-8E22-4DF37FC5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2A412-5382-46E7-8170-3ABCDEF2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4B054-18C9-442B-A046-A549AF89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9F818-CCAE-4CD6-AA23-BECC2BDD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EC37A-3956-468C-B72B-F598F592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472C-1B20-41C6-9736-714B0D59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569C3-3620-487F-A13A-96AF2D6D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26C8A-21F6-4705-B86F-251BFB07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FF7F8-174B-4FF5-A63D-1242433A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C7298-2D4B-4C24-975B-AAC4CFF4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CB324-E1E8-41BB-AF39-30859D9C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7D4CC-0FEC-48A9-AA59-B61DB877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0C09C-D474-4A7E-B2A3-FDAF8F1A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19771-A874-4FBA-87FC-3D0CD383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1D0B5-5B87-40EA-890A-F1C63173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7FC05-A902-41B1-BB0A-5AA49B00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A31A-3EFD-4FCE-98D9-BEA7D83A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4EC09-B4C2-4D74-B10A-DDE5EA40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972A2-E7DB-463F-99ED-71025580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56656-4E6C-435B-AE4E-DD6F2DB2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1DEA0-2477-4D32-A8DA-46267D39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E94DD-24B0-4B32-ADED-638261A4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3DDFB-A87A-4307-B39F-904649BF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4BFA2-D87C-4A39-AAA8-50055FC8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E60C4-9AD9-46D7-B1E2-ECB0D684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FF094-AA96-4500-85A9-F0C8ECB1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D54A7-CA21-42B7-9D83-EC90BCAD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75B3-FA92-4F91-9747-B3F072EE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20E6A-9233-4240-9969-A385427C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595A0-9901-4987-B7DD-0F8371A5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9336C-17F2-4F08-BBC9-F0F8A733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39932-0A78-4A8A-A46B-5EC6A6E4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DE3FE-3FF4-4206-8548-0135B48C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4056C-427E-49B1-8520-B9B8C8C6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B99D3-F2C0-408A-AF2B-3B2A58D7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40900-5A7A-4B21-BB48-E5298E52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42ACF-DE30-4292-9168-69955BA8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B040A-A2D0-47BA-8E1C-0D8F9569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1112-D000-4116-80DA-C907CC31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B999A-5AE0-467B-BB64-FF57F342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59A57-2661-48D5-80FB-443E19FD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98BDD-7F39-4C8A-8845-BCFB238B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32E-5E27-4C03-B626-BAE76969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6525-71A6-41E3-AA9A-902F3C12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01C5-3076-4089-8B0E-2317911EAFE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55DD-C175-4882-A1D1-C053D18EC41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FF92-395A-4B56-B5D7-1B12B045380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7338-AD24-421B-AAF1-404F30AC908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3C12-5B9A-4F7E-9554-1323150FC44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7EDA-6CE6-40BB-8B89-1864978E82B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5" descr=""/>
          <p:cNvPicPr/>
          <p:nvPr/>
        </p:nvPicPr>
        <p:blipFill>
          <a:blip r:embed="rId1"/>
          <a:stretch/>
        </p:blipFill>
        <p:spPr>
          <a:xfrm>
            <a:off x="1292400" y="244440"/>
            <a:ext cx="6608520" cy="24433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294920" y="3124080"/>
            <a:ext cx="6480360" cy="24386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e By Moh’d Saad Jalmoo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r. Malek Al Ah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7" descr="ShellandTubeHeatExchangers1.jpg"/>
          <p:cNvPicPr/>
          <p:nvPr/>
        </p:nvPicPr>
        <p:blipFill>
          <a:blip r:embed="rId2"/>
          <a:stretch/>
        </p:blipFill>
        <p:spPr>
          <a:xfrm>
            <a:off x="1219320" y="2209680"/>
            <a:ext cx="6858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There are many types of shell-tube heat exchanger but the most common types in use  are :-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2209320"/>
            <a:ext cx="7467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-Tube Heat Exchang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raight-Tube  ( 1-Pass 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raight-Tube  ( 2-Pass 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U-Tube Heat Exchanger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8" name="Content Placeholder 3" descr="U-tube_heat_exchanger.png"/>
          <p:cNvPicPr/>
          <p:nvPr/>
        </p:nvPicPr>
        <p:blipFill>
          <a:blip r:embed="rId1"/>
          <a:stretch/>
        </p:blipFill>
        <p:spPr>
          <a:xfrm>
            <a:off x="838080" y="1523880"/>
            <a:ext cx="7467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raight-Tube  ( 1-Pass 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0" name="Content Placeholder 3" descr="Straight-tube_heat_exchanger_1-pass.png"/>
          <p:cNvPicPr/>
          <p:nvPr/>
        </p:nvPicPr>
        <p:blipFill>
          <a:blip r:embed="rId1"/>
          <a:stretch/>
        </p:blipFill>
        <p:spPr>
          <a:xfrm>
            <a:off x="762120" y="1600200"/>
            <a:ext cx="746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raight-Tube  ( 2-Pass 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2" name="Content Placeholder 3" descr="Straight-tube_heat_exchanger_2-pass.png"/>
          <p:cNvPicPr/>
          <p:nvPr/>
        </p:nvPicPr>
        <p:blipFill>
          <a:blip r:embed="rId1"/>
          <a:stretch/>
        </p:blipFill>
        <p:spPr>
          <a:xfrm>
            <a:off x="838080" y="1600200"/>
            <a:ext cx="7315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3" descr=""/>
          <p:cNvPicPr/>
          <p:nvPr/>
        </p:nvPicPr>
        <p:blipFill>
          <a:blip r:embed="rId1"/>
          <a:stretch/>
        </p:blipFill>
        <p:spPr>
          <a:xfrm>
            <a:off x="1017720" y="1523880"/>
            <a:ext cx="7029360" cy="25354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ffffff"/>
              </a:solidFill>
              <a:latin typeface="Arial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itle 1" descr=""/>
          <p:cNvPicPr/>
          <p:nvPr/>
        </p:nvPicPr>
        <p:blipFill>
          <a:blip r:embed="rId1"/>
          <a:stretch/>
        </p:blipFill>
        <p:spPr>
          <a:xfrm>
            <a:off x="669960" y="1139760"/>
            <a:ext cx="7377120" cy="27558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066320" y="4114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eck this out !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600" spc="-1" strike="noStrike">
              <a:solidFill>
                <a:srgbClr val="ffffff"/>
              </a:solidFill>
              <a:latin typeface="Franklin Gothic Book"/>
              <a:ea typeface="Tahoma"/>
            </a:endParaRPr>
          </a:p>
        </p:txBody>
      </p:sp>
      <p:pic>
        <p:nvPicPr>
          <p:cNvPr id="288" name="Content Placeholder 5" descr="20071003143141_s5004437.jpg"/>
          <p:cNvPicPr/>
          <p:nvPr/>
        </p:nvPicPr>
        <p:blipFill>
          <a:blip r:embed="rId1"/>
          <a:stretch/>
        </p:blipFill>
        <p:spPr>
          <a:xfrm>
            <a:off x="457200" y="533520"/>
            <a:ext cx="8001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U-Tub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0" name="Content Placeholder 3" descr="TypeHTR%20U-Tube.jpg"/>
          <p:cNvPicPr/>
          <p:nvPr/>
        </p:nvPicPr>
        <p:blipFill>
          <a:blip r:embed="rId1"/>
          <a:stretch/>
        </p:blipFill>
        <p:spPr>
          <a:xfrm>
            <a:off x="969840" y="1517760"/>
            <a:ext cx="7058160" cy="91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fferent Shap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2" name="Content Placeholder 3" descr="132p-7.jpg"/>
          <p:cNvPicPr/>
          <p:nvPr/>
        </p:nvPicPr>
        <p:blipFill>
          <a:blip r:embed="rId1"/>
          <a:stretch/>
        </p:blipFill>
        <p:spPr>
          <a:xfrm>
            <a:off x="1670040" y="1365120"/>
            <a:ext cx="53532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Many of them in just one factory !!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4" name="Content Placeholder 3" descr="shell_and_tubeA.jpg"/>
          <p:cNvPicPr/>
          <p:nvPr/>
        </p:nvPicPr>
        <p:blipFill>
          <a:blip r:embed="rId1"/>
          <a:stretch/>
        </p:blipFill>
        <p:spPr>
          <a:xfrm>
            <a:off x="609480" y="1600200"/>
            <a:ext cx="7467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EA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’s a shell and tube heat exchanger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dose it work 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mon types of shell and heat exchanger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me Picture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ND !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t the End &gt;&gt;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-36324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know the shell and tube heat exchanger consist of Shell side and the tubes inside 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fluids of different temperatures are brought into close contact but they are not mixing with each other , one fluid flows through the shell and the other fluid flows through the tub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emperature of the two fluids will tend to equalize . The heat are simply exchanged from one fluid to the other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three common types of the shell and tubes heat exchang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  U-Tu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- Straight-Tube ( 1-Pass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- Straight-Tube ( 2-Pass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ell and Tube Heat Exchanger comes with a lot of different shapes and sizes , It could be large or small or 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467840" cy="185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Book"/>
              </a:rPr>
              <a:t>THE END 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8" name="Picture 9" descr="j0254500"/>
          <p:cNvPicPr/>
          <p:nvPr/>
        </p:nvPicPr>
        <p:blipFill>
          <a:blip r:embed="rId1"/>
          <a:stretch/>
        </p:blipFill>
        <p:spPr>
          <a:xfrm>
            <a:off x="2971800" y="2209680"/>
            <a:ext cx="2743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Title 3" descr=""/>
          <p:cNvPicPr/>
          <p:nvPr/>
        </p:nvPicPr>
        <p:blipFill>
          <a:blip r:embed="rId1"/>
          <a:stretch/>
        </p:blipFill>
        <p:spPr>
          <a:xfrm>
            <a:off x="907920" y="628560"/>
            <a:ext cx="6499440" cy="31147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066320" y="3809880"/>
            <a:ext cx="6480360" cy="23623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k you !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i beaucoup !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zie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igatoo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ekkur ederim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!  Good luck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5" descr=""/>
          <p:cNvPicPr/>
          <p:nvPr/>
        </p:nvPicPr>
        <p:blipFill>
          <a:blip r:embed="rId1"/>
          <a:stretch/>
        </p:blipFill>
        <p:spPr>
          <a:xfrm>
            <a:off x="907920" y="1328760"/>
            <a:ext cx="6645240" cy="33764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440" y="248580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ffffff"/>
              </a:solidFill>
              <a:latin typeface="Arial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600" spc="-1" strike="noStrike">
              <a:solidFill>
                <a:srgbClr val="ffffff"/>
              </a:solidFill>
              <a:latin typeface="Franklin Gothic Book"/>
              <a:ea typeface="Tahom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ist of two main things as it’s name implies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hel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ub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hel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s a large vassel with a number of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ub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nside it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Content Placeholder 8" descr="hydraulics5_2.jpg"/>
          <p:cNvPicPr/>
          <p:nvPr/>
        </p:nvPicPr>
        <p:blipFill>
          <a:blip r:embed="rId1"/>
          <a:stretch/>
        </p:blipFill>
        <p:spPr>
          <a:xfrm>
            <a:off x="4495680" y="1752480"/>
            <a:ext cx="3810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600" spc="-1" strike="noStrike">
              <a:solidFill>
                <a:srgbClr val="ffffff"/>
              </a:solidFill>
              <a:latin typeface="Franklin Gothic Book"/>
              <a:ea typeface="Tahom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066680"/>
            <a:ext cx="7467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principle of operation is simple enough: Two fluids of different temperatures are brought into close contact but they are not mixing with each oth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e fluid runs through the tubes, and another fluid flows over the tubes (through the shell) to transfer heat between the two fluid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600" spc="-1" strike="noStrike">
              <a:solidFill>
                <a:srgbClr val="ffffff"/>
              </a:solidFill>
              <a:latin typeface="Franklin Gothic Book"/>
              <a:ea typeface="Tahoma"/>
            </a:endParaRPr>
          </a:p>
        </p:txBody>
      </p:sp>
      <p:pic>
        <p:nvPicPr>
          <p:cNvPr id="267" name="Content Placeholder 3" descr="Shell_tube_flow.png"/>
          <p:cNvPicPr/>
          <p:nvPr/>
        </p:nvPicPr>
        <p:blipFill>
          <a:blip r:embed="rId1"/>
          <a:stretch/>
        </p:blipFill>
        <p:spPr>
          <a:xfrm>
            <a:off x="762120" y="685800"/>
            <a:ext cx="693396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5" descr=""/>
          <p:cNvPicPr/>
          <p:nvPr/>
        </p:nvPicPr>
        <p:blipFill>
          <a:blip r:embed="rId1"/>
          <a:stretch/>
        </p:blipFill>
        <p:spPr>
          <a:xfrm>
            <a:off x="1139760" y="2060640"/>
            <a:ext cx="6492960" cy="25351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143000" y="68580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ffffff"/>
              </a:solidFill>
              <a:latin typeface="Arial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600" spc="-1" strike="noStrike">
              <a:solidFill>
                <a:srgbClr val="ffffff"/>
              </a:solidFill>
              <a:latin typeface="Franklin Gothic Book"/>
              <a:ea typeface="Tahom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temperature of the two fluids will tend to equalize . The heat are simply exchanged from one fluid to the other and vice versa. No energy is added or removed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Content Placeholder 5" descr="1879.jpg"/>
          <p:cNvPicPr/>
          <p:nvPr/>
        </p:nvPicPr>
        <p:blipFill>
          <a:blip r:embed="rId1"/>
          <a:stretch/>
        </p:blipFill>
        <p:spPr>
          <a:xfrm>
            <a:off x="4419720" y="1600200"/>
            <a:ext cx="350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4" descr=""/>
          <p:cNvPicPr/>
          <p:nvPr/>
        </p:nvPicPr>
        <p:blipFill>
          <a:blip r:embed="rId1"/>
          <a:stretch/>
        </p:blipFill>
        <p:spPr>
          <a:xfrm>
            <a:off x="1292400" y="1920960"/>
            <a:ext cx="6492600" cy="244296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143000" y="30492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ffffff"/>
              </a:solidFill>
              <a:latin typeface="Arial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8:52:17Z</dcterms:created>
  <dc:creator>User</dc:creator>
  <dc:description/>
  <dc:language>en-US</dc:language>
  <cp:lastModifiedBy>K13115</cp:lastModifiedBy>
  <dcterms:modified xsi:type="dcterms:W3CDTF">2018-10-22T10:48:44Z</dcterms:modified>
  <cp:revision>19</cp:revision>
  <dc:subject/>
  <dc:title>Shell and tube heat  exchanger</dc:title>
</cp:coreProperties>
</file>