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8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3C8-7C1A-4AF1-B6B4-7E74392A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34D-AF4F-47E7-A46B-99EF935F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C98-3D0A-49EF-9B09-3945F252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B0E-C16A-45F3-B95F-6B55CED4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9CF-4A60-4F2F-9936-A79154B5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B1B-8D65-4873-838B-94E1F76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A06-FED6-4510-A9DB-30BDE54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3DE-DF9E-4287-B70C-AB9FB048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A2C-E1B3-481F-A441-AAB19AD7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3A8-7EBD-489A-92F8-3F7B3974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70F-7928-43C5-90E0-3FDD051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C6A-3CD1-4CEB-B471-8EADD01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5EF4-C776-41E4-A8F8-815C5ED19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193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,Bold"/>
              </a:rPr>
              <a:t>SHELL-AND-TUBE HEAT EXCHAN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cript MT Bold"/>
              </a:rPr>
              <a:t>P M V Subbara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cript MT Bold"/>
              </a:rPr>
              <a:t>Prof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chanical Engineering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 I T Delh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2193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0880" y="5245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Segoe Script"/>
              </a:rPr>
              <a:t>An Engineering Solution to the Crisis of Massive Volume Requiremen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Segoe Script"/>
              </a:rPr>
              <a:t>A Complex Blend of Simple Ideas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7" name="Group 8"/>
            <p:cNvGrpSpPr/>
            <p:nvPr/>
          </p:nvGrpSpPr>
          <p:grpSpPr>
            <a:xfrm>
              <a:off x="0" y="0"/>
              <a:ext cx="304560" cy="6857640"/>
              <a:chOff x="0" y="0"/>
              <a:chExt cx="304560" cy="6857640"/>
            </a:xfrm>
          </p:grpSpPr>
          <p:sp>
            <p:nvSpPr>
              <p:cNvPr id="48" name="Rectangle 9"/>
              <p:cNvSpPr/>
              <p:nvPr/>
            </p:nvSpPr>
            <p:spPr>
              <a:xfrm>
                <a:off x="0" y="0"/>
                <a:ext cx="304560" cy="369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0" y="3466440"/>
                <a:ext cx="304560" cy="3391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Group 11"/>
            <p:cNvGrpSpPr/>
            <p:nvPr/>
          </p:nvGrpSpPr>
          <p:grpSpPr>
            <a:xfrm>
              <a:off x="9007560" y="38160"/>
              <a:ext cx="136440" cy="6819480"/>
              <a:chOff x="9007560" y="38160"/>
              <a:chExt cx="136440" cy="6819480"/>
            </a:xfrm>
          </p:grpSpPr>
          <p:sp>
            <p:nvSpPr>
              <p:cNvPr id="51" name="Rectangle 12"/>
              <p:cNvSpPr/>
              <p:nvPr/>
            </p:nvSpPr>
            <p:spPr>
              <a:xfrm>
                <a:off x="9007560" y="38160"/>
                <a:ext cx="136440" cy="36720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9007560" y="3485520"/>
                <a:ext cx="136440" cy="337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14"/>
            <p:cNvGrpSpPr/>
            <p:nvPr/>
          </p:nvGrpSpPr>
          <p:grpSpPr>
            <a:xfrm>
              <a:off x="228600" y="0"/>
              <a:ext cx="8915040" cy="228600"/>
              <a:chOff x="228600" y="0"/>
              <a:chExt cx="8915040" cy="228600"/>
            </a:xfrm>
          </p:grpSpPr>
          <p:sp>
            <p:nvSpPr>
              <p:cNvPr id="54" name="Rectangle 15"/>
              <p:cNvSpPr/>
              <p:nvPr/>
            </p:nvSpPr>
            <p:spPr>
              <a:xfrm>
                <a:off x="228600" y="0"/>
                <a:ext cx="4418640" cy="2286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16"/>
              <p:cNvSpPr/>
              <p:nvPr/>
            </p:nvSpPr>
            <p:spPr>
              <a:xfrm>
                <a:off x="4647240" y="0"/>
                <a:ext cx="4496400" cy="228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28600" y="6721560"/>
              <a:ext cx="8915040" cy="136440"/>
              <a:chOff x="228600" y="6721560"/>
              <a:chExt cx="8915040" cy="136440"/>
            </a:xfrm>
          </p:grpSpPr>
          <p:sp>
            <p:nvSpPr>
              <p:cNvPr id="57" name="Rectangle 18"/>
              <p:cNvSpPr/>
              <p:nvPr/>
            </p:nvSpPr>
            <p:spPr>
              <a:xfrm>
                <a:off x="228600" y="6721560"/>
                <a:ext cx="4418640" cy="1364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>
                <a:off x="4647240" y="6721560"/>
                <a:ext cx="4496400" cy="136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9" name="Rectangle 19458" descr=""/>
          <p:cNvPicPr/>
          <p:nvPr/>
        </p:nvPicPr>
        <p:blipFill>
          <a:blip r:embed="rId1"/>
          <a:stretch/>
        </p:blipFill>
        <p:spPr>
          <a:xfrm>
            <a:off x="2895480" y="1152360"/>
            <a:ext cx="383400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Tube S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7959600" cy="3504960"/>
          </a:xfrm>
          <a:prstGeom prst="rect">
            <a:avLst/>
          </a:prstGeom>
          <a:ln w="0">
            <a:noFill/>
          </a:ln>
        </p:spPr>
      </p:pic>
      <p:sp>
        <p:nvSpPr>
          <p:cNvPr id="116" name="Ink 4"/>
          <p:cNvSpPr/>
          <p:nvPr/>
        </p:nvSpPr>
        <p:spPr>
          <a:xfrm>
            <a:off x="1865160" y="5433840"/>
            <a:ext cx="169920" cy="311400"/>
          </a:xfrm>
          <a:custGeom>
            <a:avLst/>
            <a:gdLst/>
            <a:ahLst/>
            <a:rect l="l" t="t" r="r" b="b"/>
            <a:pathLst>
              <a:path w="471" h="864">
                <a:moveTo>
                  <a:pt x="5183" y="15094"/>
                </a:moveTo>
                <a:cubicBezTo>
                  <a:pt x="5205" y="15179"/>
                  <a:pt x="5235" y="15245"/>
                  <a:pt x="5271" y="15325"/>
                </a:cubicBezTo>
                <a:cubicBezTo>
                  <a:pt x="5359" y="15519"/>
                  <a:pt x="5428" y="15722"/>
                  <a:pt x="5515" y="15916"/>
                </a:cubicBezTo>
                <a:cubicBezTo>
                  <a:pt x="5527" y="15942"/>
                  <a:pt x="5529" y="15949"/>
                  <a:pt x="5546" y="15957"/>
                </a:cubicBezTo>
                <a:cubicBezTo>
                  <a:pt x="5573" y="15902"/>
                  <a:pt x="5590" y="15851"/>
                  <a:pt x="5600" y="15786"/>
                </a:cubicBezTo>
                <a:cubicBezTo>
                  <a:pt x="5620" y="15661"/>
                  <a:pt x="5626" y="15535"/>
                  <a:pt x="5639" y="15409"/>
                </a:cubicBezTo>
                <a:cubicBezTo>
                  <a:pt x="5643" y="15375"/>
                  <a:pt x="5647" y="15341"/>
                  <a:pt x="5653" y="153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Ink 5"/>
          <p:cNvSpPr/>
          <p:nvPr/>
        </p:nvSpPr>
        <p:spPr>
          <a:xfrm>
            <a:off x="6307200" y="5445000"/>
            <a:ext cx="282600" cy="441360"/>
          </a:xfrm>
          <a:custGeom>
            <a:avLst/>
            <a:gdLst/>
            <a:ahLst/>
            <a:rect l="l" t="t" r="r" b="b"/>
            <a:pathLst>
              <a:path w="787" h="1228">
                <a:moveTo>
                  <a:pt x="17518" y="15124"/>
                </a:moveTo>
                <a:cubicBezTo>
                  <a:pt x="17520" y="15170"/>
                  <a:pt x="17537" y="15209"/>
                  <a:pt x="17552" y="15253"/>
                </a:cubicBezTo>
                <a:cubicBezTo>
                  <a:pt x="17608" y="15415"/>
                  <a:pt x="17654" y="15582"/>
                  <a:pt x="17716" y="15742"/>
                </a:cubicBezTo>
                <a:cubicBezTo>
                  <a:pt x="17738" y="15797"/>
                  <a:pt x="17760" y="15837"/>
                  <a:pt x="17794" y="15884"/>
                </a:cubicBezTo>
              </a:path>
              <a:path w="787" h="1228">
                <a:moveTo>
                  <a:pt x="18244" y="15568"/>
                </a:moveTo>
                <a:cubicBezTo>
                  <a:pt x="18261" y="15566"/>
                  <a:pt x="18277" y="15564"/>
                  <a:pt x="18294" y="15562"/>
                </a:cubicBezTo>
                <a:cubicBezTo>
                  <a:pt x="18311" y="15637"/>
                  <a:pt x="18289" y="15680"/>
                  <a:pt x="18267" y="15752"/>
                </a:cubicBezTo>
                <a:cubicBezTo>
                  <a:pt x="18233" y="15862"/>
                  <a:pt x="18182" y="15963"/>
                  <a:pt x="18129" y="16066"/>
                </a:cubicBezTo>
                <a:cubicBezTo>
                  <a:pt x="18073" y="16175"/>
                  <a:pt x="18001" y="16263"/>
                  <a:pt x="17917" y="16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Ink 6"/>
          <p:cNvSpPr/>
          <p:nvPr/>
        </p:nvSpPr>
        <p:spPr>
          <a:xfrm>
            <a:off x="1978200" y="2631960"/>
            <a:ext cx="5014800" cy="2960640"/>
          </a:xfrm>
          <a:custGeom>
            <a:avLst/>
            <a:gdLst/>
            <a:ahLst/>
            <a:rect l="l" t="t" r="r" b="b"/>
            <a:pathLst>
              <a:path w="13929" h="8223">
                <a:moveTo>
                  <a:pt x="5513" y="7617"/>
                </a:moveTo>
                <a:cubicBezTo>
                  <a:pt x="5520" y="7515"/>
                  <a:pt x="5530" y="7413"/>
                  <a:pt x="5538" y="7312"/>
                </a:cubicBezTo>
                <a:cubicBezTo>
                  <a:pt x="5568" y="8267"/>
                  <a:pt x="5359" y="9264"/>
                  <a:pt x="5650" y="10187"/>
                </a:cubicBezTo>
                <a:cubicBezTo>
                  <a:pt x="5656" y="10206"/>
                  <a:pt x="5676" y="10220"/>
                  <a:pt x="5681" y="10238"/>
                </a:cubicBezTo>
                <a:cubicBezTo>
                  <a:pt x="5901" y="10199"/>
                  <a:pt x="6123" y="10169"/>
                  <a:pt x="6359" y="10149"/>
                </a:cubicBezTo>
                <a:cubicBezTo>
                  <a:pt x="8371" y="9978"/>
                  <a:pt x="10328" y="9857"/>
                  <a:pt x="12351" y="9897"/>
                </a:cubicBezTo>
                <a:cubicBezTo>
                  <a:pt x="14371" y="9937"/>
                  <a:pt x="16378" y="9895"/>
                  <a:pt x="18383" y="10165"/>
                </a:cubicBezTo>
                <a:cubicBezTo>
                  <a:pt x="18833" y="10226"/>
                  <a:pt x="19140" y="10239"/>
                  <a:pt x="19346" y="10673"/>
                </a:cubicBezTo>
                <a:cubicBezTo>
                  <a:pt x="19630" y="11271"/>
                  <a:pt x="19086" y="11670"/>
                  <a:pt x="18593" y="11864"/>
                </a:cubicBezTo>
                <a:cubicBezTo>
                  <a:pt x="17067" y="12464"/>
                  <a:pt x="15240" y="12307"/>
                  <a:pt x="13647" y="12198"/>
                </a:cubicBezTo>
                <a:cubicBezTo>
                  <a:pt x="11639" y="12060"/>
                  <a:pt x="9625" y="11661"/>
                  <a:pt x="7613" y="11631"/>
                </a:cubicBezTo>
                <a:cubicBezTo>
                  <a:pt x="7157" y="11624"/>
                  <a:pt x="6223" y="11499"/>
                  <a:pt x="5838" y="11807"/>
                </a:cubicBezTo>
                <a:cubicBezTo>
                  <a:pt x="5585" y="12009"/>
                  <a:pt x="5600" y="12300"/>
                  <a:pt x="5601" y="12606"/>
                </a:cubicBezTo>
                <a:cubicBezTo>
                  <a:pt x="5603" y="13239"/>
                  <a:pt x="5653" y="13836"/>
                  <a:pt x="5605" y="14473"/>
                </a:cubicBezTo>
                <a:cubicBezTo>
                  <a:pt x="5580" y="14797"/>
                  <a:pt x="5592" y="15250"/>
                  <a:pt x="5533" y="15521"/>
                </a:cubicBezTo>
                <a:cubicBezTo>
                  <a:pt x="5527" y="15550"/>
                  <a:pt x="5513" y="15407"/>
                  <a:pt x="5507" y="15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Ink 7"/>
          <p:cNvSpPr/>
          <p:nvPr/>
        </p:nvSpPr>
        <p:spPr>
          <a:xfrm>
            <a:off x="3854520" y="2759040"/>
            <a:ext cx="2585880" cy="1484280"/>
          </a:xfrm>
          <a:custGeom>
            <a:avLst/>
            <a:gdLst/>
            <a:ahLst/>
            <a:rect l="l" t="t" r="r" b="b"/>
            <a:pathLst>
              <a:path w="7181" h="4122">
                <a:moveTo>
                  <a:pt x="10791" y="7675"/>
                </a:moveTo>
                <a:cubicBezTo>
                  <a:pt x="10789" y="7691"/>
                  <a:pt x="10766" y="7671"/>
                  <a:pt x="10765" y="7687"/>
                </a:cubicBezTo>
                <a:cubicBezTo>
                  <a:pt x="10672" y="8688"/>
                  <a:pt x="10538" y="9975"/>
                  <a:pt x="10990" y="10912"/>
                </a:cubicBezTo>
                <a:cubicBezTo>
                  <a:pt x="11101" y="11142"/>
                  <a:pt x="11221" y="11238"/>
                  <a:pt x="11470" y="11280"/>
                </a:cubicBezTo>
                <a:cubicBezTo>
                  <a:pt x="11823" y="11340"/>
                  <a:pt x="12225" y="11285"/>
                  <a:pt x="12484" y="11030"/>
                </a:cubicBezTo>
                <a:cubicBezTo>
                  <a:pt x="12770" y="10749"/>
                  <a:pt x="12852" y="10262"/>
                  <a:pt x="13033" y="9913"/>
                </a:cubicBezTo>
                <a:cubicBezTo>
                  <a:pt x="13147" y="9693"/>
                  <a:pt x="13278" y="9525"/>
                  <a:pt x="13540" y="9516"/>
                </a:cubicBezTo>
                <a:cubicBezTo>
                  <a:pt x="13865" y="9504"/>
                  <a:pt x="14061" y="9821"/>
                  <a:pt x="14200" y="10067"/>
                </a:cubicBezTo>
                <a:cubicBezTo>
                  <a:pt x="14370" y="10367"/>
                  <a:pt x="14422" y="10705"/>
                  <a:pt x="14593" y="11008"/>
                </a:cubicBezTo>
                <a:cubicBezTo>
                  <a:pt x="14755" y="11295"/>
                  <a:pt x="14890" y="11648"/>
                  <a:pt x="15231" y="11753"/>
                </a:cubicBezTo>
                <a:cubicBezTo>
                  <a:pt x="15657" y="11884"/>
                  <a:pt x="16050" y="11690"/>
                  <a:pt x="16260" y="11317"/>
                </a:cubicBezTo>
                <a:cubicBezTo>
                  <a:pt x="16455" y="10971"/>
                  <a:pt x="16508" y="10468"/>
                  <a:pt x="16785" y="10176"/>
                </a:cubicBezTo>
                <a:cubicBezTo>
                  <a:pt x="17004" y="9945"/>
                  <a:pt x="17341" y="9985"/>
                  <a:pt x="17611" y="10094"/>
                </a:cubicBezTo>
                <a:cubicBezTo>
                  <a:pt x="17721" y="10139"/>
                  <a:pt x="17851" y="10198"/>
                  <a:pt x="17885" y="10310"/>
                </a:cubicBezTo>
                <a:cubicBezTo>
                  <a:pt x="17892" y="10332"/>
                  <a:pt x="17815" y="10304"/>
                  <a:pt x="17821" y="103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Ink 8"/>
          <p:cNvSpPr/>
          <p:nvPr/>
        </p:nvSpPr>
        <p:spPr>
          <a:xfrm>
            <a:off x="6296040" y="3645000"/>
            <a:ext cx="187200" cy="2178000"/>
          </a:xfrm>
          <a:custGeom>
            <a:avLst/>
            <a:gdLst/>
            <a:ahLst/>
            <a:rect l="l" t="t" r="r" b="b"/>
            <a:pathLst>
              <a:path w="520" h="6049">
                <a:moveTo>
                  <a:pt x="17489" y="10180"/>
                </a:moveTo>
                <a:cubicBezTo>
                  <a:pt x="17532" y="10166"/>
                  <a:pt x="17542" y="10129"/>
                  <a:pt x="17593" y="10126"/>
                </a:cubicBezTo>
                <a:cubicBezTo>
                  <a:pt x="17674" y="10121"/>
                  <a:pt x="17729" y="10152"/>
                  <a:pt x="17774" y="10220"/>
                </a:cubicBezTo>
                <a:cubicBezTo>
                  <a:pt x="17882" y="10380"/>
                  <a:pt x="17876" y="10619"/>
                  <a:pt x="17888" y="10804"/>
                </a:cubicBezTo>
                <a:cubicBezTo>
                  <a:pt x="17920" y="11314"/>
                  <a:pt x="17948" y="11827"/>
                  <a:pt x="17964" y="12338"/>
                </a:cubicBezTo>
                <a:cubicBezTo>
                  <a:pt x="17985" y="13017"/>
                  <a:pt x="17940" y="13695"/>
                  <a:pt x="17972" y="14374"/>
                </a:cubicBezTo>
                <a:cubicBezTo>
                  <a:pt x="17999" y="14959"/>
                  <a:pt x="18062" y="15566"/>
                  <a:pt x="17962" y="16147"/>
                </a:cubicBezTo>
                <a:cubicBezTo>
                  <a:pt x="17958" y="16161"/>
                  <a:pt x="17957" y="16165"/>
                  <a:pt x="17955" y="16174"/>
                </a:cubicBezTo>
                <a:cubicBezTo>
                  <a:pt x="17938" y="16133"/>
                  <a:pt x="17919" y="16091"/>
                  <a:pt x="17903" y="16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Head S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MA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58640" y="1981080"/>
            <a:ext cx="8507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Head S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MA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1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…. Only for SH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Baff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ffles serve two purpo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t (direct) the fl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s the bundle to obtain a higher heat transfer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the tub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tructural rigidity, preventing tube vibration and sag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tube bundle employs baff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t transfer coefficient is higher than the coefficient for undisturbed flow around tubes without baff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baffled heat exchanger the higher heat transfer coefficients result from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turbul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locity of fluid fluctua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constricted area between adjacent tubes across the bun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nk 2"/>
          <p:cNvSpPr/>
          <p:nvPr/>
        </p:nvSpPr>
        <p:spPr>
          <a:xfrm>
            <a:off x="9021600" y="5268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5060" y="14638"/>
                </a:moveTo>
                <a:lnTo>
                  <a:pt x="25060" y="14638"/>
                </a:lnTo>
                <a:lnTo>
                  <a:pt x="25060" y="14638"/>
                </a:lnTo>
                <a:lnTo>
                  <a:pt x="25060" y="14638"/>
                </a:lnTo>
                <a:lnTo>
                  <a:pt x="25060" y="14638"/>
                </a:lnTo>
                <a:lnTo>
                  <a:pt x="25060" y="14638"/>
                </a:lnTo>
                <a:lnTo>
                  <a:pt x="25060" y="14638"/>
                </a:lnTo>
                <a:lnTo>
                  <a:pt x="25060" y="14638"/>
                </a:lnTo>
                <a:lnTo>
                  <a:pt x="25060" y="14638"/>
                </a:lnTo>
                <a:lnTo>
                  <a:pt x="25060" y="14638"/>
                </a:lnTo>
                <a:lnTo>
                  <a:pt x="25060" y="14638"/>
                </a:ln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Ink 7"/>
          <p:cNvSpPr/>
          <p:nvPr/>
        </p:nvSpPr>
        <p:spPr>
          <a:xfrm>
            <a:off x="3386160" y="5846760"/>
            <a:ext cx="763560" cy="681120"/>
          </a:xfrm>
          <a:custGeom>
            <a:avLst/>
            <a:gdLst/>
            <a:ahLst/>
            <a:rect l="l" t="t" r="r" b="b"/>
            <a:pathLst>
              <a:path w="2120" h="1892">
                <a:moveTo>
                  <a:pt x="9480" y="17866"/>
                </a:moveTo>
                <a:cubicBezTo>
                  <a:pt x="9473" y="17884"/>
                  <a:pt x="9465" y="17903"/>
                  <a:pt x="9458" y="17921"/>
                </a:cubicBezTo>
                <a:cubicBezTo>
                  <a:pt x="9532" y="17969"/>
                  <a:pt x="9509" y="18017"/>
                  <a:pt x="9448" y="18090"/>
                </a:cubicBezTo>
                <a:cubicBezTo>
                  <a:pt x="9434" y="18103"/>
                  <a:pt x="9419" y="18117"/>
                  <a:pt x="9405" y="18130"/>
                </a:cubicBezTo>
              </a:path>
              <a:path w="2120" h="1892">
                <a:moveTo>
                  <a:pt x="11513" y="16250"/>
                </a:moveTo>
                <a:cubicBezTo>
                  <a:pt x="11516" y="16240"/>
                  <a:pt x="11516" y="16236"/>
                  <a:pt x="11524" y="16244"/>
                </a:cubicBezTo>
              </a:path>
            </a:pathLst>
          </a:custGeom>
          <a:noFill/>
          <a:ln cap="rnd"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Baffle Plates : Segmental Cut Baff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1447920" y="4038480"/>
          <a:ext cx="586728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038480"/>
                    <a:ext cx="586728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6"/>
          <p:cNvSpPr/>
          <p:nvPr/>
        </p:nvSpPr>
        <p:spPr>
          <a:xfrm>
            <a:off x="304920" y="914400"/>
            <a:ext cx="8534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ngle and double segmental baffles are most frequently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divert the flow most effectively across the tu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ffle spacing must be chosen with c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baffle spacing is somewhere between 40% - 60% of the shell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ffle cut of 25%-35% is usually recomm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nk 5"/>
          <p:cNvSpPr/>
          <p:nvPr/>
        </p:nvSpPr>
        <p:spPr>
          <a:xfrm>
            <a:off x="9007560" y="6442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5021" y="17894"/>
                </a:moveTo>
                <a:lnTo>
                  <a:pt x="25021" y="17894"/>
                </a:lnTo>
                <a:lnTo>
                  <a:pt x="25021" y="17894"/>
                </a:lnTo>
                <a:lnTo>
                  <a:pt x="25021" y="17894"/>
                </a:lnTo>
                <a:lnTo>
                  <a:pt x="25021" y="17894"/>
                </a:lnTo>
                <a:lnTo>
                  <a:pt x="25021" y="17894"/>
                </a:lnTo>
                <a:lnTo>
                  <a:pt x="25021" y="178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Ink 6"/>
          <p:cNvSpPr/>
          <p:nvPr/>
        </p:nvSpPr>
        <p:spPr>
          <a:xfrm>
            <a:off x="7604280" y="3960720"/>
            <a:ext cx="439560" cy="855720"/>
          </a:xfrm>
          <a:custGeom>
            <a:avLst/>
            <a:gdLst/>
            <a:ahLst/>
            <a:rect l="l" t="t" r="r" b="b"/>
            <a:pathLst>
              <a:path w="1222" h="2375">
                <a:moveTo>
                  <a:pt x="21410" y="11054"/>
                </a:moveTo>
                <a:cubicBezTo>
                  <a:pt x="21415" y="11103"/>
                  <a:pt x="21433" y="11149"/>
                  <a:pt x="21443" y="11197"/>
                </a:cubicBezTo>
                <a:cubicBezTo>
                  <a:pt x="21464" y="11298"/>
                  <a:pt x="21474" y="11399"/>
                  <a:pt x="21475" y="11502"/>
                </a:cubicBezTo>
                <a:cubicBezTo>
                  <a:pt x="21476" y="11616"/>
                  <a:pt x="21485" y="11795"/>
                  <a:pt x="21427" y="11900"/>
                </a:cubicBezTo>
                <a:cubicBezTo>
                  <a:pt x="21424" y="11901"/>
                  <a:pt x="21420" y="11902"/>
                  <a:pt x="21417" y="11903"/>
                </a:cubicBezTo>
              </a:path>
              <a:path w="1222" h="2375">
                <a:moveTo>
                  <a:pt x="21450" y="11242"/>
                </a:moveTo>
                <a:cubicBezTo>
                  <a:pt x="21440" y="11186"/>
                  <a:pt x="21431" y="11141"/>
                  <a:pt x="21472" y="11093"/>
                </a:cubicBezTo>
                <a:cubicBezTo>
                  <a:pt x="21512" y="11047"/>
                  <a:pt x="21578" y="11015"/>
                  <a:pt x="21637" y="11005"/>
                </a:cubicBezTo>
                <a:cubicBezTo>
                  <a:pt x="21712" y="10992"/>
                  <a:pt x="21773" y="11012"/>
                  <a:pt x="21811" y="11080"/>
                </a:cubicBezTo>
                <a:cubicBezTo>
                  <a:pt x="21854" y="11156"/>
                  <a:pt x="21847" y="11256"/>
                  <a:pt x="21828" y="11338"/>
                </a:cubicBezTo>
                <a:cubicBezTo>
                  <a:pt x="21812" y="11408"/>
                  <a:pt x="21779" y="11478"/>
                  <a:pt x="21736" y="11536"/>
                </a:cubicBezTo>
                <a:cubicBezTo>
                  <a:pt x="21721" y="11553"/>
                  <a:pt x="21719" y="11557"/>
                  <a:pt x="21709" y="11566"/>
                </a:cubicBezTo>
                <a:cubicBezTo>
                  <a:pt x="21763" y="11568"/>
                  <a:pt x="21812" y="11567"/>
                  <a:pt x="21850" y="11614"/>
                </a:cubicBezTo>
                <a:cubicBezTo>
                  <a:pt x="21891" y="11666"/>
                  <a:pt x="21880" y="11738"/>
                  <a:pt x="21862" y="11797"/>
                </a:cubicBezTo>
                <a:cubicBezTo>
                  <a:pt x="21837" y="11878"/>
                  <a:pt x="21790" y="11952"/>
                  <a:pt x="21732" y="12013"/>
                </a:cubicBezTo>
                <a:cubicBezTo>
                  <a:pt x="21696" y="12051"/>
                  <a:pt x="21631" y="12100"/>
                  <a:pt x="21577" y="12110"/>
                </a:cubicBezTo>
                <a:cubicBezTo>
                  <a:pt x="21549" y="12108"/>
                  <a:pt x="21542" y="12109"/>
                  <a:pt x="21526" y="12100"/>
                </a:cubicBezTo>
              </a:path>
              <a:path w="1222" h="2375">
                <a:moveTo>
                  <a:pt x="21154" y="12221"/>
                </a:moveTo>
                <a:cubicBezTo>
                  <a:pt x="21134" y="12250"/>
                  <a:pt x="21131" y="12253"/>
                  <a:pt x="21121" y="12270"/>
                </a:cubicBezTo>
                <a:cubicBezTo>
                  <a:pt x="21153" y="12293"/>
                  <a:pt x="21171" y="12302"/>
                  <a:pt x="21215" y="12304"/>
                </a:cubicBezTo>
                <a:cubicBezTo>
                  <a:pt x="21321" y="12309"/>
                  <a:pt x="21431" y="12284"/>
                  <a:pt x="21534" y="12264"/>
                </a:cubicBezTo>
                <a:cubicBezTo>
                  <a:pt x="21706" y="12231"/>
                  <a:pt x="21878" y="12197"/>
                  <a:pt x="22053" y="12184"/>
                </a:cubicBezTo>
                <a:cubicBezTo>
                  <a:pt x="22115" y="12180"/>
                  <a:pt x="22187" y="12171"/>
                  <a:pt x="22248" y="12186"/>
                </a:cubicBezTo>
                <a:cubicBezTo>
                  <a:pt x="22255" y="12189"/>
                  <a:pt x="22261" y="12191"/>
                  <a:pt x="22268" y="12194"/>
                </a:cubicBezTo>
              </a:path>
              <a:path w="1222" h="2375">
                <a:moveTo>
                  <a:pt x="22292" y="11783"/>
                </a:moveTo>
                <a:cubicBezTo>
                  <a:pt x="22312" y="11779"/>
                  <a:pt x="22318" y="11764"/>
                  <a:pt x="22322" y="11742"/>
                </a:cubicBezTo>
                <a:cubicBezTo>
                  <a:pt x="22325" y="11724"/>
                  <a:pt x="22324" y="11707"/>
                  <a:pt x="22320" y="11690"/>
                </a:cubicBezTo>
                <a:cubicBezTo>
                  <a:pt x="22278" y="11691"/>
                  <a:pt x="22270" y="11719"/>
                  <a:pt x="22254" y="11758"/>
                </a:cubicBezTo>
                <a:cubicBezTo>
                  <a:pt x="22225" y="11831"/>
                  <a:pt x="22214" y="11910"/>
                  <a:pt x="22213" y="11988"/>
                </a:cubicBezTo>
                <a:cubicBezTo>
                  <a:pt x="22212" y="12059"/>
                  <a:pt x="22226" y="12138"/>
                  <a:pt x="22274" y="12194"/>
                </a:cubicBezTo>
                <a:cubicBezTo>
                  <a:pt x="22307" y="12225"/>
                  <a:pt x="22314" y="12234"/>
                  <a:pt x="22342" y="12241"/>
                </a:cubicBezTo>
              </a:path>
              <a:path w="1222" h="2375">
                <a:moveTo>
                  <a:pt x="21854" y="12848"/>
                </a:moveTo>
                <a:cubicBezTo>
                  <a:pt x="21841" y="12860"/>
                  <a:pt x="21850" y="12863"/>
                  <a:pt x="21858" y="12892"/>
                </a:cubicBezTo>
                <a:cubicBezTo>
                  <a:pt x="21873" y="12946"/>
                  <a:pt x="21881" y="13001"/>
                  <a:pt x="21887" y="13057"/>
                </a:cubicBezTo>
                <a:cubicBezTo>
                  <a:pt x="21895" y="13126"/>
                  <a:pt x="21897" y="13196"/>
                  <a:pt x="21898" y="13265"/>
                </a:cubicBezTo>
                <a:cubicBezTo>
                  <a:pt x="21899" y="13306"/>
                  <a:pt x="21892" y="13340"/>
                  <a:pt x="21911" y="13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Ink 7"/>
          <p:cNvSpPr/>
          <p:nvPr/>
        </p:nvSpPr>
        <p:spPr>
          <a:xfrm>
            <a:off x="3083040" y="4025880"/>
            <a:ext cx="4205160" cy="2165400"/>
          </a:xfrm>
          <a:custGeom>
            <a:avLst/>
            <a:gdLst/>
            <a:ahLst/>
            <a:rect l="l" t="t" r="r" b="b"/>
            <a:pathLst>
              <a:path w="11684" h="6012">
                <a:moveTo>
                  <a:pt x="8563" y="15179"/>
                </a:moveTo>
                <a:cubicBezTo>
                  <a:pt x="8563" y="15155"/>
                  <a:pt x="8562" y="15131"/>
                  <a:pt x="8562" y="15107"/>
                </a:cubicBezTo>
                <a:cubicBezTo>
                  <a:pt x="8585" y="15170"/>
                  <a:pt x="8605" y="15232"/>
                  <a:pt x="8639" y="15291"/>
                </a:cubicBezTo>
                <a:cubicBezTo>
                  <a:pt x="8792" y="15557"/>
                  <a:pt x="9077" y="15692"/>
                  <a:pt x="9359" y="15783"/>
                </a:cubicBezTo>
                <a:cubicBezTo>
                  <a:pt x="9495" y="15827"/>
                  <a:pt x="9633" y="15861"/>
                  <a:pt x="9774" y="15882"/>
                </a:cubicBezTo>
                <a:cubicBezTo>
                  <a:pt x="9929" y="15905"/>
                  <a:pt x="10085" y="15915"/>
                  <a:pt x="10241" y="15918"/>
                </a:cubicBezTo>
                <a:cubicBezTo>
                  <a:pt x="10402" y="15921"/>
                  <a:pt x="10562" y="15916"/>
                  <a:pt x="10722" y="15895"/>
                </a:cubicBezTo>
                <a:cubicBezTo>
                  <a:pt x="10984" y="15860"/>
                  <a:pt x="11239" y="15777"/>
                  <a:pt x="11467" y="15644"/>
                </a:cubicBezTo>
                <a:cubicBezTo>
                  <a:pt x="11556" y="15592"/>
                  <a:pt x="11649" y="15527"/>
                  <a:pt x="11709" y="15442"/>
                </a:cubicBezTo>
                <a:cubicBezTo>
                  <a:pt x="11738" y="15401"/>
                  <a:pt x="11777" y="15353"/>
                  <a:pt x="11783" y="15300"/>
                </a:cubicBezTo>
                <a:cubicBezTo>
                  <a:pt x="11785" y="15281"/>
                  <a:pt x="11787" y="15261"/>
                  <a:pt x="11786" y="15253"/>
                </a:cubicBezTo>
                <a:cubicBezTo>
                  <a:pt x="11772" y="15240"/>
                  <a:pt x="11767" y="15236"/>
                  <a:pt x="11759" y="15226"/>
                </a:cubicBezTo>
              </a:path>
              <a:path w="11684" h="6012">
                <a:moveTo>
                  <a:pt x="9242" y="13894"/>
                </a:moveTo>
                <a:cubicBezTo>
                  <a:pt x="9252" y="13882"/>
                  <a:pt x="9242" y="13881"/>
                  <a:pt x="9252" y="13870"/>
                </a:cubicBezTo>
                <a:cubicBezTo>
                  <a:pt x="9452" y="13642"/>
                  <a:pt x="9630" y="13393"/>
                  <a:pt x="9885" y="13220"/>
                </a:cubicBezTo>
                <a:cubicBezTo>
                  <a:pt x="10887" y="12542"/>
                  <a:pt x="12203" y="12487"/>
                  <a:pt x="13369" y="12482"/>
                </a:cubicBezTo>
                <a:cubicBezTo>
                  <a:pt x="13967" y="12479"/>
                  <a:pt x="14625" y="12474"/>
                  <a:pt x="15191" y="12695"/>
                </a:cubicBezTo>
                <a:cubicBezTo>
                  <a:pt x="15516" y="12822"/>
                  <a:pt x="15883" y="13050"/>
                  <a:pt x="16076" y="13350"/>
                </a:cubicBezTo>
                <a:cubicBezTo>
                  <a:pt x="16170" y="13496"/>
                  <a:pt x="16204" y="13662"/>
                  <a:pt x="16196" y="13806"/>
                </a:cubicBezTo>
                <a:cubicBezTo>
                  <a:pt x="16192" y="13806"/>
                  <a:pt x="16189" y="13806"/>
                  <a:pt x="16185" y="13806"/>
                </a:cubicBezTo>
              </a:path>
              <a:path w="11684" h="6012">
                <a:moveTo>
                  <a:pt x="10510" y="14528"/>
                </a:moveTo>
                <a:cubicBezTo>
                  <a:pt x="10500" y="14483"/>
                  <a:pt x="10484" y="14459"/>
                  <a:pt x="10485" y="14410"/>
                </a:cubicBezTo>
                <a:cubicBezTo>
                  <a:pt x="10488" y="14310"/>
                  <a:pt x="10527" y="14208"/>
                  <a:pt x="10553" y="14113"/>
                </a:cubicBezTo>
                <a:cubicBezTo>
                  <a:pt x="10660" y="13727"/>
                  <a:pt x="10808" y="13387"/>
                  <a:pt x="11138" y="13142"/>
                </a:cubicBezTo>
                <a:cubicBezTo>
                  <a:pt x="11296" y="13024"/>
                  <a:pt x="11487" y="12960"/>
                  <a:pt x="11649" y="12846"/>
                </a:cubicBezTo>
                <a:cubicBezTo>
                  <a:pt x="11833" y="12717"/>
                  <a:pt x="11983" y="12601"/>
                  <a:pt x="12210" y="12562"/>
                </a:cubicBezTo>
                <a:cubicBezTo>
                  <a:pt x="12428" y="12525"/>
                  <a:pt x="12622" y="12556"/>
                  <a:pt x="12816" y="12663"/>
                </a:cubicBezTo>
                <a:cubicBezTo>
                  <a:pt x="13049" y="12792"/>
                  <a:pt x="13241" y="13034"/>
                  <a:pt x="13429" y="13221"/>
                </a:cubicBezTo>
                <a:cubicBezTo>
                  <a:pt x="13598" y="13390"/>
                  <a:pt x="13646" y="13586"/>
                  <a:pt x="13739" y="13797"/>
                </a:cubicBezTo>
                <a:cubicBezTo>
                  <a:pt x="13803" y="13941"/>
                  <a:pt x="13886" y="14066"/>
                  <a:pt x="13923" y="14223"/>
                </a:cubicBezTo>
                <a:cubicBezTo>
                  <a:pt x="13941" y="14300"/>
                  <a:pt x="13953" y="14375"/>
                  <a:pt x="13920" y="14447"/>
                </a:cubicBezTo>
                <a:cubicBezTo>
                  <a:pt x="13905" y="14456"/>
                  <a:pt x="13899" y="14459"/>
                  <a:pt x="13885" y="14455"/>
                </a:cubicBezTo>
              </a:path>
              <a:path w="11684" h="6012">
                <a:moveTo>
                  <a:pt x="11117" y="13803"/>
                </a:moveTo>
                <a:cubicBezTo>
                  <a:pt x="11136" y="13785"/>
                  <a:pt x="11152" y="13772"/>
                  <a:pt x="11169" y="13746"/>
                </a:cubicBezTo>
                <a:cubicBezTo>
                  <a:pt x="11221" y="13666"/>
                  <a:pt x="11282" y="13594"/>
                  <a:pt x="11344" y="13521"/>
                </a:cubicBezTo>
                <a:cubicBezTo>
                  <a:pt x="11435" y="13414"/>
                  <a:pt x="11526" y="13308"/>
                  <a:pt x="11623" y="13207"/>
                </a:cubicBezTo>
                <a:cubicBezTo>
                  <a:pt x="11706" y="13121"/>
                  <a:pt x="11795" y="13040"/>
                  <a:pt x="11875" y="12951"/>
                </a:cubicBezTo>
                <a:cubicBezTo>
                  <a:pt x="11919" y="12903"/>
                  <a:pt x="11963" y="12857"/>
                  <a:pt x="12007" y="12809"/>
                </a:cubicBezTo>
              </a:path>
              <a:path w="11684" h="6012">
                <a:moveTo>
                  <a:pt x="11633" y="13764"/>
                </a:moveTo>
                <a:cubicBezTo>
                  <a:pt x="11598" y="13827"/>
                  <a:pt x="11590" y="13833"/>
                  <a:pt x="11578" y="13872"/>
                </a:cubicBezTo>
                <a:cubicBezTo>
                  <a:pt x="11615" y="13832"/>
                  <a:pt x="11652" y="13793"/>
                  <a:pt x="11688" y="13753"/>
                </a:cubicBezTo>
                <a:cubicBezTo>
                  <a:pt x="11760" y="13673"/>
                  <a:pt x="11830" y="13593"/>
                  <a:pt x="11909" y="13519"/>
                </a:cubicBezTo>
                <a:cubicBezTo>
                  <a:pt x="12081" y="13357"/>
                  <a:pt x="12264" y="13208"/>
                  <a:pt x="12448" y="13060"/>
                </a:cubicBezTo>
                <a:cubicBezTo>
                  <a:pt x="12522" y="13001"/>
                  <a:pt x="12599" y="12938"/>
                  <a:pt x="12666" y="12871"/>
                </a:cubicBezTo>
                <a:cubicBezTo>
                  <a:pt x="12691" y="12846"/>
                  <a:pt x="12713" y="12818"/>
                  <a:pt x="12737" y="12793"/>
                </a:cubicBezTo>
              </a:path>
              <a:path w="11684" h="6012">
                <a:moveTo>
                  <a:pt x="12270" y="13814"/>
                </a:moveTo>
                <a:cubicBezTo>
                  <a:pt x="12246" y="13911"/>
                  <a:pt x="12252" y="13880"/>
                  <a:pt x="12251" y="13929"/>
                </a:cubicBezTo>
                <a:cubicBezTo>
                  <a:pt x="12302" y="13898"/>
                  <a:pt x="12343" y="13863"/>
                  <a:pt x="12390" y="13818"/>
                </a:cubicBezTo>
                <a:cubicBezTo>
                  <a:pt x="12488" y="13724"/>
                  <a:pt x="12583" y="13627"/>
                  <a:pt x="12683" y="13534"/>
                </a:cubicBezTo>
                <a:cubicBezTo>
                  <a:pt x="12791" y="13434"/>
                  <a:pt x="12899" y="13332"/>
                  <a:pt x="13018" y="13246"/>
                </a:cubicBezTo>
                <a:cubicBezTo>
                  <a:pt x="13085" y="13198"/>
                  <a:pt x="13154" y="13155"/>
                  <a:pt x="13224" y="13114"/>
                </a:cubicBezTo>
              </a:path>
              <a:path w="11684" h="6012">
                <a:moveTo>
                  <a:pt x="14648" y="15697"/>
                </a:moveTo>
                <a:cubicBezTo>
                  <a:pt x="14641" y="15729"/>
                  <a:pt x="14605" y="15702"/>
                  <a:pt x="14612" y="15734"/>
                </a:cubicBezTo>
                <a:cubicBezTo>
                  <a:pt x="14689" y="16072"/>
                  <a:pt x="14977" y="16561"/>
                  <a:pt x="15251" y="16763"/>
                </a:cubicBezTo>
                <a:cubicBezTo>
                  <a:pt x="15430" y="16895"/>
                  <a:pt x="15642" y="16949"/>
                  <a:pt x="15859" y="16977"/>
                </a:cubicBezTo>
                <a:cubicBezTo>
                  <a:pt x="16134" y="17013"/>
                  <a:pt x="16388" y="16977"/>
                  <a:pt x="16651" y="16896"/>
                </a:cubicBezTo>
                <a:cubicBezTo>
                  <a:pt x="17035" y="16777"/>
                  <a:pt x="17490" y="16582"/>
                  <a:pt x="17733" y="16245"/>
                </a:cubicBezTo>
                <a:cubicBezTo>
                  <a:pt x="17867" y="16059"/>
                  <a:pt x="17808" y="15842"/>
                  <a:pt x="17695" y="15662"/>
                </a:cubicBezTo>
                <a:cubicBezTo>
                  <a:pt x="17614" y="15533"/>
                  <a:pt x="17524" y="15481"/>
                  <a:pt x="17384" y="15451"/>
                </a:cubicBezTo>
              </a:path>
              <a:path w="11684" h="6012">
                <a:moveTo>
                  <a:pt x="15853" y="15739"/>
                </a:moveTo>
                <a:cubicBezTo>
                  <a:pt x="15809" y="15745"/>
                  <a:pt x="15750" y="15747"/>
                  <a:pt x="15709" y="15765"/>
                </a:cubicBezTo>
                <a:cubicBezTo>
                  <a:pt x="15647" y="15792"/>
                  <a:pt x="15589" y="15849"/>
                  <a:pt x="15543" y="15897"/>
                </a:cubicBezTo>
                <a:cubicBezTo>
                  <a:pt x="15436" y="16009"/>
                  <a:pt x="15341" y="16135"/>
                  <a:pt x="15253" y="16262"/>
                </a:cubicBezTo>
                <a:cubicBezTo>
                  <a:pt x="15180" y="16368"/>
                  <a:pt x="15117" y="16480"/>
                  <a:pt x="15048" y="16588"/>
                </a:cubicBezTo>
                <a:cubicBezTo>
                  <a:pt x="15012" y="16637"/>
                  <a:pt x="15001" y="16649"/>
                  <a:pt x="14991" y="16687"/>
                </a:cubicBezTo>
              </a:path>
              <a:path w="11684" h="6012">
                <a:moveTo>
                  <a:pt x="16219" y="15807"/>
                </a:moveTo>
                <a:cubicBezTo>
                  <a:pt x="16278" y="15838"/>
                  <a:pt x="16269" y="15847"/>
                  <a:pt x="16247" y="15910"/>
                </a:cubicBezTo>
                <a:cubicBezTo>
                  <a:pt x="16211" y="16012"/>
                  <a:pt x="16152" y="16111"/>
                  <a:pt x="16102" y="16206"/>
                </a:cubicBezTo>
                <a:cubicBezTo>
                  <a:pt x="16025" y="16354"/>
                  <a:pt x="15940" y="16497"/>
                  <a:pt x="15859" y="16642"/>
                </a:cubicBezTo>
                <a:cubicBezTo>
                  <a:pt x="15795" y="16757"/>
                  <a:pt x="15723" y="16873"/>
                  <a:pt x="15665" y="16990"/>
                </a:cubicBezTo>
                <a:cubicBezTo>
                  <a:pt x="15652" y="17027"/>
                  <a:pt x="15654" y="17035"/>
                  <a:pt x="15635" y="17050"/>
                </a:cubicBezTo>
              </a:path>
              <a:path w="11684" h="6012">
                <a:moveTo>
                  <a:pt x="17142" y="15836"/>
                </a:moveTo>
                <a:cubicBezTo>
                  <a:pt x="17135" y="15964"/>
                  <a:pt x="17108" y="16002"/>
                  <a:pt x="17039" y="16108"/>
                </a:cubicBezTo>
                <a:cubicBezTo>
                  <a:pt x="16958" y="16233"/>
                  <a:pt x="16878" y="16359"/>
                  <a:pt x="16800" y="16486"/>
                </a:cubicBezTo>
                <a:cubicBezTo>
                  <a:pt x="16732" y="16598"/>
                  <a:pt x="16654" y="16718"/>
                  <a:pt x="16601" y="16837"/>
                </a:cubicBezTo>
                <a:cubicBezTo>
                  <a:pt x="16584" y="16876"/>
                  <a:pt x="16573" y="16918"/>
                  <a:pt x="16559" y="16955"/>
                </a:cubicBezTo>
              </a:path>
              <a:path w="11684" h="6012">
                <a:moveTo>
                  <a:pt x="17645" y="15882"/>
                </a:moveTo>
                <a:cubicBezTo>
                  <a:pt x="17651" y="15972"/>
                  <a:pt x="17626" y="16033"/>
                  <a:pt x="17594" y="16120"/>
                </a:cubicBezTo>
                <a:cubicBezTo>
                  <a:pt x="17538" y="16272"/>
                  <a:pt x="17480" y="16422"/>
                  <a:pt x="17418" y="16572"/>
                </a:cubicBezTo>
                <a:cubicBezTo>
                  <a:pt x="17346" y="16748"/>
                  <a:pt x="17279" y="16938"/>
                  <a:pt x="17184" y="17103"/>
                </a:cubicBezTo>
                <a:cubicBezTo>
                  <a:pt x="17162" y="17134"/>
                  <a:pt x="17140" y="17164"/>
                  <a:pt x="17118" y="17195"/>
                </a:cubicBezTo>
              </a:path>
              <a:path w="11684" h="6012">
                <a:moveTo>
                  <a:pt x="12368" y="12532"/>
                </a:moveTo>
                <a:cubicBezTo>
                  <a:pt x="12372" y="12532"/>
                  <a:pt x="12401" y="12524"/>
                  <a:pt x="12417" y="12526"/>
                </a:cubicBezTo>
                <a:cubicBezTo>
                  <a:pt x="12624" y="12547"/>
                  <a:pt x="12827" y="12550"/>
                  <a:pt x="13036" y="12540"/>
                </a:cubicBezTo>
                <a:cubicBezTo>
                  <a:pt x="14421" y="12476"/>
                  <a:pt x="15800" y="12541"/>
                  <a:pt x="17185" y="12541"/>
                </a:cubicBezTo>
                <a:cubicBezTo>
                  <a:pt x="17139" y="12558"/>
                  <a:pt x="17100" y="12570"/>
                  <a:pt x="17058" y="12595"/>
                </a:cubicBezTo>
                <a:cubicBezTo>
                  <a:pt x="17019" y="12612"/>
                  <a:pt x="17006" y="12619"/>
                  <a:pt x="16989" y="12644"/>
                </a:cubicBezTo>
              </a:path>
              <a:path w="11684" h="6012">
                <a:moveTo>
                  <a:pt x="13057" y="16289"/>
                </a:moveTo>
                <a:cubicBezTo>
                  <a:pt x="13010" y="16264"/>
                  <a:pt x="12963" y="16239"/>
                  <a:pt x="12917" y="16211"/>
                </a:cubicBezTo>
                <a:cubicBezTo>
                  <a:pt x="12909" y="16206"/>
                  <a:pt x="12902" y="16201"/>
                  <a:pt x="12894" y="16196"/>
                </a:cubicBezTo>
              </a:path>
              <a:path w="11684" h="6012">
                <a:moveTo>
                  <a:pt x="16842" y="12666"/>
                </a:moveTo>
                <a:cubicBezTo>
                  <a:pt x="16959" y="12691"/>
                  <a:pt x="17067" y="12709"/>
                  <a:pt x="17187" y="12715"/>
                </a:cubicBezTo>
                <a:cubicBezTo>
                  <a:pt x="17714" y="12740"/>
                  <a:pt x="18245" y="12726"/>
                  <a:pt x="18772" y="12724"/>
                </a:cubicBezTo>
                <a:cubicBezTo>
                  <a:pt x="19040" y="12723"/>
                  <a:pt x="19307" y="12723"/>
                  <a:pt x="19574" y="12738"/>
                </a:cubicBezTo>
                <a:cubicBezTo>
                  <a:pt x="19641" y="12742"/>
                  <a:pt x="19702" y="12750"/>
                  <a:pt x="19768" y="12760"/>
                </a:cubicBezTo>
              </a:path>
              <a:path w="11684" h="6012">
                <a:moveTo>
                  <a:pt x="19296" y="12811"/>
                </a:moveTo>
                <a:cubicBezTo>
                  <a:pt x="19329" y="12779"/>
                  <a:pt x="19330" y="12769"/>
                  <a:pt x="19357" y="12765"/>
                </a:cubicBezTo>
                <a:cubicBezTo>
                  <a:pt x="19353" y="12830"/>
                  <a:pt x="19334" y="12882"/>
                  <a:pt x="19308" y="12942"/>
                </a:cubicBezTo>
                <a:cubicBezTo>
                  <a:pt x="19255" y="13063"/>
                  <a:pt x="19187" y="13191"/>
                  <a:pt x="19096" y="13288"/>
                </a:cubicBezTo>
                <a:cubicBezTo>
                  <a:pt x="19052" y="13335"/>
                  <a:pt x="19010" y="13372"/>
                  <a:pt x="18955" y="13402"/>
                </a:cubicBezTo>
              </a:path>
              <a:path w="11684" h="6012">
                <a:moveTo>
                  <a:pt x="19168" y="12967"/>
                </a:moveTo>
                <a:cubicBezTo>
                  <a:pt x="19218" y="12929"/>
                  <a:pt x="19217" y="12930"/>
                  <a:pt x="19254" y="12981"/>
                </a:cubicBezTo>
                <a:cubicBezTo>
                  <a:pt x="19313" y="13063"/>
                  <a:pt x="19366" y="13148"/>
                  <a:pt x="19413" y="13237"/>
                </a:cubicBezTo>
                <a:cubicBezTo>
                  <a:pt x="19453" y="13312"/>
                  <a:pt x="19481" y="13396"/>
                  <a:pt x="19529" y="13467"/>
                </a:cubicBezTo>
                <a:cubicBezTo>
                  <a:pt x="19543" y="13483"/>
                  <a:pt x="19548" y="13488"/>
                  <a:pt x="19559" y="13497"/>
                </a:cubicBezTo>
              </a:path>
              <a:path w="11684" h="6012">
                <a:moveTo>
                  <a:pt x="19321" y="13046"/>
                </a:moveTo>
                <a:cubicBezTo>
                  <a:pt x="19323" y="13063"/>
                  <a:pt x="19318" y="13066"/>
                  <a:pt x="19322" y="13083"/>
                </a:cubicBezTo>
                <a:cubicBezTo>
                  <a:pt x="19336" y="13142"/>
                  <a:pt x="19349" y="13200"/>
                  <a:pt x="19357" y="13260"/>
                </a:cubicBezTo>
                <a:cubicBezTo>
                  <a:pt x="19392" y="13505"/>
                  <a:pt x="19375" y="13753"/>
                  <a:pt x="19354" y="13999"/>
                </a:cubicBezTo>
                <a:cubicBezTo>
                  <a:pt x="19341" y="14148"/>
                  <a:pt x="19326" y="14297"/>
                  <a:pt x="19320" y="14446"/>
                </a:cubicBezTo>
                <a:cubicBezTo>
                  <a:pt x="19312" y="14660"/>
                  <a:pt x="19322" y="14871"/>
                  <a:pt x="19345" y="15083"/>
                </a:cubicBezTo>
                <a:cubicBezTo>
                  <a:pt x="19359" y="15214"/>
                  <a:pt x="19375" y="15345"/>
                  <a:pt x="19381" y="15476"/>
                </a:cubicBezTo>
                <a:cubicBezTo>
                  <a:pt x="19383" y="15509"/>
                  <a:pt x="19384" y="15541"/>
                  <a:pt x="19386" y="15574"/>
                </a:cubicBezTo>
                <a:cubicBezTo>
                  <a:pt x="19386" y="15577"/>
                  <a:pt x="19387" y="15581"/>
                  <a:pt x="19387" y="15584"/>
                </a:cubicBezTo>
                <a:cubicBezTo>
                  <a:pt x="19370" y="15573"/>
                  <a:pt x="19357" y="15563"/>
                  <a:pt x="19339" y="15553"/>
                </a:cubicBezTo>
                <a:cubicBezTo>
                  <a:pt x="19328" y="15548"/>
                  <a:pt x="19324" y="15546"/>
                  <a:pt x="19317" y="15541"/>
                </a:cubicBezTo>
              </a:path>
              <a:path w="11684" h="6012">
                <a:moveTo>
                  <a:pt x="19040" y="15357"/>
                </a:moveTo>
                <a:cubicBezTo>
                  <a:pt x="19036" y="15407"/>
                  <a:pt x="19054" y="15412"/>
                  <a:pt x="19087" y="15448"/>
                </a:cubicBezTo>
                <a:cubicBezTo>
                  <a:pt x="19121" y="15485"/>
                  <a:pt x="19156" y="15522"/>
                  <a:pt x="19186" y="15562"/>
                </a:cubicBezTo>
                <a:cubicBezTo>
                  <a:pt x="19219" y="15605"/>
                  <a:pt x="19248" y="15652"/>
                  <a:pt x="19290" y="15687"/>
                </a:cubicBezTo>
                <a:cubicBezTo>
                  <a:pt x="19317" y="15710"/>
                  <a:pt x="19337" y="15707"/>
                  <a:pt x="19368" y="15704"/>
                </a:cubicBezTo>
              </a:path>
              <a:path w="11684" h="6012">
                <a:moveTo>
                  <a:pt x="19578" y="15484"/>
                </a:moveTo>
                <a:cubicBezTo>
                  <a:pt x="19539" y="15557"/>
                  <a:pt x="19494" y="15630"/>
                  <a:pt x="19463" y="15707"/>
                </a:cubicBezTo>
                <a:cubicBezTo>
                  <a:pt x="19443" y="15757"/>
                  <a:pt x="19426" y="15799"/>
                  <a:pt x="19416" y="15850"/>
                </a:cubicBezTo>
              </a:path>
              <a:path w="11684" h="6012">
                <a:moveTo>
                  <a:pt x="19985" y="14509"/>
                </a:moveTo>
                <a:cubicBezTo>
                  <a:pt x="19987" y="14516"/>
                  <a:pt x="19989" y="14561"/>
                  <a:pt x="19988" y="14580"/>
                </a:cubicBezTo>
                <a:cubicBezTo>
                  <a:pt x="19985" y="14651"/>
                  <a:pt x="19986" y="14721"/>
                  <a:pt x="19986" y="14792"/>
                </a:cubicBezTo>
                <a:cubicBezTo>
                  <a:pt x="19986" y="14887"/>
                  <a:pt x="19988" y="14981"/>
                  <a:pt x="19994" y="15075"/>
                </a:cubicBezTo>
                <a:cubicBezTo>
                  <a:pt x="19998" y="15145"/>
                  <a:pt x="20002" y="15209"/>
                  <a:pt x="20023" y="15276"/>
                </a:cubicBezTo>
                <a:cubicBezTo>
                  <a:pt x="20029" y="15291"/>
                  <a:pt x="20030" y="15296"/>
                  <a:pt x="20041" y="15300"/>
                </a:cubicBezTo>
              </a:path>
              <a:path w="11684" h="6012">
                <a:moveTo>
                  <a:pt x="20039" y="14504"/>
                </a:moveTo>
                <a:cubicBezTo>
                  <a:pt x="20042" y="14421"/>
                  <a:pt x="20035" y="14417"/>
                  <a:pt x="20063" y="14355"/>
                </a:cubicBezTo>
                <a:cubicBezTo>
                  <a:pt x="20110" y="14339"/>
                  <a:pt x="20134" y="14368"/>
                  <a:pt x="20163" y="14410"/>
                </a:cubicBezTo>
                <a:cubicBezTo>
                  <a:pt x="20217" y="14489"/>
                  <a:pt x="20239" y="14591"/>
                  <a:pt x="20245" y="14685"/>
                </a:cubicBezTo>
                <a:cubicBezTo>
                  <a:pt x="20253" y="14806"/>
                  <a:pt x="20232" y="14924"/>
                  <a:pt x="20182" y="15035"/>
                </a:cubicBezTo>
                <a:cubicBezTo>
                  <a:pt x="20146" y="15116"/>
                  <a:pt x="20084" y="15228"/>
                  <a:pt x="20010" y="15281"/>
                </a:cubicBezTo>
                <a:cubicBezTo>
                  <a:pt x="19960" y="15316"/>
                  <a:pt x="19909" y="15318"/>
                  <a:pt x="19852" y="15323"/>
                </a:cubicBezTo>
              </a:path>
              <a:path w="11684" h="6012">
                <a:moveTo>
                  <a:pt x="12274" y="12645"/>
                </a:moveTo>
                <a:cubicBezTo>
                  <a:pt x="12263" y="12605"/>
                  <a:pt x="12250" y="12568"/>
                  <a:pt x="12245" y="12528"/>
                </a:cubicBezTo>
                <a:cubicBezTo>
                  <a:pt x="12243" y="12509"/>
                  <a:pt x="12243" y="12490"/>
                  <a:pt x="12243" y="12471"/>
                </a:cubicBezTo>
                <a:cubicBezTo>
                  <a:pt x="12246" y="12499"/>
                  <a:pt x="12249" y="12527"/>
                  <a:pt x="12251" y="12555"/>
                </a:cubicBezTo>
                <a:cubicBezTo>
                  <a:pt x="12256" y="12628"/>
                  <a:pt x="12259" y="12702"/>
                  <a:pt x="12261" y="12775"/>
                </a:cubicBezTo>
                <a:cubicBezTo>
                  <a:pt x="12264" y="12880"/>
                  <a:pt x="12266" y="12985"/>
                  <a:pt x="12266" y="13090"/>
                </a:cubicBezTo>
                <a:cubicBezTo>
                  <a:pt x="12267" y="13359"/>
                  <a:pt x="12261" y="13629"/>
                  <a:pt x="12269" y="13898"/>
                </a:cubicBezTo>
                <a:cubicBezTo>
                  <a:pt x="12269" y="13910"/>
                  <a:pt x="12274" y="13976"/>
                  <a:pt x="12258" y="13957"/>
                </a:cubicBezTo>
                <a:cubicBezTo>
                  <a:pt x="12254" y="13940"/>
                  <a:pt x="12254" y="13936"/>
                  <a:pt x="12251" y="13926"/>
                </a:cubicBezTo>
              </a:path>
              <a:path w="11684" h="6012">
                <a:moveTo>
                  <a:pt x="12052" y="13832"/>
                </a:moveTo>
                <a:cubicBezTo>
                  <a:pt x="12051" y="13799"/>
                  <a:pt x="12043" y="13748"/>
                  <a:pt x="12071" y="13722"/>
                </a:cubicBezTo>
                <a:cubicBezTo>
                  <a:pt x="12091" y="13704"/>
                  <a:pt x="12124" y="13710"/>
                  <a:pt x="12144" y="13723"/>
                </a:cubicBezTo>
                <a:cubicBezTo>
                  <a:pt x="12179" y="13747"/>
                  <a:pt x="12209" y="13784"/>
                  <a:pt x="12233" y="13818"/>
                </a:cubicBezTo>
                <a:cubicBezTo>
                  <a:pt x="12257" y="13852"/>
                  <a:pt x="12279" y="13886"/>
                  <a:pt x="12305" y="13918"/>
                </a:cubicBezTo>
                <a:cubicBezTo>
                  <a:pt x="12320" y="13937"/>
                  <a:pt x="12342" y="13958"/>
                  <a:pt x="12367" y="13956"/>
                </a:cubicBezTo>
                <a:cubicBezTo>
                  <a:pt x="12388" y="13952"/>
                  <a:pt x="12395" y="13951"/>
                  <a:pt x="12400" y="13934"/>
                </a:cubicBezTo>
              </a:path>
              <a:path w="11684" h="6012">
                <a:moveTo>
                  <a:pt x="12447" y="13809"/>
                </a:moveTo>
                <a:cubicBezTo>
                  <a:pt x="12446" y="13803"/>
                  <a:pt x="12444" y="13798"/>
                  <a:pt x="12443" y="13792"/>
                </a:cubicBezTo>
                <a:cubicBezTo>
                  <a:pt x="12422" y="13800"/>
                  <a:pt x="12409" y="13826"/>
                  <a:pt x="12396" y="13851"/>
                </a:cubicBezTo>
                <a:cubicBezTo>
                  <a:pt x="12374" y="13894"/>
                  <a:pt x="12355" y="13939"/>
                  <a:pt x="12339" y="13985"/>
                </a:cubicBezTo>
                <a:cubicBezTo>
                  <a:pt x="12326" y="14023"/>
                  <a:pt x="12313" y="14063"/>
                  <a:pt x="12287" y="14090"/>
                </a:cubicBezTo>
              </a:path>
              <a:path w="11684" h="6012">
                <a:moveTo>
                  <a:pt x="12244" y="12597"/>
                </a:moveTo>
                <a:cubicBezTo>
                  <a:pt x="12260" y="12574"/>
                  <a:pt x="12275" y="12561"/>
                  <a:pt x="12293" y="12541"/>
                </a:cubicBezTo>
                <a:cubicBezTo>
                  <a:pt x="12307" y="12525"/>
                  <a:pt x="12321" y="12509"/>
                  <a:pt x="12325" y="12488"/>
                </a:cubicBezTo>
                <a:cubicBezTo>
                  <a:pt x="12325" y="12484"/>
                  <a:pt x="12325" y="12481"/>
                  <a:pt x="12325" y="12477"/>
                </a:cubicBezTo>
                <a:cubicBezTo>
                  <a:pt x="12299" y="12496"/>
                  <a:pt x="12283" y="12516"/>
                  <a:pt x="12261" y="12546"/>
                </a:cubicBezTo>
                <a:cubicBezTo>
                  <a:pt x="12226" y="12595"/>
                  <a:pt x="12194" y="12645"/>
                  <a:pt x="12159" y="12694"/>
                </a:cubicBezTo>
                <a:cubicBezTo>
                  <a:pt x="12133" y="12731"/>
                  <a:pt x="12107" y="12768"/>
                  <a:pt x="12075" y="12797"/>
                </a:cubicBezTo>
                <a:cubicBezTo>
                  <a:pt x="12082" y="12772"/>
                  <a:pt x="12090" y="12748"/>
                  <a:pt x="12101" y="12724"/>
                </a:cubicBezTo>
                <a:cubicBezTo>
                  <a:pt x="12114" y="12694"/>
                  <a:pt x="12129" y="12668"/>
                  <a:pt x="12154" y="12647"/>
                </a:cubicBezTo>
                <a:cubicBezTo>
                  <a:pt x="12192" y="12660"/>
                  <a:pt x="12201" y="12702"/>
                  <a:pt x="12218" y="12740"/>
                </a:cubicBezTo>
                <a:cubicBezTo>
                  <a:pt x="12248" y="12806"/>
                  <a:pt x="12278" y="12879"/>
                  <a:pt x="12328" y="12933"/>
                </a:cubicBezTo>
                <a:cubicBezTo>
                  <a:pt x="12375" y="12984"/>
                  <a:pt x="12406" y="12986"/>
                  <a:pt x="12470" y="13001"/>
                </a:cubicBezTo>
              </a:path>
              <a:path w="11684" h="6012">
                <a:moveTo>
                  <a:pt x="12228" y="13040"/>
                </a:moveTo>
                <a:cubicBezTo>
                  <a:pt x="12254" y="13088"/>
                  <a:pt x="12284" y="13128"/>
                  <a:pt x="12339" y="13149"/>
                </a:cubicBezTo>
                <a:cubicBezTo>
                  <a:pt x="12392" y="13169"/>
                  <a:pt x="12447" y="13176"/>
                  <a:pt x="12504" y="13177"/>
                </a:cubicBezTo>
                <a:cubicBezTo>
                  <a:pt x="12617" y="13179"/>
                  <a:pt x="12725" y="13141"/>
                  <a:pt x="12819" y="13078"/>
                </a:cubicBezTo>
                <a:cubicBezTo>
                  <a:pt x="12923" y="13009"/>
                  <a:pt x="13003" y="12913"/>
                  <a:pt x="13072" y="12811"/>
                </a:cubicBezTo>
                <a:cubicBezTo>
                  <a:pt x="13143" y="12706"/>
                  <a:pt x="13192" y="12589"/>
                  <a:pt x="13229" y="12468"/>
                </a:cubicBezTo>
                <a:cubicBezTo>
                  <a:pt x="13253" y="12391"/>
                  <a:pt x="13238" y="12172"/>
                  <a:pt x="13286" y="12112"/>
                </a:cubicBezTo>
                <a:cubicBezTo>
                  <a:pt x="13296" y="12100"/>
                  <a:pt x="13322" y="12110"/>
                  <a:pt x="13335" y="12107"/>
                </a:cubicBezTo>
              </a:path>
              <a:path w="11684" h="6012">
                <a:moveTo>
                  <a:pt x="13806" y="11331"/>
                </a:moveTo>
                <a:cubicBezTo>
                  <a:pt x="13810" y="11307"/>
                  <a:pt x="13819" y="11278"/>
                  <a:pt x="13824" y="11259"/>
                </a:cubicBezTo>
                <a:cubicBezTo>
                  <a:pt x="13845" y="11280"/>
                  <a:pt x="13857" y="11301"/>
                  <a:pt x="13868" y="11341"/>
                </a:cubicBezTo>
                <a:cubicBezTo>
                  <a:pt x="13906" y="11479"/>
                  <a:pt x="13916" y="11617"/>
                  <a:pt x="13917" y="11760"/>
                </a:cubicBezTo>
                <a:cubicBezTo>
                  <a:pt x="13918" y="11859"/>
                  <a:pt x="13910" y="11957"/>
                  <a:pt x="13908" y="12056"/>
                </a:cubicBezTo>
                <a:cubicBezTo>
                  <a:pt x="13907" y="12093"/>
                  <a:pt x="13905" y="12127"/>
                  <a:pt x="13903" y="12163"/>
                </a:cubicBezTo>
              </a:path>
              <a:path w="11684" h="6012">
                <a:moveTo>
                  <a:pt x="13900" y="11293"/>
                </a:moveTo>
                <a:cubicBezTo>
                  <a:pt x="13903" y="11271"/>
                  <a:pt x="13905" y="11231"/>
                  <a:pt x="13923" y="11212"/>
                </a:cubicBezTo>
                <a:cubicBezTo>
                  <a:pt x="13944" y="11190"/>
                  <a:pt x="13979" y="11181"/>
                  <a:pt x="14009" y="11184"/>
                </a:cubicBezTo>
                <a:cubicBezTo>
                  <a:pt x="14059" y="11188"/>
                  <a:pt x="14084" y="11235"/>
                  <a:pt x="14098" y="11278"/>
                </a:cubicBezTo>
                <a:cubicBezTo>
                  <a:pt x="14117" y="11336"/>
                  <a:pt x="14115" y="11398"/>
                  <a:pt x="14097" y="11456"/>
                </a:cubicBezTo>
                <a:cubicBezTo>
                  <a:pt x="14084" y="11499"/>
                  <a:pt x="14058" y="11528"/>
                  <a:pt x="14037" y="11565"/>
                </a:cubicBezTo>
                <a:cubicBezTo>
                  <a:pt x="14036" y="11569"/>
                  <a:pt x="14034" y="11573"/>
                  <a:pt x="14033" y="11577"/>
                </a:cubicBezTo>
                <a:cubicBezTo>
                  <a:pt x="14086" y="11593"/>
                  <a:pt x="14119" y="11616"/>
                  <a:pt x="14144" y="11669"/>
                </a:cubicBezTo>
                <a:cubicBezTo>
                  <a:pt x="14173" y="11731"/>
                  <a:pt x="14170" y="11807"/>
                  <a:pt x="14154" y="11872"/>
                </a:cubicBezTo>
                <a:cubicBezTo>
                  <a:pt x="14137" y="11938"/>
                  <a:pt x="14101" y="12001"/>
                  <a:pt x="14052" y="12048"/>
                </a:cubicBezTo>
                <a:cubicBezTo>
                  <a:pt x="14024" y="12075"/>
                  <a:pt x="14010" y="12079"/>
                  <a:pt x="13974" y="12083"/>
                </a:cubicBezTo>
                <a:cubicBezTo>
                  <a:pt x="13946" y="12040"/>
                  <a:pt x="13953" y="12010"/>
                  <a:pt x="13962" y="11958"/>
                </a:cubicBezTo>
              </a:path>
              <a:path w="11684" h="6012">
                <a:moveTo>
                  <a:pt x="14303" y="11648"/>
                </a:moveTo>
                <a:cubicBezTo>
                  <a:pt x="14336" y="11635"/>
                  <a:pt x="14353" y="11632"/>
                  <a:pt x="14375" y="11610"/>
                </a:cubicBezTo>
                <a:cubicBezTo>
                  <a:pt x="14384" y="11576"/>
                  <a:pt x="14351" y="11631"/>
                  <a:pt x="14348" y="11638"/>
                </a:cubicBezTo>
                <a:cubicBezTo>
                  <a:pt x="14328" y="11690"/>
                  <a:pt x="14323" y="11741"/>
                  <a:pt x="14323" y="11796"/>
                </a:cubicBezTo>
                <a:cubicBezTo>
                  <a:pt x="14323" y="11861"/>
                  <a:pt x="14345" y="11935"/>
                  <a:pt x="14403" y="11974"/>
                </a:cubicBezTo>
                <a:cubicBezTo>
                  <a:pt x="14453" y="12008"/>
                  <a:pt x="14515" y="11999"/>
                  <a:pt x="14570" y="11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Ink 8"/>
          <p:cNvSpPr/>
          <p:nvPr/>
        </p:nvSpPr>
        <p:spPr>
          <a:xfrm>
            <a:off x="7881840" y="4581360"/>
            <a:ext cx="119160" cy="225720"/>
          </a:xfrm>
          <a:custGeom>
            <a:avLst/>
            <a:gdLst/>
            <a:ahLst/>
            <a:rect l="l" t="t" r="r" b="b"/>
            <a:pathLst>
              <a:path w="331" h="628">
                <a:moveTo>
                  <a:pt x="21902" y="12920"/>
                </a:moveTo>
                <a:cubicBezTo>
                  <a:pt x="21897" y="12843"/>
                  <a:pt x="21880" y="12794"/>
                  <a:pt x="21950" y="12747"/>
                </a:cubicBezTo>
                <a:cubicBezTo>
                  <a:pt x="21999" y="12714"/>
                  <a:pt x="22066" y="12720"/>
                  <a:pt x="22114" y="12752"/>
                </a:cubicBezTo>
                <a:cubicBezTo>
                  <a:pt x="22183" y="12798"/>
                  <a:pt x="22215" y="12883"/>
                  <a:pt x="22223" y="12962"/>
                </a:cubicBezTo>
                <a:cubicBezTo>
                  <a:pt x="22232" y="13048"/>
                  <a:pt x="22222" y="13136"/>
                  <a:pt x="22183" y="13214"/>
                </a:cubicBezTo>
                <a:cubicBezTo>
                  <a:pt x="22159" y="13261"/>
                  <a:pt x="22108" y="13330"/>
                  <a:pt x="22056" y="13350"/>
                </a:cubicBezTo>
                <a:cubicBezTo>
                  <a:pt x="22017" y="13365"/>
                  <a:pt x="22005" y="13351"/>
                  <a:pt x="21980" y="13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Ink 9"/>
          <p:cNvSpPr/>
          <p:nvPr/>
        </p:nvSpPr>
        <p:spPr>
          <a:xfrm>
            <a:off x="8182080" y="4129200"/>
            <a:ext cx="549000" cy="345960"/>
          </a:xfrm>
          <a:custGeom>
            <a:avLst/>
            <a:gdLst/>
            <a:ahLst/>
            <a:rect l="l" t="t" r="r" b="b"/>
            <a:pathLst>
              <a:path w="1526" h="961">
                <a:moveTo>
                  <a:pt x="22727" y="11738"/>
                </a:moveTo>
                <a:cubicBezTo>
                  <a:pt x="22762" y="11751"/>
                  <a:pt x="22772" y="11782"/>
                  <a:pt x="22790" y="11819"/>
                </a:cubicBezTo>
                <a:cubicBezTo>
                  <a:pt x="22822" y="11886"/>
                  <a:pt x="22850" y="11954"/>
                  <a:pt x="22887" y="12018"/>
                </a:cubicBezTo>
                <a:cubicBezTo>
                  <a:pt x="22923" y="12080"/>
                  <a:pt x="22963" y="12147"/>
                  <a:pt x="23018" y="12193"/>
                </a:cubicBezTo>
                <a:cubicBezTo>
                  <a:pt x="23043" y="12214"/>
                  <a:pt x="23092" y="12249"/>
                  <a:pt x="23124" y="12224"/>
                </a:cubicBezTo>
                <a:cubicBezTo>
                  <a:pt x="23143" y="12200"/>
                  <a:pt x="23150" y="12190"/>
                  <a:pt x="23149" y="12166"/>
                </a:cubicBezTo>
              </a:path>
              <a:path w="1526" h="961">
                <a:moveTo>
                  <a:pt x="23111" y="11839"/>
                </a:moveTo>
                <a:cubicBezTo>
                  <a:pt x="23097" y="11803"/>
                  <a:pt x="23101" y="11791"/>
                  <a:pt x="23075" y="11788"/>
                </a:cubicBezTo>
                <a:cubicBezTo>
                  <a:pt x="23054" y="11834"/>
                  <a:pt x="23040" y="11882"/>
                  <a:pt x="23024" y="11933"/>
                </a:cubicBezTo>
                <a:cubicBezTo>
                  <a:pt x="22994" y="12028"/>
                  <a:pt x="22966" y="12124"/>
                  <a:pt x="22941" y="12221"/>
                </a:cubicBezTo>
                <a:cubicBezTo>
                  <a:pt x="22924" y="12286"/>
                  <a:pt x="22906" y="12355"/>
                  <a:pt x="22883" y="12418"/>
                </a:cubicBezTo>
                <a:cubicBezTo>
                  <a:pt x="22881" y="12422"/>
                  <a:pt x="22878" y="12426"/>
                  <a:pt x="22876" y="12430"/>
                </a:cubicBezTo>
              </a:path>
              <a:path w="1526" h="961">
                <a:moveTo>
                  <a:pt x="23315" y="11501"/>
                </a:moveTo>
                <a:cubicBezTo>
                  <a:pt x="23393" y="11512"/>
                  <a:pt x="23387" y="11512"/>
                  <a:pt x="23394" y="11587"/>
                </a:cubicBezTo>
                <a:cubicBezTo>
                  <a:pt x="23401" y="11664"/>
                  <a:pt x="23405" y="11741"/>
                  <a:pt x="23407" y="11819"/>
                </a:cubicBezTo>
                <a:cubicBezTo>
                  <a:pt x="23409" y="11899"/>
                  <a:pt x="23410" y="11978"/>
                  <a:pt x="23410" y="12058"/>
                </a:cubicBezTo>
                <a:cubicBezTo>
                  <a:pt x="23410" y="12097"/>
                  <a:pt x="23408" y="12136"/>
                  <a:pt x="23413" y="12175"/>
                </a:cubicBezTo>
                <a:cubicBezTo>
                  <a:pt x="23422" y="12146"/>
                  <a:pt x="23428" y="12124"/>
                  <a:pt x="23433" y="12091"/>
                </a:cubicBezTo>
              </a:path>
              <a:path w="1526" h="961">
                <a:moveTo>
                  <a:pt x="23606" y="11567"/>
                </a:moveTo>
                <a:cubicBezTo>
                  <a:pt x="23620" y="11587"/>
                  <a:pt x="23617" y="11572"/>
                  <a:pt x="23616" y="11605"/>
                </a:cubicBezTo>
                <a:cubicBezTo>
                  <a:pt x="23614" y="11655"/>
                  <a:pt x="23609" y="11706"/>
                  <a:pt x="23608" y="11756"/>
                </a:cubicBezTo>
                <a:cubicBezTo>
                  <a:pt x="23606" y="11832"/>
                  <a:pt x="23606" y="11907"/>
                  <a:pt x="23606" y="11983"/>
                </a:cubicBezTo>
                <a:cubicBezTo>
                  <a:pt x="23606" y="12041"/>
                  <a:pt x="23601" y="12106"/>
                  <a:pt x="23617" y="12163"/>
                </a:cubicBezTo>
                <a:cubicBezTo>
                  <a:pt x="23626" y="12184"/>
                  <a:pt x="23626" y="12190"/>
                  <a:pt x="23638" y="12198"/>
                </a:cubicBezTo>
                <a:cubicBezTo>
                  <a:pt x="23682" y="12190"/>
                  <a:pt x="23695" y="12155"/>
                  <a:pt x="23715" y="12115"/>
                </a:cubicBezTo>
                <a:cubicBezTo>
                  <a:pt x="23752" y="12039"/>
                  <a:pt x="23770" y="11959"/>
                  <a:pt x="23777" y="11875"/>
                </a:cubicBezTo>
                <a:cubicBezTo>
                  <a:pt x="23782" y="11806"/>
                  <a:pt x="23786" y="11734"/>
                  <a:pt x="23757" y="11669"/>
                </a:cubicBezTo>
                <a:cubicBezTo>
                  <a:pt x="23744" y="11641"/>
                  <a:pt x="23721" y="11610"/>
                  <a:pt x="23692" y="11600"/>
                </a:cubicBezTo>
                <a:cubicBezTo>
                  <a:pt x="23680" y="11600"/>
                  <a:pt x="23677" y="11600"/>
                  <a:pt x="23669" y="11600"/>
                </a:cubicBezTo>
              </a:path>
              <a:path w="1526" h="961">
                <a:moveTo>
                  <a:pt x="24127" y="11508"/>
                </a:moveTo>
                <a:cubicBezTo>
                  <a:pt x="24145" y="11490"/>
                  <a:pt x="24149" y="11492"/>
                  <a:pt x="24152" y="11470"/>
                </a:cubicBezTo>
                <a:cubicBezTo>
                  <a:pt x="24147" y="11490"/>
                  <a:pt x="24143" y="11510"/>
                  <a:pt x="24139" y="11530"/>
                </a:cubicBezTo>
                <a:cubicBezTo>
                  <a:pt x="24127" y="11587"/>
                  <a:pt x="24109" y="11642"/>
                  <a:pt x="24096" y="11698"/>
                </a:cubicBezTo>
                <a:cubicBezTo>
                  <a:pt x="24080" y="11765"/>
                  <a:pt x="24065" y="11834"/>
                  <a:pt x="24062" y="11903"/>
                </a:cubicBezTo>
                <a:cubicBezTo>
                  <a:pt x="24060" y="11942"/>
                  <a:pt x="24063" y="11962"/>
                  <a:pt x="24078" y="11996"/>
                </a:cubicBezTo>
                <a:cubicBezTo>
                  <a:pt x="24169" y="12001"/>
                  <a:pt x="24200" y="11923"/>
                  <a:pt x="24234" y="11845"/>
                </a:cubicBezTo>
                <a:cubicBezTo>
                  <a:pt x="24261" y="11784"/>
                  <a:pt x="24272" y="11694"/>
                  <a:pt x="24215" y="11648"/>
                </a:cubicBezTo>
                <a:cubicBezTo>
                  <a:pt x="24177" y="11626"/>
                  <a:pt x="24164" y="11618"/>
                  <a:pt x="24134" y="11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Ink 10"/>
          <p:cNvSpPr/>
          <p:nvPr/>
        </p:nvSpPr>
        <p:spPr>
          <a:xfrm>
            <a:off x="4600440" y="5721480"/>
            <a:ext cx="2583000" cy="79200"/>
          </a:xfrm>
          <a:custGeom>
            <a:avLst/>
            <a:gdLst/>
            <a:ahLst/>
            <a:rect l="l" t="t" r="r" b="b"/>
            <a:pathLst>
              <a:path w="7174" h="222">
                <a:moveTo>
                  <a:pt x="12780" y="16114"/>
                </a:moveTo>
                <a:cubicBezTo>
                  <a:pt x="12824" y="16112"/>
                  <a:pt x="12868" y="16106"/>
                  <a:pt x="12914" y="16105"/>
                </a:cubicBezTo>
                <a:cubicBezTo>
                  <a:pt x="13530" y="16091"/>
                  <a:pt x="14147" y="16089"/>
                  <a:pt x="14763" y="16087"/>
                </a:cubicBezTo>
                <a:cubicBezTo>
                  <a:pt x="16128" y="16082"/>
                  <a:pt x="18698" y="15458"/>
                  <a:pt x="19945" y="15893"/>
                </a:cubicBezTo>
                <a:cubicBezTo>
                  <a:pt x="19970" y="15902"/>
                  <a:pt x="19917" y="15905"/>
                  <a:pt x="19920" y="15912"/>
                </a:cubicBezTo>
                <a:cubicBezTo>
                  <a:pt x="19928" y="15929"/>
                  <a:pt x="19875" y="15924"/>
                  <a:pt x="19873" y="159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Baffle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219320" y="274320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533520" y="3200400"/>
            <a:ext cx="7238880" cy="2057400"/>
            <a:chOff x="533520" y="3200400"/>
            <a:chExt cx="7238880" cy="2057400"/>
          </a:xfrm>
        </p:grpSpPr>
        <p:graphicFrame>
          <p:nvGraphicFramePr>
            <p:cNvPr id="144" name="Object 3"/>
            <p:cNvGraphicFramePr/>
            <p:nvPr/>
          </p:nvGraphicFramePr>
          <p:xfrm>
            <a:off x="533520" y="3200400"/>
            <a:ext cx="723888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00400"/>
                      <a:ext cx="72388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Rectangle 6"/>
            <p:cNvSpPr/>
            <p:nvPr/>
          </p:nvSpPr>
          <p:spPr>
            <a:xfrm>
              <a:off x="1739880" y="4819320"/>
              <a:ext cx="548928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ple Segmental Baff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12"/>
          <p:cNvGrpSpPr/>
          <p:nvPr/>
        </p:nvGrpSpPr>
        <p:grpSpPr>
          <a:xfrm>
            <a:off x="228600" y="609480"/>
            <a:ext cx="7391520" cy="2556000"/>
            <a:chOff x="228600" y="609480"/>
            <a:chExt cx="7391520" cy="2556000"/>
          </a:xfrm>
        </p:grpSpPr>
        <p:graphicFrame>
          <p:nvGraphicFramePr>
            <p:cNvPr id="148" name="Object 2"/>
            <p:cNvGraphicFramePr/>
            <p:nvPr/>
          </p:nvGraphicFramePr>
          <p:xfrm>
            <a:off x="228600" y="609480"/>
            <a:ext cx="7391520" cy="255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609480"/>
                      <a:ext cx="7391520" cy="25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Rectangle 9"/>
            <p:cNvSpPr/>
            <p:nvPr/>
          </p:nvSpPr>
          <p:spPr>
            <a:xfrm>
              <a:off x="2209680" y="2514600"/>
              <a:ext cx="40388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uble Segmental Baff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533520" y="5943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iple segmental baffles are used for low pressure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Ink 14"/>
          <p:cNvSpPr/>
          <p:nvPr/>
        </p:nvSpPr>
        <p:spPr>
          <a:xfrm>
            <a:off x="812880" y="4416480"/>
            <a:ext cx="380880" cy="279360"/>
          </a:xfrm>
          <a:custGeom>
            <a:avLst/>
            <a:gdLst/>
            <a:ahLst/>
            <a:rect l="l" t="t" r="r" b="b"/>
            <a:pathLst>
              <a:path w="1061" h="775">
                <a:moveTo>
                  <a:pt x="2302" y="12363"/>
                </a:moveTo>
                <a:cubicBezTo>
                  <a:pt x="2294" y="12340"/>
                  <a:pt x="2293" y="12304"/>
                  <a:pt x="2282" y="12283"/>
                </a:cubicBezTo>
                <a:cubicBezTo>
                  <a:pt x="2272" y="12263"/>
                  <a:pt x="2272" y="12276"/>
                  <a:pt x="2256" y="12268"/>
                </a:cubicBezTo>
                <a:cubicBezTo>
                  <a:pt x="2282" y="12272"/>
                  <a:pt x="2306" y="12277"/>
                  <a:pt x="2332" y="12283"/>
                </a:cubicBezTo>
                <a:cubicBezTo>
                  <a:pt x="2378" y="12294"/>
                  <a:pt x="2425" y="12301"/>
                  <a:pt x="2472" y="12306"/>
                </a:cubicBezTo>
                <a:cubicBezTo>
                  <a:pt x="2522" y="12311"/>
                  <a:pt x="2571" y="12311"/>
                  <a:pt x="2621" y="12312"/>
                </a:cubicBezTo>
                <a:cubicBezTo>
                  <a:pt x="2684" y="12313"/>
                  <a:pt x="2747" y="12317"/>
                  <a:pt x="2810" y="12323"/>
                </a:cubicBezTo>
                <a:cubicBezTo>
                  <a:pt x="2911" y="12332"/>
                  <a:pt x="3011" y="12352"/>
                  <a:pt x="3112" y="12361"/>
                </a:cubicBezTo>
                <a:cubicBezTo>
                  <a:pt x="3143" y="12364"/>
                  <a:pt x="3173" y="12366"/>
                  <a:pt x="3204" y="12366"/>
                </a:cubicBezTo>
                <a:cubicBezTo>
                  <a:pt x="3228" y="12366"/>
                  <a:pt x="3240" y="12368"/>
                  <a:pt x="3262" y="12375"/>
                </a:cubicBezTo>
              </a:path>
              <a:path w="1061" h="775">
                <a:moveTo>
                  <a:pt x="2412" y="12933"/>
                </a:moveTo>
                <a:cubicBezTo>
                  <a:pt x="2419" y="12915"/>
                  <a:pt x="2416" y="12896"/>
                  <a:pt x="2437" y="12884"/>
                </a:cubicBezTo>
                <a:cubicBezTo>
                  <a:pt x="2453" y="12875"/>
                  <a:pt x="2469" y="12880"/>
                  <a:pt x="2486" y="12882"/>
                </a:cubicBezTo>
                <a:cubicBezTo>
                  <a:pt x="2515" y="12886"/>
                  <a:pt x="2542" y="12903"/>
                  <a:pt x="2570" y="12912"/>
                </a:cubicBezTo>
                <a:cubicBezTo>
                  <a:pt x="2617" y="12927"/>
                  <a:pt x="2663" y="12943"/>
                  <a:pt x="2711" y="12955"/>
                </a:cubicBezTo>
                <a:cubicBezTo>
                  <a:pt x="2858" y="12992"/>
                  <a:pt x="3011" y="12998"/>
                  <a:pt x="3162" y="13008"/>
                </a:cubicBezTo>
                <a:cubicBezTo>
                  <a:pt x="3200" y="13011"/>
                  <a:pt x="3252" y="13005"/>
                  <a:pt x="3289" y="13019"/>
                </a:cubicBezTo>
                <a:cubicBezTo>
                  <a:pt x="3303" y="13025"/>
                  <a:pt x="3302" y="13026"/>
                  <a:pt x="3316" y="13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Baffle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228600" y="2057400"/>
          <a:ext cx="86104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6104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Baffle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33556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28600" y="373392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 and ring baffles are composed of alternating outer rings and inner discs, which direct the flow radially across the tub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tential bundle-to-shell bypass stream is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baffle type is very effective in pressure drop to heat transfer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Baffle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724280" cy="2708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380880" y="4572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n orifice baffle shell-side-fluid flows through the clearance between tube outside diameter and baffle-hole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057400" y="762120"/>
            <a:ext cx="25146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Ink 6"/>
          <p:cNvSpPr/>
          <p:nvPr/>
        </p:nvSpPr>
        <p:spPr>
          <a:xfrm>
            <a:off x="5383080" y="6773760"/>
            <a:ext cx="3240" cy="58680"/>
          </a:xfrm>
          <a:custGeom>
            <a:avLst/>
            <a:gdLst/>
            <a:ahLst/>
            <a:rect l="l" t="t" r="r" b="b"/>
            <a:pathLst>
              <a:path w="11" h="164">
                <a:moveTo>
                  <a:pt x="14952" y="18980"/>
                </a:moveTo>
                <a:cubicBezTo>
                  <a:pt x="14960" y="18883"/>
                  <a:pt x="14971" y="18869"/>
                  <a:pt x="14952" y="188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risis of More Area than the Required  Heat Exchanging Surfac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Ink 4"/>
          <p:cNvSpPr/>
          <p:nvPr/>
        </p:nvSpPr>
        <p:spPr>
          <a:xfrm>
            <a:off x="9080640" y="6672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5225" y="18536"/>
                </a:move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  <a:lnTo>
                  <a:pt x="25225" y="18536"/>
                </a:ln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Ink 5"/>
          <p:cNvSpPr/>
          <p:nvPr/>
        </p:nvSpPr>
        <p:spPr>
          <a:xfrm>
            <a:off x="5170320" y="4538520"/>
            <a:ext cx="8280" cy="5040"/>
          </a:xfrm>
          <a:custGeom>
            <a:avLst/>
            <a:gdLst/>
            <a:ahLst/>
            <a:rect l="l" t="t" r="r" b="b"/>
            <a:pathLst>
              <a:path w="23" h="14">
                <a:moveTo>
                  <a:pt x="14363" y="12617"/>
                </a:moveTo>
                <a:cubicBezTo>
                  <a:pt x="14365" y="12598"/>
                  <a:pt x="14366" y="12606"/>
                  <a:pt x="14384" y="12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Ink 5"/>
          <p:cNvSpPr/>
          <p:nvPr/>
        </p:nvSpPr>
        <p:spPr>
          <a:xfrm>
            <a:off x="2048040" y="1303200"/>
            <a:ext cx="7089480" cy="5210280"/>
          </a:xfrm>
          <a:custGeom>
            <a:avLst/>
            <a:gdLst/>
            <a:ahLst/>
            <a:rect l="l" t="t" r="r" b="b"/>
            <a:pathLst>
              <a:path w="19695" h="14472">
                <a:moveTo>
                  <a:pt x="18600" y="17988"/>
                </a:move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  <a:lnTo>
                  <a:pt x="18600" y="17988"/>
                </a:lnTo>
              </a:path>
              <a:path w="19695" h="14472">
                <a:moveTo>
                  <a:pt x="19018" y="18093"/>
                </a:moveTo>
                <a:lnTo>
                  <a:pt x="19018" y="18093"/>
                </a:lnTo>
                <a:lnTo>
                  <a:pt x="19018" y="18093"/>
                </a:lnTo>
              </a:path>
              <a:path w="19695" h="14472">
                <a:moveTo>
                  <a:pt x="5733" y="4781"/>
                </a:moveTo>
                <a:cubicBezTo>
                  <a:pt x="5753" y="4780"/>
                  <a:pt x="5675" y="4762"/>
                  <a:pt x="5695" y="4763"/>
                </a:cubicBezTo>
                <a:cubicBezTo>
                  <a:pt x="5861" y="4768"/>
                  <a:pt x="6010" y="4774"/>
                  <a:pt x="6184" y="4748"/>
                </a:cubicBezTo>
                <a:cubicBezTo>
                  <a:pt x="7872" y="4499"/>
                  <a:pt x="9546" y="4241"/>
                  <a:pt x="11252" y="4145"/>
                </a:cubicBezTo>
                <a:cubicBezTo>
                  <a:pt x="13222" y="4034"/>
                  <a:pt x="15188" y="3895"/>
                  <a:pt x="17157" y="3773"/>
                </a:cubicBezTo>
                <a:cubicBezTo>
                  <a:pt x="18322" y="3701"/>
                  <a:pt x="19486" y="3660"/>
                  <a:pt x="20652" y="3627"/>
                </a:cubicBezTo>
                <a:cubicBezTo>
                  <a:pt x="20748" y="3624"/>
                  <a:pt x="20880" y="3630"/>
                  <a:pt x="20952" y="3639"/>
                </a:cubicBezTo>
                <a:cubicBezTo>
                  <a:pt x="20947" y="3649"/>
                  <a:pt x="20944" y="3654"/>
                  <a:pt x="20940" y="3661"/>
                </a:cubicBezTo>
              </a:path>
              <a:path w="19695" h="14472">
                <a:moveTo>
                  <a:pt x="6083" y="10099"/>
                </a:moveTo>
                <a:cubicBezTo>
                  <a:pt x="6135" y="10106"/>
                  <a:pt x="6156" y="10140"/>
                  <a:pt x="6208" y="10144"/>
                </a:cubicBezTo>
                <a:cubicBezTo>
                  <a:pt x="6989" y="10205"/>
                  <a:pt x="7814" y="10025"/>
                  <a:pt x="8591" y="9967"/>
                </a:cubicBezTo>
                <a:cubicBezTo>
                  <a:pt x="9920" y="9868"/>
                  <a:pt x="11241" y="9750"/>
                  <a:pt x="12568" y="9625"/>
                </a:cubicBezTo>
                <a:cubicBezTo>
                  <a:pt x="14779" y="9416"/>
                  <a:pt x="16979" y="9116"/>
                  <a:pt x="19188" y="8902"/>
                </a:cubicBezTo>
                <a:cubicBezTo>
                  <a:pt x="20271" y="8797"/>
                  <a:pt x="21369" y="8802"/>
                  <a:pt x="22455" y="8871"/>
                </a:cubicBezTo>
                <a:cubicBezTo>
                  <a:pt x="22507" y="8874"/>
                  <a:pt x="22609" y="8866"/>
                  <a:pt x="22643" y="8870"/>
                </a:cubicBezTo>
                <a:cubicBezTo>
                  <a:pt x="22676" y="8874"/>
                  <a:pt x="22523" y="8880"/>
                  <a:pt x="22556" y="8882"/>
                </a:cubicBezTo>
              </a:path>
              <a:path w="19695" h="14472">
                <a:moveTo>
                  <a:pt x="25381" y="15607"/>
                </a:move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  <a:lnTo>
                  <a:pt x="25381" y="1560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Ink 6"/>
          <p:cNvSpPr/>
          <p:nvPr/>
        </p:nvSpPr>
        <p:spPr>
          <a:xfrm>
            <a:off x="3933720" y="2330280"/>
            <a:ext cx="839880" cy="274680"/>
          </a:xfrm>
          <a:custGeom>
            <a:avLst/>
            <a:gdLst/>
            <a:ahLst/>
            <a:rect l="l" t="t" r="r" b="b"/>
            <a:pathLst>
              <a:path w="2332" h="763">
                <a:moveTo>
                  <a:pt x="11196" y="6624"/>
                </a:moveTo>
                <a:cubicBezTo>
                  <a:pt x="11215" y="6632"/>
                  <a:pt x="11217" y="6650"/>
                  <a:pt x="11223" y="6673"/>
                </a:cubicBezTo>
                <a:cubicBezTo>
                  <a:pt x="11233" y="6713"/>
                  <a:pt x="11241" y="6755"/>
                  <a:pt x="11246" y="6796"/>
                </a:cubicBezTo>
                <a:cubicBezTo>
                  <a:pt x="11253" y="6855"/>
                  <a:pt x="11255" y="6915"/>
                  <a:pt x="11256" y="6974"/>
                </a:cubicBezTo>
                <a:cubicBezTo>
                  <a:pt x="11257" y="7013"/>
                  <a:pt x="11261" y="7056"/>
                  <a:pt x="11254" y="7095"/>
                </a:cubicBezTo>
                <a:cubicBezTo>
                  <a:pt x="11248" y="7129"/>
                  <a:pt x="11243" y="7087"/>
                  <a:pt x="11242" y="7082"/>
                </a:cubicBezTo>
              </a:path>
              <a:path w="2332" h="763">
                <a:moveTo>
                  <a:pt x="10954" y="6647"/>
                </a:moveTo>
                <a:cubicBezTo>
                  <a:pt x="10935" y="6660"/>
                  <a:pt x="10928" y="6660"/>
                  <a:pt x="10929" y="6675"/>
                </a:cubicBezTo>
                <a:cubicBezTo>
                  <a:pt x="10951" y="6675"/>
                  <a:pt x="10974" y="6676"/>
                  <a:pt x="10995" y="6671"/>
                </a:cubicBezTo>
                <a:cubicBezTo>
                  <a:pt x="11040" y="6661"/>
                  <a:pt x="11084" y="6650"/>
                  <a:pt x="11128" y="6635"/>
                </a:cubicBezTo>
                <a:cubicBezTo>
                  <a:pt x="11174" y="6619"/>
                  <a:pt x="11221" y="6610"/>
                  <a:pt x="11269" y="6605"/>
                </a:cubicBezTo>
              </a:path>
              <a:path w="2332" h="763">
                <a:moveTo>
                  <a:pt x="11218" y="7148"/>
                </a:moveTo>
                <a:cubicBezTo>
                  <a:pt x="11205" y="7171"/>
                  <a:pt x="11181" y="7207"/>
                  <a:pt x="11174" y="7235"/>
                </a:cubicBezTo>
                <a:cubicBezTo>
                  <a:pt x="11213" y="7228"/>
                  <a:pt x="11255" y="7210"/>
                  <a:pt x="11291" y="7192"/>
                </a:cubicBezTo>
                <a:cubicBezTo>
                  <a:pt x="11328" y="7173"/>
                  <a:pt x="11365" y="7156"/>
                  <a:pt x="11402" y="7137"/>
                </a:cubicBezTo>
              </a:path>
              <a:path w="2332" h="763">
                <a:moveTo>
                  <a:pt x="11562" y="7041"/>
                </a:moveTo>
                <a:cubicBezTo>
                  <a:pt x="11541" y="7010"/>
                  <a:pt x="11531" y="6994"/>
                  <a:pt x="11545" y="6959"/>
                </a:cubicBezTo>
                <a:cubicBezTo>
                  <a:pt x="11557" y="6929"/>
                  <a:pt x="11579" y="6907"/>
                  <a:pt x="11610" y="6897"/>
                </a:cubicBezTo>
                <a:cubicBezTo>
                  <a:pt x="11648" y="6885"/>
                  <a:pt x="11675" y="6896"/>
                  <a:pt x="11703" y="6922"/>
                </a:cubicBezTo>
                <a:cubicBezTo>
                  <a:pt x="11731" y="6948"/>
                  <a:pt x="11749" y="6983"/>
                  <a:pt x="11763" y="7019"/>
                </a:cubicBezTo>
                <a:cubicBezTo>
                  <a:pt x="11769" y="7036"/>
                  <a:pt x="11771" y="7051"/>
                  <a:pt x="11774" y="7068"/>
                </a:cubicBezTo>
                <a:cubicBezTo>
                  <a:pt x="11776" y="7033"/>
                  <a:pt x="11789" y="7003"/>
                  <a:pt x="11811" y="6976"/>
                </a:cubicBezTo>
                <a:cubicBezTo>
                  <a:pt x="11825" y="6959"/>
                  <a:pt x="11855" y="6938"/>
                  <a:pt x="11878" y="6957"/>
                </a:cubicBezTo>
                <a:cubicBezTo>
                  <a:pt x="11903" y="6978"/>
                  <a:pt x="11909" y="7023"/>
                  <a:pt x="11914" y="7053"/>
                </a:cubicBezTo>
                <a:cubicBezTo>
                  <a:pt x="11919" y="7082"/>
                  <a:pt x="11917" y="7103"/>
                  <a:pt x="11932" y="7127"/>
                </a:cubicBezTo>
                <a:cubicBezTo>
                  <a:pt x="11940" y="7107"/>
                  <a:pt x="11944" y="7096"/>
                  <a:pt x="11950" y="7073"/>
                </a:cubicBezTo>
              </a:path>
              <a:path w="2332" h="763">
                <a:moveTo>
                  <a:pt x="12093" y="7121"/>
                </a:moveTo>
                <a:cubicBezTo>
                  <a:pt x="12116" y="7103"/>
                  <a:pt x="12120" y="7106"/>
                  <a:pt x="12136" y="7071"/>
                </a:cubicBezTo>
                <a:cubicBezTo>
                  <a:pt x="12161" y="7017"/>
                  <a:pt x="12158" y="6950"/>
                  <a:pt x="12168" y="6893"/>
                </a:cubicBezTo>
                <a:cubicBezTo>
                  <a:pt x="12175" y="6851"/>
                  <a:pt x="12186" y="6827"/>
                  <a:pt x="12207" y="6793"/>
                </a:cubicBezTo>
                <a:cubicBezTo>
                  <a:pt x="12238" y="6815"/>
                  <a:pt x="12251" y="6830"/>
                  <a:pt x="12271" y="6873"/>
                </a:cubicBezTo>
                <a:cubicBezTo>
                  <a:pt x="12303" y="6943"/>
                  <a:pt x="12327" y="7017"/>
                  <a:pt x="12368" y="7079"/>
                </a:cubicBezTo>
                <a:cubicBezTo>
                  <a:pt x="12387" y="7033"/>
                  <a:pt x="12399" y="6982"/>
                  <a:pt x="12421" y="6938"/>
                </a:cubicBezTo>
                <a:cubicBezTo>
                  <a:pt x="12438" y="6903"/>
                  <a:pt x="12453" y="6897"/>
                  <a:pt x="12478" y="6879"/>
                </a:cubicBezTo>
                <a:cubicBezTo>
                  <a:pt x="12496" y="6905"/>
                  <a:pt x="12509" y="6925"/>
                  <a:pt x="12522" y="6959"/>
                </a:cubicBezTo>
                <a:cubicBezTo>
                  <a:pt x="12533" y="6988"/>
                  <a:pt x="12546" y="7040"/>
                  <a:pt x="12580" y="7050"/>
                </a:cubicBezTo>
                <a:cubicBezTo>
                  <a:pt x="12612" y="7059"/>
                  <a:pt x="12633" y="7018"/>
                  <a:pt x="12645" y="6997"/>
                </a:cubicBezTo>
                <a:cubicBezTo>
                  <a:pt x="12670" y="6953"/>
                  <a:pt x="12688" y="6903"/>
                  <a:pt x="12706" y="6855"/>
                </a:cubicBezTo>
                <a:cubicBezTo>
                  <a:pt x="12714" y="6832"/>
                  <a:pt x="12715" y="6827"/>
                  <a:pt x="12724" y="6815"/>
                </a:cubicBezTo>
                <a:cubicBezTo>
                  <a:pt x="12732" y="6849"/>
                  <a:pt x="12738" y="6890"/>
                  <a:pt x="12742" y="6929"/>
                </a:cubicBezTo>
                <a:cubicBezTo>
                  <a:pt x="12745" y="6963"/>
                  <a:pt x="12747" y="7035"/>
                  <a:pt x="12774" y="7062"/>
                </a:cubicBezTo>
                <a:cubicBezTo>
                  <a:pt x="12787" y="7074"/>
                  <a:pt x="12792" y="7078"/>
                  <a:pt x="12804" y="7079"/>
                </a:cubicBezTo>
                <a:cubicBezTo>
                  <a:pt x="12839" y="7053"/>
                  <a:pt x="12853" y="7036"/>
                  <a:pt x="12874" y="6992"/>
                </a:cubicBezTo>
                <a:cubicBezTo>
                  <a:pt x="12906" y="6926"/>
                  <a:pt x="12923" y="6832"/>
                  <a:pt x="12970" y="6775"/>
                </a:cubicBezTo>
                <a:cubicBezTo>
                  <a:pt x="12981" y="6759"/>
                  <a:pt x="12982" y="6752"/>
                  <a:pt x="12995" y="6755"/>
                </a:cubicBezTo>
                <a:cubicBezTo>
                  <a:pt x="13003" y="6802"/>
                  <a:pt x="13009" y="6845"/>
                  <a:pt x="13006" y="6894"/>
                </a:cubicBezTo>
                <a:cubicBezTo>
                  <a:pt x="13003" y="6946"/>
                  <a:pt x="12993" y="6998"/>
                  <a:pt x="12985" y="7050"/>
                </a:cubicBezTo>
                <a:cubicBezTo>
                  <a:pt x="12984" y="7055"/>
                  <a:pt x="12984" y="7059"/>
                  <a:pt x="12983" y="7064"/>
                </a:cubicBezTo>
                <a:cubicBezTo>
                  <a:pt x="13003" y="6998"/>
                  <a:pt x="13024" y="6934"/>
                  <a:pt x="13050" y="6869"/>
                </a:cubicBezTo>
                <a:cubicBezTo>
                  <a:pt x="13090" y="6769"/>
                  <a:pt x="13135" y="6667"/>
                  <a:pt x="13187" y="6573"/>
                </a:cubicBezTo>
                <a:cubicBezTo>
                  <a:pt x="13209" y="6534"/>
                  <a:pt x="13234" y="6506"/>
                  <a:pt x="13260" y="6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Ink 7"/>
          <p:cNvSpPr/>
          <p:nvPr/>
        </p:nvSpPr>
        <p:spPr>
          <a:xfrm>
            <a:off x="4976640" y="2281320"/>
            <a:ext cx="528840" cy="363600"/>
          </a:xfrm>
          <a:custGeom>
            <a:avLst/>
            <a:gdLst/>
            <a:ahLst/>
            <a:rect l="l" t="t" r="r" b="b"/>
            <a:pathLst>
              <a:path w="1467" h="1011">
                <a:moveTo>
                  <a:pt x="13841" y="6779"/>
                </a:moveTo>
                <a:cubicBezTo>
                  <a:pt x="13857" y="6695"/>
                  <a:pt x="13866" y="6616"/>
                  <a:pt x="13872" y="6532"/>
                </a:cubicBezTo>
                <a:cubicBezTo>
                  <a:pt x="13874" y="6511"/>
                  <a:pt x="13877" y="6494"/>
                  <a:pt x="13881" y="6474"/>
                </a:cubicBezTo>
                <a:cubicBezTo>
                  <a:pt x="13912" y="6489"/>
                  <a:pt x="13916" y="6496"/>
                  <a:pt x="13927" y="6538"/>
                </a:cubicBezTo>
                <a:cubicBezTo>
                  <a:pt x="13955" y="6646"/>
                  <a:pt x="13960" y="6762"/>
                  <a:pt x="13963" y="6873"/>
                </a:cubicBezTo>
                <a:cubicBezTo>
                  <a:pt x="13966" y="6993"/>
                  <a:pt x="13967" y="7114"/>
                  <a:pt x="13946" y="7232"/>
                </a:cubicBezTo>
                <a:cubicBezTo>
                  <a:pt x="13942" y="7255"/>
                  <a:pt x="13933" y="7332"/>
                  <a:pt x="13908" y="7346"/>
                </a:cubicBezTo>
                <a:cubicBezTo>
                  <a:pt x="13884" y="7346"/>
                  <a:pt x="13875" y="7339"/>
                  <a:pt x="13872" y="7311"/>
                </a:cubicBezTo>
              </a:path>
              <a:path w="1467" h="1011">
                <a:moveTo>
                  <a:pt x="13828" y="7130"/>
                </a:moveTo>
                <a:cubicBezTo>
                  <a:pt x="13829" y="7052"/>
                  <a:pt x="13821" y="7059"/>
                  <a:pt x="13879" y="7023"/>
                </a:cubicBezTo>
                <a:cubicBezTo>
                  <a:pt x="13934" y="6989"/>
                  <a:pt x="13990" y="6967"/>
                  <a:pt x="14041" y="6924"/>
                </a:cubicBezTo>
                <a:cubicBezTo>
                  <a:pt x="14119" y="6858"/>
                  <a:pt x="14178" y="6772"/>
                  <a:pt x="14224" y="6682"/>
                </a:cubicBezTo>
                <a:cubicBezTo>
                  <a:pt x="14270" y="6590"/>
                  <a:pt x="14310" y="6478"/>
                  <a:pt x="14311" y="6374"/>
                </a:cubicBezTo>
                <a:cubicBezTo>
                  <a:pt x="14311" y="6353"/>
                  <a:pt x="14312" y="6348"/>
                  <a:pt x="14308" y="6336"/>
                </a:cubicBezTo>
                <a:cubicBezTo>
                  <a:pt x="14287" y="6385"/>
                  <a:pt x="14273" y="6424"/>
                  <a:pt x="14266" y="6482"/>
                </a:cubicBezTo>
                <a:cubicBezTo>
                  <a:pt x="14255" y="6568"/>
                  <a:pt x="14253" y="6654"/>
                  <a:pt x="14253" y="6741"/>
                </a:cubicBezTo>
                <a:cubicBezTo>
                  <a:pt x="14253" y="6818"/>
                  <a:pt x="14235" y="6955"/>
                  <a:pt x="14281" y="7024"/>
                </a:cubicBezTo>
                <a:cubicBezTo>
                  <a:pt x="14310" y="7067"/>
                  <a:pt x="14359" y="7033"/>
                  <a:pt x="14391" y="7016"/>
                </a:cubicBezTo>
                <a:cubicBezTo>
                  <a:pt x="14430" y="6996"/>
                  <a:pt x="14462" y="6963"/>
                  <a:pt x="14498" y="6938"/>
                </a:cubicBezTo>
                <a:cubicBezTo>
                  <a:pt x="14511" y="6927"/>
                  <a:pt x="14513" y="6924"/>
                  <a:pt x="14524" y="6922"/>
                </a:cubicBezTo>
                <a:cubicBezTo>
                  <a:pt x="14521" y="6940"/>
                  <a:pt x="14518" y="6958"/>
                  <a:pt x="14515" y="6977"/>
                </a:cubicBezTo>
                <a:cubicBezTo>
                  <a:pt x="14513" y="6992"/>
                  <a:pt x="14511" y="7009"/>
                  <a:pt x="14509" y="7024"/>
                </a:cubicBezTo>
                <a:cubicBezTo>
                  <a:pt x="14534" y="7009"/>
                  <a:pt x="14553" y="7007"/>
                  <a:pt x="14578" y="6982"/>
                </a:cubicBezTo>
                <a:cubicBezTo>
                  <a:pt x="14616" y="6944"/>
                  <a:pt x="14710" y="6803"/>
                  <a:pt x="14681" y="6744"/>
                </a:cubicBezTo>
                <a:cubicBezTo>
                  <a:pt x="14665" y="6712"/>
                  <a:pt x="14641" y="6730"/>
                  <a:pt x="14618" y="6746"/>
                </a:cubicBezTo>
                <a:cubicBezTo>
                  <a:pt x="14606" y="6758"/>
                  <a:pt x="14602" y="6762"/>
                  <a:pt x="14596" y="6771"/>
                </a:cubicBezTo>
                <a:cubicBezTo>
                  <a:pt x="14597" y="6776"/>
                  <a:pt x="14598" y="6780"/>
                  <a:pt x="14599" y="6785"/>
                </a:cubicBezTo>
                <a:cubicBezTo>
                  <a:pt x="14635" y="6780"/>
                  <a:pt x="14658" y="6775"/>
                  <a:pt x="14694" y="6761"/>
                </a:cubicBezTo>
                <a:cubicBezTo>
                  <a:pt x="14726" y="6749"/>
                  <a:pt x="14795" y="6702"/>
                  <a:pt x="14831" y="6729"/>
                </a:cubicBezTo>
                <a:cubicBezTo>
                  <a:pt x="14864" y="6753"/>
                  <a:pt x="14863" y="6820"/>
                  <a:pt x="14869" y="6855"/>
                </a:cubicBezTo>
                <a:cubicBezTo>
                  <a:pt x="14876" y="6893"/>
                  <a:pt x="14876" y="6981"/>
                  <a:pt x="14920" y="6999"/>
                </a:cubicBezTo>
                <a:cubicBezTo>
                  <a:pt x="14956" y="7014"/>
                  <a:pt x="14983" y="6978"/>
                  <a:pt x="15006" y="6959"/>
                </a:cubicBezTo>
                <a:cubicBezTo>
                  <a:pt x="15037" y="6934"/>
                  <a:pt x="15057" y="6888"/>
                  <a:pt x="15090" y="6866"/>
                </a:cubicBezTo>
                <a:cubicBezTo>
                  <a:pt x="15114" y="6850"/>
                  <a:pt x="15113" y="6858"/>
                  <a:pt x="15133" y="6865"/>
                </a:cubicBezTo>
                <a:cubicBezTo>
                  <a:pt x="15156" y="6874"/>
                  <a:pt x="15162" y="6902"/>
                  <a:pt x="15196" y="6890"/>
                </a:cubicBezTo>
                <a:cubicBezTo>
                  <a:pt x="15250" y="6871"/>
                  <a:pt x="15315" y="6755"/>
                  <a:pt x="15291" y="6699"/>
                </a:cubicBezTo>
                <a:cubicBezTo>
                  <a:pt x="15268" y="6645"/>
                  <a:pt x="15234" y="6628"/>
                  <a:pt x="15174" y="6628"/>
                </a:cubicBezTo>
                <a:cubicBezTo>
                  <a:pt x="15158" y="6629"/>
                  <a:pt x="15141" y="6631"/>
                  <a:pt x="15125" y="6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Ink 8"/>
          <p:cNvSpPr/>
          <p:nvPr/>
        </p:nvSpPr>
        <p:spPr>
          <a:xfrm>
            <a:off x="6515280" y="1752480"/>
            <a:ext cx="388800" cy="1249560"/>
          </a:xfrm>
          <a:custGeom>
            <a:avLst/>
            <a:gdLst/>
            <a:ahLst/>
            <a:rect l="l" t="t" r="r" b="b"/>
            <a:pathLst>
              <a:path w="1078" h="3467">
                <a:moveTo>
                  <a:pt x="18209" y="6485"/>
                </a:moveTo>
                <a:cubicBezTo>
                  <a:pt x="18215" y="6470"/>
                  <a:pt x="18227" y="6448"/>
                  <a:pt x="18234" y="6430"/>
                </a:cubicBezTo>
                <a:cubicBezTo>
                  <a:pt x="18252" y="6385"/>
                  <a:pt x="18262" y="6341"/>
                  <a:pt x="18273" y="6294"/>
                </a:cubicBezTo>
                <a:cubicBezTo>
                  <a:pt x="18296" y="6198"/>
                  <a:pt x="18311" y="6101"/>
                  <a:pt x="18330" y="6004"/>
                </a:cubicBezTo>
                <a:cubicBezTo>
                  <a:pt x="18353" y="5884"/>
                  <a:pt x="18375" y="5765"/>
                  <a:pt x="18398" y="5645"/>
                </a:cubicBezTo>
                <a:cubicBezTo>
                  <a:pt x="18418" y="5539"/>
                  <a:pt x="18436" y="5432"/>
                  <a:pt x="18448" y="5324"/>
                </a:cubicBezTo>
                <a:cubicBezTo>
                  <a:pt x="18459" y="5226"/>
                  <a:pt x="18464" y="5128"/>
                  <a:pt x="18466" y="5030"/>
                </a:cubicBezTo>
                <a:cubicBezTo>
                  <a:pt x="18466" y="5012"/>
                  <a:pt x="18467" y="4993"/>
                  <a:pt x="18468" y="4975"/>
                </a:cubicBezTo>
                <a:cubicBezTo>
                  <a:pt x="18454" y="5008"/>
                  <a:pt x="18439" y="5041"/>
                  <a:pt x="18425" y="5074"/>
                </a:cubicBezTo>
                <a:cubicBezTo>
                  <a:pt x="18367" y="5210"/>
                  <a:pt x="18294" y="5440"/>
                  <a:pt x="18171" y="5532"/>
                </a:cubicBezTo>
                <a:cubicBezTo>
                  <a:pt x="18149" y="5546"/>
                  <a:pt x="18145" y="5551"/>
                  <a:pt x="18128" y="5551"/>
                </a:cubicBezTo>
                <a:cubicBezTo>
                  <a:pt x="18109" y="5504"/>
                  <a:pt x="18100" y="5466"/>
                  <a:pt x="18104" y="5407"/>
                </a:cubicBezTo>
                <a:cubicBezTo>
                  <a:pt x="18115" y="5251"/>
                  <a:pt x="18158" y="5077"/>
                  <a:pt x="18235" y="4940"/>
                </a:cubicBezTo>
                <a:cubicBezTo>
                  <a:pt x="18253" y="4909"/>
                  <a:pt x="18286" y="4859"/>
                  <a:pt x="18330" y="4870"/>
                </a:cubicBezTo>
                <a:cubicBezTo>
                  <a:pt x="18375" y="4882"/>
                  <a:pt x="18403" y="4934"/>
                  <a:pt x="18425" y="4971"/>
                </a:cubicBezTo>
                <a:cubicBezTo>
                  <a:pt x="18476" y="5058"/>
                  <a:pt x="18492" y="5194"/>
                  <a:pt x="18565" y="5266"/>
                </a:cubicBezTo>
                <a:cubicBezTo>
                  <a:pt x="18606" y="5306"/>
                  <a:pt x="18633" y="5288"/>
                  <a:pt x="18673" y="5273"/>
                </a:cubicBezTo>
              </a:path>
              <a:path w="1078" h="3467">
                <a:moveTo>
                  <a:pt x="18106" y="6945"/>
                </a:moveTo>
                <a:cubicBezTo>
                  <a:pt x="18104" y="6914"/>
                  <a:pt x="18101" y="6882"/>
                  <a:pt x="18099" y="6851"/>
                </a:cubicBezTo>
                <a:cubicBezTo>
                  <a:pt x="18125" y="6866"/>
                  <a:pt x="18136" y="6866"/>
                  <a:pt x="18162" y="6899"/>
                </a:cubicBezTo>
                <a:cubicBezTo>
                  <a:pt x="18265" y="7028"/>
                  <a:pt x="18341" y="7182"/>
                  <a:pt x="18425" y="7324"/>
                </a:cubicBezTo>
                <a:cubicBezTo>
                  <a:pt x="18492" y="7437"/>
                  <a:pt x="18560" y="7550"/>
                  <a:pt x="18634" y="7659"/>
                </a:cubicBezTo>
                <a:cubicBezTo>
                  <a:pt x="18696" y="7751"/>
                  <a:pt x="18762" y="7839"/>
                  <a:pt x="18835" y="7922"/>
                </a:cubicBezTo>
                <a:cubicBezTo>
                  <a:pt x="18880" y="7972"/>
                  <a:pt x="18930" y="8026"/>
                  <a:pt x="18986" y="8064"/>
                </a:cubicBezTo>
                <a:cubicBezTo>
                  <a:pt x="19022" y="8089"/>
                  <a:pt x="19026" y="8078"/>
                  <a:pt x="19050" y="8054"/>
                </a:cubicBezTo>
                <a:cubicBezTo>
                  <a:pt x="19054" y="8047"/>
                  <a:pt x="19057" y="8041"/>
                  <a:pt x="19061" y="8034"/>
                </a:cubicBezTo>
              </a:path>
              <a:path w="1078" h="3467">
                <a:moveTo>
                  <a:pt x="19012" y="7529"/>
                </a:moveTo>
                <a:cubicBezTo>
                  <a:pt x="19015" y="7563"/>
                  <a:pt x="19016" y="7592"/>
                  <a:pt x="19029" y="7625"/>
                </a:cubicBezTo>
                <a:cubicBezTo>
                  <a:pt x="19047" y="7670"/>
                  <a:pt x="19079" y="7712"/>
                  <a:pt x="19106" y="7752"/>
                </a:cubicBezTo>
                <a:cubicBezTo>
                  <a:pt x="19152" y="7820"/>
                  <a:pt x="19193" y="7890"/>
                  <a:pt x="19174" y="7977"/>
                </a:cubicBezTo>
                <a:cubicBezTo>
                  <a:pt x="19158" y="8051"/>
                  <a:pt x="19104" y="8118"/>
                  <a:pt x="19055" y="8174"/>
                </a:cubicBezTo>
                <a:cubicBezTo>
                  <a:pt x="19010" y="8226"/>
                  <a:pt x="18959" y="8272"/>
                  <a:pt x="18904" y="8313"/>
                </a:cubicBezTo>
                <a:cubicBezTo>
                  <a:pt x="18887" y="8325"/>
                  <a:pt x="18883" y="8328"/>
                  <a:pt x="18873" y="8336"/>
                </a:cubicBezTo>
                <a:cubicBezTo>
                  <a:pt x="18892" y="8335"/>
                  <a:pt x="18909" y="8332"/>
                  <a:pt x="18928" y="8327"/>
                </a:cubicBezTo>
                <a:cubicBezTo>
                  <a:pt x="18947" y="8322"/>
                  <a:pt x="18981" y="8333"/>
                  <a:pt x="18986" y="8314"/>
                </a:cubicBezTo>
                <a:cubicBezTo>
                  <a:pt x="18978" y="8306"/>
                  <a:pt x="18974" y="8302"/>
                  <a:pt x="18969" y="8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Ink 9"/>
          <p:cNvSpPr/>
          <p:nvPr/>
        </p:nvSpPr>
        <p:spPr>
          <a:xfrm>
            <a:off x="2017800" y="1955880"/>
            <a:ext cx="5521320" cy="314280"/>
          </a:xfrm>
          <a:custGeom>
            <a:avLst/>
            <a:gdLst/>
            <a:ahLst/>
            <a:rect l="l" t="t" r="r" b="b"/>
            <a:pathLst>
              <a:path w="15339" h="873">
                <a:moveTo>
                  <a:pt x="5610" y="6210"/>
                </a:moveTo>
                <a:cubicBezTo>
                  <a:pt x="5641" y="6211"/>
                  <a:pt x="5651" y="6215"/>
                  <a:pt x="5682" y="6216"/>
                </a:cubicBezTo>
                <a:cubicBezTo>
                  <a:pt x="6093" y="6228"/>
                  <a:pt x="6508" y="6213"/>
                  <a:pt x="6920" y="6215"/>
                </a:cubicBezTo>
                <a:cubicBezTo>
                  <a:pt x="8992" y="6223"/>
                  <a:pt x="11047" y="6334"/>
                  <a:pt x="13119" y="6197"/>
                </a:cubicBezTo>
                <a:cubicBezTo>
                  <a:pt x="15174" y="6061"/>
                  <a:pt x="17228" y="5893"/>
                  <a:pt x="19283" y="5749"/>
                </a:cubicBezTo>
                <a:cubicBezTo>
                  <a:pt x="19813" y="5712"/>
                  <a:pt x="20326" y="5614"/>
                  <a:pt x="20847" y="5536"/>
                </a:cubicBezTo>
                <a:cubicBezTo>
                  <a:pt x="20856" y="5536"/>
                  <a:pt x="20859" y="5536"/>
                  <a:pt x="20861" y="5544"/>
                </a:cubicBezTo>
              </a:path>
              <a:path w="15339" h="873">
                <a:moveTo>
                  <a:pt x="5943" y="6187"/>
                </a:moveTo>
                <a:cubicBezTo>
                  <a:pt x="5993" y="6166"/>
                  <a:pt x="6020" y="6139"/>
                  <a:pt x="6069" y="6109"/>
                </a:cubicBezTo>
                <a:cubicBezTo>
                  <a:pt x="6085" y="6106"/>
                  <a:pt x="6174" y="6106"/>
                  <a:pt x="6209" y="6101"/>
                </a:cubicBezTo>
                <a:cubicBezTo>
                  <a:pt x="6275" y="6091"/>
                  <a:pt x="6294" y="6080"/>
                  <a:pt x="6358" y="6060"/>
                </a:cubicBezTo>
                <a:cubicBezTo>
                  <a:pt x="6465" y="6027"/>
                  <a:pt x="6531" y="5934"/>
                  <a:pt x="6639" y="5964"/>
                </a:cubicBezTo>
                <a:cubicBezTo>
                  <a:pt x="6814" y="6012"/>
                  <a:pt x="6740" y="6171"/>
                  <a:pt x="6981" y="6094"/>
                </a:cubicBezTo>
                <a:cubicBezTo>
                  <a:pt x="7182" y="6029"/>
                  <a:pt x="7185" y="5899"/>
                  <a:pt x="7397" y="5972"/>
                </a:cubicBezTo>
                <a:cubicBezTo>
                  <a:pt x="7698" y="6076"/>
                  <a:pt x="7664" y="6157"/>
                  <a:pt x="8012" y="6080"/>
                </a:cubicBezTo>
                <a:cubicBezTo>
                  <a:pt x="8270" y="6023"/>
                  <a:pt x="8272" y="6090"/>
                  <a:pt x="8513" y="6140"/>
                </a:cubicBezTo>
                <a:cubicBezTo>
                  <a:pt x="8748" y="6189"/>
                  <a:pt x="8909" y="6038"/>
                  <a:pt x="9119" y="6064"/>
                </a:cubicBezTo>
                <a:cubicBezTo>
                  <a:pt x="9322" y="6089"/>
                  <a:pt x="9410" y="6289"/>
                  <a:pt x="9636" y="6291"/>
                </a:cubicBezTo>
                <a:cubicBezTo>
                  <a:pt x="9898" y="6294"/>
                  <a:pt x="10014" y="6126"/>
                  <a:pt x="10288" y="6195"/>
                </a:cubicBezTo>
                <a:cubicBezTo>
                  <a:pt x="10686" y="6296"/>
                  <a:pt x="10802" y="6190"/>
                  <a:pt x="11200" y="6145"/>
                </a:cubicBezTo>
                <a:cubicBezTo>
                  <a:pt x="11532" y="6107"/>
                  <a:pt x="11813" y="6317"/>
                  <a:pt x="12150" y="6292"/>
                </a:cubicBezTo>
                <a:cubicBezTo>
                  <a:pt x="12559" y="6262"/>
                  <a:pt x="12812" y="6164"/>
                  <a:pt x="13223" y="6245"/>
                </a:cubicBezTo>
                <a:cubicBezTo>
                  <a:pt x="13613" y="6322"/>
                  <a:pt x="13726" y="6221"/>
                  <a:pt x="14074" y="6082"/>
                </a:cubicBezTo>
                <a:cubicBezTo>
                  <a:pt x="14288" y="5996"/>
                  <a:pt x="14297" y="6064"/>
                  <a:pt x="14506" y="6081"/>
                </a:cubicBezTo>
                <a:cubicBezTo>
                  <a:pt x="14886" y="6113"/>
                  <a:pt x="15209" y="5928"/>
                  <a:pt x="15594" y="5930"/>
                </a:cubicBezTo>
                <a:cubicBezTo>
                  <a:pt x="16015" y="5932"/>
                  <a:pt x="16325" y="5652"/>
                  <a:pt x="16754" y="5681"/>
                </a:cubicBezTo>
                <a:cubicBezTo>
                  <a:pt x="17147" y="5707"/>
                  <a:pt x="17383" y="5632"/>
                  <a:pt x="17767" y="5546"/>
                </a:cubicBezTo>
                <a:cubicBezTo>
                  <a:pt x="18029" y="5487"/>
                  <a:pt x="18170" y="5567"/>
                  <a:pt x="18417" y="5611"/>
                </a:cubicBezTo>
                <a:cubicBezTo>
                  <a:pt x="18767" y="5674"/>
                  <a:pt x="19223" y="5544"/>
                  <a:pt x="19561" y="5543"/>
                </a:cubicBezTo>
                <a:cubicBezTo>
                  <a:pt x="19760" y="5542"/>
                  <a:pt x="19924" y="5422"/>
                  <a:pt x="20131" y="5441"/>
                </a:cubicBezTo>
                <a:cubicBezTo>
                  <a:pt x="20361" y="5462"/>
                  <a:pt x="20461" y="5536"/>
                  <a:pt x="20700" y="5492"/>
                </a:cubicBezTo>
                <a:cubicBezTo>
                  <a:pt x="20757" y="5481"/>
                  <a:pt x="20820" y="5448"/>
                  <a:pt x="20876" y="5432"/>
                </a:cubicBezTo>
                <a:cubicBezTo>
                  <a:pt x="20898" y="5481"/>
                  <a:pt x="20916" y="5528"/>
                  <a:pt x="20941" y="5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Ink 10"/>
          <p:cNvSpPr/>
          <p:nvPr/>
        </p:nvSpPr>
        <p:spPr>
          <a:xfrm>
            <a:off x="1797120" y="2711520"/>
            <a:ext cx="217440" cy="985680"/>
          </a:xfrm>
          <a:custGeom>
            <a:avLst/>
            <a:gdLst/>
            <a:ahLst/>
            <a:rect l="l" t="t" r="r" b="b"/>
            <a:pathLst>
              <a:path w="604" h="2739">
                <a:moveTo>
                  <a:pt x="5074" y="7783"/>
                </a:moveTo>
                <a:cubicBezTo>
                  <a:pt x="5094" y="7728"/>
                  <a:pt x="5114" y="7680"/>
                  <a:pt x="5134" y="7626"/>
                </a:cubicBezTo>
                <a:cubicBezTo>
                  <a:pt x="5146" y="7594"/>
                  <a:pt x="5158" y="7564"/>
                  <a:pt x="5170" y="7532"/>
                </a:cubicBezTo>
                <a:cubicBezTo>
                  <a:pt x="5176" y="7566"/>
                  <a:pt x="5184" y="7601"/>
                  <a:pt x="5188" y="7637"/>
                </a:cubicBezTo>
                <a:cubicBezTo>
                  <a:pt x="5211" y="7841"/>
                  <a:pt x="5194" y="8049"/>
                  <a:pt x="5187" y="8253"/>
                </a:cubicBezTo>
                <a:cubicBezTo>
                  <a:pt x="5175" y="8623"/>
                  <a:pt x="5189" y="8990"/>
                  <a:pt x="5242" y="9357"/>
                </a:cubicBezTo>
                <a:cubicBezTo>
                  <a:pt x="5264" y="9509"/>
                  <a:pt x="5292" y="9660"/>
                  <a:pt x="5320" y="9810"/>
                </a:cubicBezTo>
                <a:cubicBezTo>
                  <a:pt x="5336" y="9897"/>
                  <a:pt x="5354" y="9985"/>
                  <a:pt x="5355" y="10073"/>
                </a:cubicBezTo>
                <a:cubicBezTo>
                  <a:pt x="5356" y="10108"/>
                  <a:pt x="5346" y="10126"/>
                  <a:pt x="5340" y="10152"/>
                </a:cubicBezTo>
                <a:cubicBezTo>
                  <a:pt x="5312" y="10122"/>
                  <a:pt x="5290" y="10102"/>
                  <a:pt x="5270" y="10056"/>
                </a:cubicBezTo>
                <a:cubicBezTo>
                  <a:pt x="5265" y="10040"/>
                  <a:pt x="5259" y="10024"/>
                  <a:pt x="5254" y="10008"/>
                </a:cubicBezTo>
              </a:path>
              <a:path w="604" h="2739">
                <a:moveTo>
                  <a:pt x="4991" y="9468"/>
                </a:moveTo>
                <a:cubicBezTo>
                  <a:pt x="4999" y="9492"/>
                  <a:pt x="5012" y="9517"/>
                  <a:pt x="5019" y="9541"/>
                </a:cubicBezTo>
                <a:cubicBezTo>
                  <a:pt x="5044" y="9622"/>
                  <a:pt x="5058" y="9708"/>
                  <a:pt x="5074" y="9791"/>
                </a:cubicBezTo>
                <a:cubicBezTo>
                  <a:pt x="5100" y="9922"/>
                  <a:pt x="5103" y="10087"/>
                  <a:pt x="5162" y="10208"/>
                </a:cubicBezTo>
                <a:cubicBezTo>
                  <a:pt x="5182" y="10238"/>
                  <a:pt x="5182" y="10247"/>
                  <a:pt x="5204" y="10252"/>
                </a:cubicBezTo>
              </a:path>
              <a:path w="604" h="2739">
                <a:moveTo>
                  <a:pt x="5572" y="9492"/>
                </a:moveTo>
                <a:cubicBezTo>
                  <a:pt x="5629" y="9481"/>
                  <a:pt x="5574" y="9587"/>
                  <a:pt x="5561" y="9627"/>
                </a:cubicBezTo>
                <a:cubicBezTo>
                  <a:pt x="5520" y="9749"/>
                  <a:pt x="5478" y="9872"/>
                  <a:pt x="5428" y="9990"/>
                </a:cubicBezTo>
                <a:cubicBezTo>
                  <a:pt x="5388" y="10085"/>
                  <a:pt x="5348" y="10178"/>
                  <a:pt x="5303" y="10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Ink 11"/>
          <p:cNvSpPr/>
          <p:nvPr/>
        </p:nvSpPr>
        <p:spPr>
          <a:xfrm>
            <a:off x="2225520" y="3166920"/>
            <a:ext cx="84240" cy="601920"/>
          </a:xfrm>
          <a:custGeom>
            <a:avLst/>
            <a:gdLst/>
            <a:ahLst/>
            <a:rect l="l" t="t" r="r" b="b"/>
            <a:pathLst>
              <a:path w="233" h="1668">
                <a:moveTo>
                  <a:pt x="6182" y="8858"/>
                </a:moveTo>
                <a:cubicBezTo>
                  <a:pt x="6193" y="8835"/>
                  <a:pt x="6200" y="8820"/>
                  <a:pt x="6210" y="8799"/>
                </a:cubicBezTo>
                <a:cubicBezTo>
                  <a:pt x="6226" y="8856"/>
                  <a:pt x="6233" y="8914"/>
                  <a:pt x="6244" y="8973"/>
                </a:cubicBezTo>
                <a:cubicBezTo>
                  <a:pt x="6276" y="9150"/>
                  <a:pt x="6297" y="9328"/>
                  <a:pt x="6310" y="9508"/>
                </a:cubicBezTo>
                <a:cubicBezTo>
                  <a:pt x="6327" y="9732"/>
                  <a:pt x="6324" y="9959"/>
                  <a:pt x="6348" y="10182"/>
                </a:cubicBezTo>
                <a:cubicBezTo>
                  <a:pt x="6357" y="10265"/>
                  <a:pt x="6374" y="10353"/>
                  <a:pt x="6400" y="10433"/>
                </a:cubicBezTo>
                <a:cubicBezTo>
                  <a:pt x="6408" y="10450"/>
                  <a:pt x="6410" y="10455"/>
                  <a:pt x="6414" y="10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Ink 12"/>
          <p:cNvSpPr/>
          <p:nvPr/>
        </p:nvSpPr>
        <p:spPr>
          <a:xfrm>
            <a:off x="4659480" y="2935440"/>
            <a:ext cx="498240" cy="369720"/>
          </a:xfrm>
          <a:custGeom>
            <a:avLst/>
            <a:gdLst/>
            <a:ahLst/>
            <a:rect l="l" t="t" r="r" b="b"/>
            <a:pathLst>
              <a:path w="1384" h="1026">
                <a:moveTo>
                  <a:pt x="12964" y="8578"/>
                </a:moveTo>
                <a:cubicBezTo>
                  <a:pt x="12964" y="8599"/>
                  <a:pt x="12966" y="8593"/>
                  <a:pt x="12965" y="8614"/>
                </a:cubicBezTo>
                <a:cubicBezTo>
                  <a:pt x="12961" y="8676"/>
                  <a:pt x="12952" y="8737"/>
                  <a:pt x="12949" y="8799"/>
                </a:cubicBezTo>
                <a:cubicBezTo>
                  <a:pt x="12945" y="8883"/>
                  <a:pt x="12939" y="8969"/>
                  <a:pt x="12943" y="9054"/>
                </a:cubicBezTo>
                <a:cubicBezTo>
                  <a:pt x="12946" y="9114"/>
                  <a:pt x="12956" y="9136"/>
                  <a:pt x="12986" y="9178"/>
                </a:cubicBezTo>
                <a:cubicBezTo>
                  <a:pt x="13026" y="9155"/>
                  <a:pt x="13042" y="9144"/>
                  <a:pt x="13062" y="9090"/>
                </a:cubicBezTo>
                <a:cubicBezTo>
                  <a:pt x="13089" y="9016"/>
                  <a:pt x="13094" y="8939"/>
                  <a:pt x="13095" y="8861"/>
                </a:cubicBezTo>
                <a:cubicBezTo>
                  <a:pt x="13096" y="8802"/>
                  <a:pt x="13094" y="8723"/>
                  <a:pt x="13051" y="8676"/>
                </a:cubicBezTo>
                <a:cubicBezTo>
                  <a:pt x="13040" y="8664"/>
                  <a:pt x="13029" y="8666"/>
                  <a:pt x="13020" y="8658"/>
                </a:cubicBezTo>
                <a:cubicBezTo>
                  <a:pt x="13098" y="8658"/>
                  <a:pt x="13169" y="8653"/>
                  <a:pt x="13209" y="8733"/>
                </a:cubicBezTo>
                <a:cubicBezTo>
                  <a:pt x="13257" y="8828"/>
                  <a:pt x="13251" y="8950"/>
                  <a:pt x="13294" y="9042"/>
                </a:cubicBezTo>
                <a:cubicBezTo>
                  <a:pt x="13330" y="9024"/>
                  <a:pt x="13345" y="9019"/>
                  <a:pt x="13376" y="8983"/>
                </a:cubicBezTo>
                <a:cubicBezTo>
                  <a:pt x="13432" y="8918"/>
                  <a:pt x="13473" y="8838"/>
                  <a:pt x="13519" y="8766"/>
                </a:cubicBezTo>
                <a:cubicBezTo>
                  <a:pt x="13521" y="8787"/>
                  <a:pt x="13521" y="8815"/>
                  <a:pt x="13525" y="8837"/>
                </a:cubicBezTo>
                <a:cubicBezTo>
                  <a:pt x="13533" y="8879"/>
                  <a:pt x="13549" y="8934"/>
                  <a:pt x="13599" y="8938"/>
                </a:cubicBezTo>
                <a:cubicBezTo>
                  <a:pt x="13642" y="8941"/>
                  <a:pt x="13662" y="8908"/>
                  <a:pt x="13682" y="8875"/>
                </a:cubicBezTo>
                <a:cubicBezTo>
                  <a:pt x="13716" y="8820"/>
                  <a:pt x="13727" y="8747"/>
                  <a:pt x="13733" y="8683"/>
                </a:cubicBezTo>
                <a:cubicBezTo>
                  <a:pt x="13747" y="8524"/>
                  <a:pt x="13731" y="8361"/>
                  <a:pt x="13713" y="8203"/>
                </a:cubicBezTo>
                <a:cubicBezTo>
                  <a:pt x="13710" y="8176"/>
                  <a:pt x="13709" y="8170"/>
                  <a:pt x="13707" y="8153"/>
                </a:cubicBezTo>
                <a:cubicBezTo>
                  <a:pt x="13705" y="8210"/>
                  <a:pt x="13703" y="8266"/>
                  <a:pt x="13706" y="8323"/>
                </a:cubicBezTo>
                <a:cubicBezTo>
                  <a:pt x="13713" y="8479"/>
                  <a:pt x="13701" y="8750"/>
                  <a:pt x="13793" y="8886"/>
                </a:cubicBezTo>
                <a:cubicBezTo>
                  <a:pt x="13812" y="8914"/>
                  <a:pt x="13832" y="8935"/>
                  <a:pt x="13869" y="8916"/>
                </a:cubicBezTo>
                <a:cubicBezTo>
                  <a:pt x="13946" y="8878"/>
                  <a:pt x="13991" y="8772"/>
                  <a:pt x="14028" y="8701"/>
                </a:cubicBezTo>
                <a:cubicBezTo>
                  <a:pt x="14027" y="8726"/>
                  <a:pt x="14023" y="8751"/>
                  <a:pt x="14024" y="8777"/>
                </a:cubicBezTo>
                <a:cubicBezTo>
                  <a:pt x="14026" y="8827"/>
                  <a:pt x="14038" y="8824"/>
                  <a:pt x="14062" y="8856"/>
                </a:cubicBezTo>
                <a:cubicBezTo>
                  <a:pt x="14087" y="8837"/>
                  <a:pt x="14105" y="8836"/>
                  <a:pt x="14129" y="8803"/>
                </a:cubicBezTo>
                <a:cubicBezTo>
                  <a:pt x="14150" y="8774"/>
                  <a:pt x="14163" y="8740"/>
                  <a:pt x="14185" y="8712"/>
                </a:cubicBezTo>
                <a:cubicBezTo>
                  <a:pt x="14189" y="8710"/>
                  <a:pt x="14192" y="8708"/>
                  <a:pt x="14196" y="8706"/>
                </a:cubicBezTo>
                <a:cubicBezTo>
                  <a:pt x="14207" y="8737"/>
                  <a:pt x="14220" y="8767"/>
                  <a:pt x="14225" y="8806"/>
                </a:cubicBezTo>
                <a:cubicBezTo>
                  <a:pt x="14233" y="8867"/>
                  <a:pt x="14238" y="8929"/>
                  <a:pt x="14241" y="8990"/>
                </a:cubicBezTo>
                <a:cubicBezTo>
                  <a:pt x="14241" y="9014"/>
                  <a:pt x="14241" y="9020"/>
                  <a:pt x="14242" y="9035"/>
                </a:cubicBezTo>
                <a:cubicBezTo>
                  <a:pt x="14248" y="8976"/>
                  <a:pt x="14256" y="8918"/>
                  <a:pt x="14263" y="8860"/>
                </a:cubicBezTo>
                <a:cubicBezTo>
                  <a:pt x="14278" y="8743"/>
                  <a:pt x="14298" y="8627"/>
                  <a:pt x="14313" y="8510"/>
                </a:cubicBezTo>
                <a:cubicBezTo>
                  <a:pt x="14321" y="8450"/>
                  <a:pt x="14325" y="8393"/>
                  <a:pt x="14326" y="8333"/>
                </a:cubicBezTo>
              </a:path>
              <a:path w="1384" h="1026">
                <a:moveTo>
                  <a:pt x="13923" y="8542"/>
                </a:moveTo>
                <a:cubicBezTo>
                  <a:pt x="13868" y="8572"/>
                  <a:pt x="13861" y="8577"/>
                  <a:pt x="13829" y="8592"/>
                </a:cubicBezTo>
                <a:cubicBezTo>
                  <a:pt x="13853" y="8547"/>
                  <a:pt x="13898" y="8509"/>
                  <a:pt x="13937" y="8476"/>
                </a:cubicBezTo>
                <a:cubicBezTo>
                  <a:pt x="13990" y="8431"/>
                  <a:pt x="14043" y="8390"/>
                  <a:pt x="14099" y="8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Ink 13"/>
          <p:cNvSpPr/>
          <p:nvPr/>
        </p:nvSpPr>
        <p:spPr>
          <a:xfrm>
            <a:off x="5505480" y="2886120"/>
            <a:ext cx="534960" cy="426960"/>
          </a:xfrm>
          <a:custGeom>
            <a:avLst/>
            <a:gdLst/>
            <a:ahLst/>
            <a:rect l="l" t="t" r="r" b="b"/>
            <a:pathLst>
              <a:path w="1483" h="1184">
                <a:moveTo>
                  <a:pt x="15479" y="8282"/>
                </a:moveTo>
                <a:cubicBezTo>
                  <a:pt x="15495" y="8245"/>
                  <a:pt x="15527" y="8188"/>
                  <a:pt x="15516" y="8143"/>
                </a:cubicBezTo>
                <a:cubicBezTo>
                  <a:pt x="15510" y="8119"/>
                  <a:pt x="15501" y="8129"/>
                  <a:pt x="15493" y="8120"/>
                </a:cubicBezTo>
                <a:cubicBezTo>
                  <a:pt x="15484" y="8206"/>
                  <a:pt x="15486" y="8293"/>
                  <a:pt x="15487" y="8380"/>
                </a:cubicBezTo>
                <a:cubicBezTo>
                  <a:pt x="15489" y="8492"/>
                  <a:pt x="15491" y="8605"/>
                  <a:pt x="15491" y="8717"/>
                </a:cubicBezTo>
                <a:cubicBezTo>
                  <a:pt x="15491" y="8817"/>
                  <a:pt x="15544" y="9115"/>
                  <a:pt x="15488" y="9202"/>
                </a:cubicBezTo>
                <a:cubicBezTo>
                  <a:pt x="15486" y="9197"/>
                  <a:pt x="15484" y="9191"/>
                  <a:pt x="15482" y="9186"/>
                </a:cubicBezTo>
              </a:path>
              <a:path w="1483" h="1184">
                <a:moveTo>
                  <a:pt x="15300" y="8832"/>
                </a:moveTo>
                <a:cubicBezTo>
                  <a:pt x="15319" y="8792"/>
                  <a:pt x="15333" y="8787"/>
                  <a:pt x="15379" y="8750"/>
                </a:cubicBezTo>
                <a:cubicBezTo>
                  <a:pt x="15456" y="8687"/>
                  <a:pt x="15524" y="8619"/>
                  <a:pt x="15590" y="8545"/>
                </a:cubicBezTo>
                <a:cubicBezTo>
                  <a:pt x="15670" y="8455"/>
                  <a:pt x="15727" y="8359"/>
                  <a:pt x="15781" y="8252"/>
                </a:cubicBezTo>
                <a:cubicBezTo>
                  <a:pt x="15813" y="8189"/>
                  <a:pt x="15842" y="8124"/>
                  <a:pt x="15861" y="8056"/>
                </a:cubicBezTo>
                <a:cubicBezTo>
                  <a:pt x="15865" y="8041"/>
                  <a:pt x="15863" y="8042"/>
                  <a:pt x="15867" y="8027"/>
                </a:cubicBezTo>
                <a:cubicBezTo>
                  <a:pt x="15862" y="8056"/>
                  <a:pt x="15857" y="8084"/>
                  <a:pt x="15853" y="8114"/>
                </a:cubicBezTo>
                <a:cubicBezTo>
                  <a:pt x="15844" y="8188"/>
                  <a:pt x="15845" y="8264"/>
                  <a:pt x="15845" y="8338"/>
                </a:cubicBezTo>
                <a:cubicBezTo>
                  <a:pt x="15844" y="8446"/>
                  <a:pt x="15822" y="8648"/>
                  <a:pt x="15901" y="8738"/>
                </a:cubicBezTo>
                <a:cubicBezTo>
                  <a:pt x="15931" y="8772"/>
                  <a:pt x="15971" y="8766"/>
                  <a:pt x="16007" y="8745"/>
                </a:cubicBezTo>
                <a:cubicBezTo>
                  <a:pt x="16077" y="8704"/>
                  <a:pt x="16121" y="8617"/>
                  <a:pt x="16161" y="8550"/>
                </a:cubicBezTo>
                <a:cubicBezTo>
                  <a:pt x="16159" y="8577"/>
                  <a:pt x="16157" y="8604"/>
                  <a:pt x="16155" y="8631"/>
                </a:cubicBezTo>
                <a:cubicBezTo>
                  <a:pt x="16153" y="8659"/>
                  <a:pt x="16150" y="8684"/>
                  <a:pt x="16161" y="8710"/>
                </a:cubicBezTo>
                <a:cubicBezTo>
                  <a:pt x="16167" y="8713"/>
                  <a:pt x="16173" y="8716"/>
                  <a:pt x="16179" y="8719"/>
                </a:cubicBezTo>
                <a:cubicBezTo>
                  <a:pt x="16202" y="8697"/>
                  <a:pt x="16218" y="8689"/>
                  <a:pt x="16236" y="8651"/>
                </a:cubicBezTo>
                <a:cubicBezTo>
                  <a:pt x="16259" y="8603"/>
                  <a:pt x="16270" y="8545"/>
                  <a:pt x="16266" y="8492"/>
                </a:cubicBezTo>
                <a:cubicBezTo>
                  <a:pt x="16262" y="8440"/>
                  <a:pt x="16259" y="8421"/>
                  <a:pt x="16215" y="8396"/>
                </a:cubicBezTo>
                <a:cubicBezTo>
                  <a:pt x="16202" y="8396"/>
                  <a:pt x="16199" y="8396"/>
                  <a:pt x="16191" y="8400"/>
                </a:cubicBezTo>
                <a:cubicBezTo>
                  <a:pt x="16205" y="8421"/>
                  <a:pt x="16170" y="8424"/>
                  <a:pt x="16217" y="8434"/>
                </a:cubicBezTo>
                <a:cubicBezTo>
                  <a:pt x="16265" y="8444"/>
                  <a:pt x="16319" y="8423"/>
                  <a:pt x="16366" y="8417"/>
                </a:cubicBezTo>
                <a:cubicBezTo>
                  <a:pt x="16410" y="8412"/>
                  <a:pt x="16431" y="8408"/>
                  <a:pt x="16443" y="8456"/>
                </a:cubicBezTo>
                <a:cubicBezTo>
                  <a:pt x="16457" y="8514"/>
                  <a:pt x="16433" y="8583"/>
                  <a:pt x="16468" y="8635"/>
                </a:cubicBezTo>
                <a:cubicBezTo>
                  <a:pt x="16473" y="8637"/>
                  <a:pt x="16478" y="8639"/>
                  <a:pt x="16483" y="8641"/>
                </a:cubicBezTo>
                <a:cubicBezTo>
                  <a:pt x="16523" y="8624"/>
                  <a:pt x="16550" y="8604"/>
                  <a:pt x="16586" y="8575"/>
                </a:cubicBezTo>
                <a:cubicBezTo>
                  <a:pt x="16607" y="8558"/>
                  <a:pt x="16628" y="8533"/>
                  <a:pt x="16657" y="8532"/>
                </a:cubicBezTo>
                <a:cubicBezTo>
                  <a:pt x="16681" y="8531"/>
                  <a:pt x="16686" y="8573"/>
                  <a:pt x="16706" y="8571"/>
                </a:cubicBezTo>
                <a:cubicBezTo>
                  <a:pt x="16742" y="8567"/>
                  <a:pt x="16749" y="8548"/>
                  <a:pt x="16762" y="8513"/>
                </a:cubicBezTo>
                <a:cubicBezTo>
                  <a:pt x="16783" y="8456"/>
                  <a:pt x="16783" y="8383"/>
                  <a:pt x="16762" y="8327"/>
                </a:cubicBezTo>
                <a:cubicBezTo>
                  <a:pt x="16743" y="8277"/>
                  <a:pt x="16715" y="8260"/>
                  <a:pt x="16673" y="8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Ink 14"/>
          <p:cNvSpPr/>
          <p:nvPr/>
        </p:nvSpPr>
        <p:spPr>
          <a:xfrm>
            <a:off x="2031840" y="2525760"/>
            <a:ext cx="5751720" cy="352440"/>
          </a:xfrm>
          <a:custGeom>
            <a:avLst/>
            <a:gdLst/>
            <a:ahLst/>
            <a:rect l="l" t="t" r="r" b="b"/>
            <a:pathLst>
              <a:path w="15978" h="976">
                <a:moveTo>
                  <a:pt x="6040" y="7992"/>
                </a:moveTo>
                <a:cubicBezTo>
                  <a:pt x="5990" y="7965"/>
                  <a:pt x="5979" y="7962"/>
                  <a:pt x="5954" y="7938"/>
                </a:cubicBezTo>
              </a:path>
              <a:path w="15978" h="976">
                <a:moveTo>
                  <a:pt x="5684" y="7701"/>
                </a:moveTo>
                <a:cubicBezTo>
                  <a:pt x="5704" y="7705"/>
                  <a:pt x="5642" y="7702"/>
                  <a:pt x="5662" y="7706"/>
                </a:cubicBezTo>
                <a:cubicBezTo>
                  <a:pt x="5930" y="7764"/>
                  <a:pt x="6177" y="7766"/>
                  <a:pt x="6458" y="7755"/>
                </a:cubicBezTo>
                <a:cubicBezTo>
                  <a:pt x="8390" y="7679"/>
                  <a:pt x="10321" y="7640"/>
                  <a:pt x="12252" y="7571"/>
                </a:cubicBezTo>
                <a:cubicBezTo>
                  <a:pt x="15108" y="7469"/>
                  <a:pt x="18877" y="7765"/>
                  <a:pt x="21621" y="7058"/>
                </a:cubicBezTo>
                <a:cubicBezTo>
                  <a:pt x="21636" y="7054"/>
                  <a:pt x="21589" y="7020"/>
                  <a:pt x="21604" y="7017"/>
                </a:cubicBezTo>
              </a:path>
              <a:path w="15978" h="976">
                <a:moveTo>
                  <a:pt x="5778" y="7939"/>
                </a:moveTo>
                <a:cubicBezTo>
                  <a:pt x="5803" y="7936"/>
                  <a:pt x="5735" y="7910"/>
                  <a:pt x="5760" y="7908"/>
                </a:cubicBezTo>
                <a:cubicBezTo>
                  <a:pt x="5931" y="7894"/>
                  <a:pt x="6094" y="7987"/>
                  <a:pt x="6269" y="7975"/>
                </a:cubicBezTo>
                <a:cubicBezTo>
                  <a:pt x="6557" y="7955"/>
                  <a:pt x="6738" y="7867"/>
                  <a:pt x="7028" y="7880"/>
                </a:cubicBezTo>
                <a:cubicBezTo>
                  <a:pt x="7473" y="7900"/>
                  <a:pt x="7829" y="7760"/>
                  <a:pt x="8277" y="7821"/>
                </a:cubicBezTo>
                <a:cubicBezTo>
                  <a:pt x="8781" y="7890"/>
                  <a:pt x="9183" y="7705"/>
                  <a:pt x="9690" y="7843"/>
                </a:cubicBezTo>
                <a:cubicBezTo>
                  <a:pt x="10275" y="8002"/>
                  <a:pt x="10630" y="7758"/>
                  <a:pt x="11191" y="7667"/>
                </a:cubicBezTo>
                <a:cubicBezTo>
                  <a:pt x="11543" y="7610"/>
                  <a:pt x="11749" y="7796"/>
                  <a:pt x="12070" y="7882"/>
                </a:cubicBezTo>
                <a:cubicBezTo>
                  <a:pt x="12552" y="8011"/>
                  <a:pt x="12895" y="7763"/>
                  <a:pt x="13354" y="7688"/>
                </a:cubicBezTo>
                <a:cubicBezTo>
                  <a:pt x="13833" y="7610"/>
                  <a:pt x="14260" y="7884"/>
                  <a:pt x="14747" y="7818"/>
                </a:cubicBezTo>
                <a:cubicBezTo>
                  <a:pt x="15305" y="7742"/>
                  <a:pt x="15595" y="7457"/>
                  <a:pt x="16176" y="7608"/>
                </a:cubicBezTo>
                <a:cubicBezTo>
                  <a:pt x="16569" y="7710"/>
                  <a:pt x="16726" y="7663"/>
                  <a:pt x="17097" y="7508"/>
                </a:cubicBezTo>
                <a:cubicBezTo>
                  <a:pt x="17472" y="7351"/>
                  <a:pt x="17638" y="7407"/>
                  <a:pt x="18017" y="7463"/>
                </a:cubicBezTo>
                <a:cubicBezTo>
                  <a:pt x="18524" y="7538"/>
                  <a:pt x="18930" y="7208"/>
                  <a:pt x="19425" y="7426"/>
                </a:cubicBezTo>
                <a:cubicBezTo>
                  <a:pt x="19747" y="7568"/>
                  <a:pt x="19816" y="7652"/>
                  <a:pt x="20158" y="7532"/>
                </a:cubicBezTo>
                <a:cubicBezTo>
                  <a:pt x="20436" y="7434"/>
                  <a:pt x="20504" y="7492"/>
                  <a:pt x="20755" y="7476"/>
                </a:cubicBezTo>
                <a:cubicBezTo>
                  <a:pt x="20977" y="7462"/>
                  <a:pt x="20948" y="7419"/>
                  <a:pt x="21117" y="7273"/>
                </a:cubicBezTo>
                <a:cubicBezTo>
                  <a:pt x="21165" y="7232"/>
                  <a:pt x="21235" y="7148"/>
                  <a:pt x="21274" y="7107"/>
                </a:cubicBezTo>
                <a:cubicBezTo>
                  <a:pt x="21301" y="7180"/>
                  <a:pt x="21331" y="7257"/>
                  <a:pt x="21358" y="7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Ink 15"/>
          <p:cNvSpPr/>
          <p:nvPr/>
        </p:nvSpPr>
        <p:spPr>
          <a:xfrm>
            <a:off x="7497720" y="968400"/>
            <a:ext cx="217440" cy="220680"/>
          </a:xfrm>
          <a:custGeom>
            <a:avLst/>
            <a:gdLst/>
            <a:ahLst/>
            <a:rect l="l" t="t" r="r" b="b"/>
            <a:pathLst>
              <a:path w="605" h="610">
                <a:moveTo>
                  <a:pt x="20827" y="3278"/>
                </a:moveTo>
                <a:cubicBezTo>
                  <a:pt x="20840" y="3273"/>
                  <a:pt x="20838" y="3263"/>
                  <a:pt x="20864" y="3273"/>
                </a:cubicBezTo>
                <a:cubicBezTo>
                  <a:pt x="20892" y="3283"/>
                  <a:pt x="20909" y="3299"/>
                  <a:pt x="20941" y="3301"/>
                </a:cubicBezTo>
                <a:cubicBezTo>
                  <a:pt x="21001" y="3305"/>
                  <a:pt x="21028" y="3245"/>
                  <a:pt x="21056" y="3202"/>
                </a:cubicBezTo>
                <a:cubicBezTo>
                  <a:pt x="21113" y="3116"/>
                  <a:pt x="21158" y="3022"/>
                  <a:pt x="21208" y="2932"/>
                </a:cubicBezTo>
                <a:cubicBezTo>
                  <a:pt x="21247" y="2862"/>
                  <a:pt x="21296" y="2770"/>
                  <a:pt x="21365" y="2722"/>
                </a:cubicBezTo>
                <a:cubicBezTo>
                  <a:pt x="21400" y="2707"/>
                  <a:pt x="21410" y="2703"/>
                  <a:pt x="21431" y="2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Ink 16"/>
          <p:cNvSpPr/>
          <p:nvPr/>
        </p:nvSpPr>
        <p:spPr>
          <a:xfrm>
            <a:off x="7459560" y="3209760"/>
            <a:ext cx="1338480" cy="3648240"/>
          </a:xfrm>
          <a:custGeom>
            <a:avLst/>
            <a:gdLst/>
            <a:ahLst/>
            <a:rect l="l" t="t" r="r" b="b"/>
            <a:pathLst>
              <a:path w="3719" h="10133">
                <a:moveTo>
                  <a:pt x="22599" y="8916"/>
                </a:moveTo>
                <a:cubicBezTo>
                  <a:pt x="22602" y="8939"/>
                  <a:pt x="22607" y="8976"/>
                  <a:pt x="22611" y="9004"/>
                </a:cubicBezTo>
                <a:cubicBezTo>
                  <a:pt x="22650" y="9249"/>
                  <a:pt x="22645" y="9498"/>
                  <a:pt x="22671" y="9745"/>
                </a:cubicBezTo>
                <a:cubicBezTo>
                  <a:pt x="22788" y="10852"/>
                  <a:pt x="22838" y="11967"/>
                  <a:pt x="22850" y="13080"/>
                </a:cubicBezTo>
                <a:cubicBezTo>
                  <a:pt x="22857" y="13715"/>
                  <a:pt x="22828" y="14346"/>
                  <a:pt x="22890" y="14979"/>
                </a:cubicBezTo>
                <a:cubicBezTo>
                  <a:pt x="22896" y="15042"/>
                  <a:pt x="22936" y="15167"/>
                  <a:pt x="22920" y="15219"/>
                </a:cubicBezTo>
                <a:cubicBezTo>
                  <a:pt x="22916" y="15230"/>
                  <a:pt x="22887" y="15238"/>
                  <a:pt x="22880" y="15257"/>
                </a:cubicBezTo>
                <a:cubicBezTo>
                  <a:pt x="22874" y="15272"/>
                  <a:pt x="22862" y="15290"/>
                  <a:pt x="22854" y="15305"/>
                </a:cubicBezTo>
              </a:path>
              <a:path w="3719" h="10133">
                <a:moveTo>
                  <a:pt x="21541" y="10942"/>
                </a:moveTo>
                <a:cubicBezTo>
                  <a:pt x="21553" y="10955"/>
                  <a:pt x="21518" y="10944"/>
                  <a:pt x="21534" y="10949"/>
                </a:cubicBezTo>
                <a:cubicBezTo>
                  <a:pt x="21744" y="11019"/>
                  <a:pt x="22003" y="11004"/>
                  <a:pt x="22220" y="11012"/>
                </a:cubicBezTo>
                <a:cubicBezTo>
                  <a:pt x="22723" y="11030"/>
                  <a:pt x="23232" y="11062"/>
                  <a:pt x="23735" y="11042"/>
                </a:cubicBezTo>
                <a:cubicBezTo>
                  <a:pt x="23782" y="11040"/>
                  <a:pt x="23906" y="11047"/>
                  <a:pt x="23941" y="11013"/>
                </a:cubicBezTo>
                <a:cubicBezTo>
                  <a:pt x="23937" y="11009"/>
                  <a:pt x="23933" y="11006"/>
                  <a:pt x="23929" y="11002"/>
                </a:cubicBezTo>
              </a:path>
              <a:path w="3719" h="10133">
                <a:moveTo>
                  <a:pt x="20720" y="12609"/>
                </a:moveTo>
                <a:cubicBezTo>
                  <a:pt x="20774" y="12580"/>
                  <a:pt x="20785" y="12570"/>
                  <a:pt x="20851" y="12563"/>
                </a:cubicBezTo>
                <a:cubicBezTo>
                  <a:pt x="21194" y="12525"/>
                  <a:pt x="21547" y="12532"/>
                  <a:pt x="21892" y="12513"/>
                </a:cubicBezTo>
                <a:cubicBezTo>
                  <a:pt x="22167" y="12498"/>
                  <a:pt x="22441" y="12476"/>
                  <a:pt x="22715" y="12457"/>
                </a:cubicBezTo>
                <a:cubicBezTo>
                  <a:pt x="22974" y="12439"/>
                  <a:pt x="23233" y="12422"/>
                  <a:pt x="23493" y="12408"/>
                </a:cubicBezTo>
                <a:cubicBezTo>
                  <a:pt x="23700" y="12397"/>
                  <a:pt x="23908" y="12389"/>
                  <a:pt x="24116" y="12389"/>
                </a:cubicBezTo>
                <a:cubicBezTo>
                  <a:pt x="24171" y="12389"/>
                  <a:pt x="24186" y="12388"/>
                  <a:pt x="24221" y="12395"/>
                </a:cubicBezTo>
              </a:path>
              <a:path w="3719" h="10133">
                <a:moveTo>
                  <a:pt x="21361" y="13395"/>
                </a:moveTo>
                <a:cubicBezTo>
                  <a:pt x="21398" y="13394"/>
                  <a:pt x="21429" y="13394"/>
                  <a:pt x="21467" y="13387"/>
                </a:cubicBezTo>
                <a:cubicBezTo>
                  <a:pt x="21876" y="13314"/>
                  <a:pt x="22289" y="13300"/>
                  <a:pt x="22704" y="13280"/>
                </a:cubicBezTo>
                <a:cubicBezTo>
                  <a:pt x="23049" y="13263"/>
                  <a:pt x="23393" y="13234"/>
                  <a:pt x="23738" y="13216"/>
                </a:cubicBezTo>
                <a:cubicBezTo>
                  <a:pt x="23778" y="13214"/>
                  <a:pt x="23816" y="13213"/>
                  <a:pt x="23856" y="13210"/>
                </a:cubicBezTo>
              </a:path>
              <a:path w="3719" h="10133">
                <a:moveTo>
                  <a:pt x="20827" y="14061"/>
                </a:moveTo>
                <a:cubicBezTo>
                  <a:pt x="20829" y="14058"/>
                  <a:pt x="20796" y="14050"/>
                  <a:pt x="20838" y="14028"/>
                </a:cubicBezTo>
                <a:cubicBezTo>
                  <a:pt x="20912" y="13990"/>
                  <a:pt x="21040" y="14013"/>
                  <a:pt x="21119" y="14013"/>
                </a:cubicBezTo>
                <a:cubicBezTo>
                  <a:pt x="21539" y="14013"/>
                  <a:pt x="21954" y="14004"/>
                  <a:pt x="22373" y="13980"/>
                </a:cubicBezTo>
                <a:cubicBezTo>
                  <a:pt x="22645" y="13964"/>
                  <a:pt x="22917" y="13943"/>
                  <a:pt x="23189" y="13930"/>
                </a:cubicBezTo>
                <a:cubicBezTo>
                  <a:pt x="23606" y="13910"/>
                  <a:pt x="24021" y="13910"/>
                  <a:pt x="24438" y="13911"/>
                </a:cubicBezTo>
              </a:path>
              <a:path w="3719" h="10133">
                <a:moveTo>
                  <a:pt x="21688" y="18006"/>
                </a:moveTo>
                <a:cubicBezTo>
                  <a:pt x="21724" y="17960"/>
                  <a:pt x="21732" y="17942"/>
                  <a:pt x="21773" y="17969"/>
                </a:cubicBezTo>
                <a:cubicBezTo>
                  <a:pt x="21788" y="18079"/>
                  <a:pt x="21800" y="18188"/>
                  <a:pt x="21805" y="18299"/>
                </a:cubicBezTo>
                <a:cubicBezTo>
                  <a:pt x="21816" y="18549"/>
                  <a:pt x="21808" y="18798"/>
                  <a:pt x="21803" y="19048"/>
                </a:cubicBezTo>
              </a:path>
              <a:path w="3719" h="10133">
                <a:moveTo>
                  <a:pt x="23050" y="15631"/>
                </a:moveTo>
                <a:cubicBezTo>
                  <a:pt x="23074" y="15591"/>
                  <a:pt x="23078" y="15587"/>
                  <a:pt x="23089" y="15563"/>
                </a:cubicBezTo>
                <a:cubicBezTo>
                  <a:pt x="23104" y="15584"/>
                  <a:pt x="23129" y="15570"/>
                  <a:pt x="23146" y="15619"/>
                </a:cubicBezTo>
                <a:cubicBezTo>
                  <a:pt x="23181" y="15719"/>
                  <a:pt x="23194" y="15827"/>
                  <a:pt x="23204" y="15932"/>
                </a:cubicBezTo>
                <a:cubicBezTo>
                  <a:pt x="23240" y="16303"/>
                  <a:pt x="23224" y="16682"/>
                  <a:pt x="23215" y="17054"/>
                </a:cubicBezTo>
                <a:cubicBezTo>
                  <a:pt x="23200" y="17656"/>
                  <a:pt x="23167" y="18260"/>
                  <a:pt x="23189" y="18862"/>
                </a:cubicBezTo>
                <a:cubicBezTo>
                  <a:pt x="23195" y="19035"/>
                  <a:pt x="23208" y="18981"/>
                  <a:pt x="23239" y="19048"/>
                </a:cubicBezTo>
              </a:path>
              <a:path w="3719" h="10133">
                <a:moveTo>
                  <a:pt x="22120" y="16864"/>
                </a:moveTo>
                <a:cubicBezTo>
                  <a:pt x="22108" y="16816"/>
                  <a:pt x="22086" y="16812"/>
                  <a:pt x="22111" y="16760"/>
                </a:cubicBezTo>
                <a:cubicBezTo>
                  <a:pt x="22127" y="16726"/>
                  <a:pt x="22171" y="16696"/>
                  <a:pt x="22205" y="16684"/>
                </a:cubicBezTo>
                <a:cubicBezTo>
                  <a:pt x="22295" y="16653"/>
                  <a:pt x="22379" y="16696"/>
                  <a:pt x="22440" y="16762"/>
                </a:cubicBezTo>
                <a:cubicBezTo>
                  <a:pt x="22512" y="16840"/>
                  <a:pt x="22562" y="16943"/>
                  <a:pt x="22594" y="17043"/>
                </a:cubicBezTo>
                <a:cubicBezTo>
                  <a:pt x="22695" y="17357"/>
                  <a:pt x="22650" y="17709"/>
                  <a:pt x="22623" y="18031"/>
                </a:cubicBezTo>
                <a:cubicBezTo>
                  <a:pt x="22607" y="18214"/>
                  <a:pt x="22587" y="18397"/>
                  <a:pt x="22574" y="18580"/>
                </a:cubicBezTo>
                <a:cubicBezTo>
                  <a:pt x="22563" y="18736"/>
                  <a:pt x="22559" y="18892"/>
                  <a:pt x="22559" y="19048"/>
                </a:cubicBezTo>
              </a:path>
              <a:path w="3719" h="10133">
                <a:moveTo>
                  <a:pt x="22315" y="18617"/>
                </a:moveTo>
                <a:cubicBezTo>
                  <a:pt x="22329" y="18716"/>
                  <a:pt x="22343" y="18813"/>
                  <a:pt x="22369" y="18909"/>
                </a:cubicBezTo>
                <a:cubicBezTo>
                  <a:pt x="22388" y="18981"/>
                  <a:pt x="22383" y="19043"/>
                  <a:pt x="22452" y="19048"/>
                </a:cubicBezTo>
                <a:cubicBezTo>
                  <a:pt x="22547" y="19055"/>
                  <a:pt x="22688" y="19075"/>
                  <a:pt x="22752" y="19001"/>
                </a:cubicBezTo>
                <a:cubicBezTo>
                  <a:pt x="22812" y="18932"/>
                  <a:pt x="22851" y="18842"/>
                  <a:pt x="22899" y="18765"/>
                </a:cubicBezTo>
                <a:cubicBezTo>
                  <a:pt x="22899" y="18861"/>
                  <a:pt x="22891" y="18950"/>
                  <a:pt x="22882" y="19045"/>
                </a:cubicBezTo>
                <a:cubicBezTo>
                  <a:pt x="22882" y="19046"/>
                  <a:pt x="22882" y="19047"/>
                  <a:pt x="22882" y="19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Ink 17"/>
          <p:cNvSpPr/>
          <p:nvPr/>
        </p:nvSpPr>
        <p:spPr>
          <a:xfrm>
            <a:off x="6621480" y="3192480"/>
            <a:ext cx="1461960" cy="1335240"/>
          </a:xfrm>
          <a:custGeom>
            <a:avLst/>
            <a:gdLst/>
            <a:ahLst/>
            <a:rect l="l" t="t" r="r" b="b"/>
            <a:pathLst>
              <a:path w="4063" h="3710">
                <a:moveTo>
                  <a:pt x="21810" y="9421"/>
                </a:moveTo>
                <a:cubicBezTo>
                  <a:pt x="21811" y="9432"/>
                  <a:pt x="21812" y="9442"/>
                  <a:pt x="21813" y="9453"/>
                </a:cubicBezTo>
                <a:cubicBezTo>
                  <a:pt x="21838" y="9433"/>
                  <a:pt x="21847" y="9412"/>
                  <a:pt x="21868" y="9378"/>
                </a:cubicBezTo>
                <a:cubicBezTo>
                  <a:pt x="21918" y="9296"/>
                  <a:pt x="21968" y="9212"/>
                  <a:pt x="22024" y="9133"/>
                </a:cubicBezTo>
                <a:cubicBezTo>
                  <a:pt x="22098" y="9030"/>
                  <a:pt x="22192" y="8943"/>
                  <a:pt x="22305" y="8887"/>
                </a:cubicBezTo>
                <a:cubicBezTo>
                  <a:pt x="22321" y="8880"/>
                  <a:pt x="22336" y="8873"/>
                  <a:pt x="22352" y="8866"/>
                </a:cubicBezTo>
              </a:path>
              <a:path w="4063" h="3710">
                <a:moveTo>
                  <a:pt x="21445" y="10212"/>
                </a:moveTo>
                <a:cubicBezTo>
                  <a:pt x="21469" y="10154"/>
                  <a:pt x="21521" y="10132"/>
                  <a:pt x="21507" y="10056"/>
                </a:cubicBezTo>
                <a:cubicBezTo>
                  <a:pt x="21486" y="9939"/>
                  <a:pt x="21396" y="9869"/>
                  <a:pt x="21294" y="9810"/>
                </a:cubicBezTo>
                <a:cubicBezTo>
                  <a:pt x="20873" y="9566"/>
                  <a:pt x="20299" y="9563"/>
                  <a:pt x="19845" y="9698"/>
                </a:cubicBezTo>
                <a:cubicBezTo>
                  <a:pt x="19207" y="9887"/>
                  <a:pt x="18555" y="10389"/>
                  <a:pt x="18414" y="11069"/>
                </a:cubicBezTo>
                <a:cubicBezTo>
                  <a:pt x="18319" y="11528"/>
                  <a:pt x="18498" y="11960"/>
                  <a:pt x="18872" y="12236"/>
                </a:cubicBezTo>
                <a:cubicBezTo>
                  <a:pt x="19099" y="12404"/>
                  <a:pt x="19359" y="12478"/>
                  <a:pt x="19634" y="12528"/>
                </a:cubicBezTo>
                <a:cubicBezTo>
                  <a:pt x="20142" y="12620"/>
                  <a:pt x="20696" y="12598"/>
                  <a:pt x="21188" y="12442"/>
                </a:cubicBezTo>
                <a:cubicBezTo>
                  <a:pt x="21710" y="12276"/>
                  <a:pt x="22302" y="11922"/>
                  <a:pt x="22436" y="11347"/>
                </a:cubicBezTo>
                <a:cubicBezTo>
                  <a:pt x="22525" y="10965"/>
                  <a:pt x="22295" y="10626"/>
                  <a:pt x="22014" y="10392"/>
                </a:cubicBezTo>
                <a:cubicBezTo>
                  <a:pt x="21685" y="10118"/>
                  <a:pt x="21290" y="9999"/>
                  <a:pt x="20868" y="9968"/>
                </a:cubicBezTo>
                <a:cubicBezTo>
                  <a:pt x="20791" y="9966"/>
                  <a:pt x="20715" y="9964"/>
                  <a:pt x="20638" y="9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Ink 18"/>
          <p:cNvSpPr/>
          <p:nvPr/>
        </p:nvSpPr>
        <p:spPr>
          <a:xfrm>
            <a:off x="2521080" y="5256360"/>
            <a:ext cx="1261800" cy="861840"/>
          </a:xfrm>
          <a:custGeom>
            <a:avLst/>
            <a:gdLst/>
            <a:ahLst/>
            <a:rect l="l" t="t" r="r" b="b"/>
            <a:pathLst>
              <a:path w="3504" h="2394">
                <a:moveTo>
                  <a:pt x="8832" y="15002"/>
                </a:moveTo>
                <a:cubicBezTo>
                  <a:pt x="8846" y="14933"/>
                  <a:pt x="8874" y="14848"/>
                  <a:pt x="8859" y="14774"/>
                </a:cubicBezTo>
                <a:cubicBezTo>
                  <a:pt x="8834" y="14652"/>
                  <a:pt x="8755" y="14609"/>
                  <a:pt x="8636" y="14601"/>
                </a:cubicBezTo>
                <a:cubicBezTo>
                  <a:pt x="8450" y="14589"/>
                  <a:pt x="8246" y="14670"/>
                  <a:pt x="8079" y="14744"/>
                </a:cubicBezTo>
                <a:cubicBezTo>
                  <a:pt x="7563" y="14973"/>
                  <a:pt x="7017" y="15572"/>
                  <a:pt x="7004" y="16165"/>
                </a:cubicBezTo>
                <a:cubicBezTo>
                  <a:pt x="6998" y="16439"/>
                  <a:pt x="7201" y="16681"/>
                  <a:pt x="7426" y="16816"/>
                </a:cubicBezTo>
                <a:cubicBezTo>
                  <a:pt x="7820" y="17054"/>
                  <a:pt x="8346" y="17029"/>
                  <a:pt x="8776" y="16927"/>
                </a:cubicBezTo>
                <a:cubicBezTo>
                  <a:pt x="9049" y="16862"/>
                  <a:pt x="9299" y="16747"/>
                  <a:pt x="9542" y="16608"/>
                </a:cubicBezTo>
                <a:cubicBezTo>
                  <a:pt x="9897" y="16404"/>
                  <a:pt x="10365" y="16074"/>
                  <a:pt x="10489" y="15657"/>
                </a:cubicBezTo>
                <a:cubicBezTo>
                  <a:pt x="10537" y="15496"/>
                  <a:pt x="10494" y="15342"/>
                  <a:pt x="10385" y="15218"/>
                </a:cubicBezTo>
                <a:cubicBezTo>
                  <a:pt x="10179" y="14983"/>
                  <a:pt x="9815" y="14894"/>
                  <a:pt x="9521" y="14851"/>
                </a:cubicBezTo>
                <a:cubicBezTo>
                  <a:pt x="9017" y="14776"/>
                  <a:pt x="8516" y="14855"/>
                  <a:pt x="8025" y="14967"/>
                </a:cubicBezTo>
                <a:cubicBezTo>
                  <a:pt x="7917" y="14993"/>
                  <a:pt x="7808" y="15020"/>
                  <a:pt x="7700" y="15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Ink 19"/>
          <p:cNvSpPr/>
          <p:nvPr/>
        </p:nvSpPr>
        <p:spPr>
          <a:xfrm>
            <a:off x="2008080" y="3952800"/>
            <a:ext cx="5830920" cy="100080"/>
          </a:xfrm>
          <a:custGeom>
            <a:avLst/>
            <a:gdLst/>
            <a:ahLst/>
            <a:rect l="l" t="t" r="r" b="b"/>
            <a:pathLst>
              <a:path w="16198" h="279">
                <a:moveTo>
                  <a:pt x="5589" y="11240"/>
                </a:moveTo>
                <a:cubicBezTo>
                  <a:pt x="5621" y="11236"/>
                  <a:pt x="5608" y="11215"/>
                  <a:pt x="5640" y="11212"/>
                </a:cubicBezTo>
                <a:cubicBezTo>
                  <a:pt x="5912" y="11184"/>
                  <a:pt x="6190" y="11205"/>
                  <a:pt x="6464" y="11203"/>
                </a:cubicBezTo>
                <a:cubicBezTo>
                  <a:pt x="8381" y="11188"/>
                  <a:pt x="10298" y="11173"/>
                  <a:pt x="12215" y="11160"/>
                </a:cubicBezTo>
                <a:cubicBezTo>
                  <a:pt x="14293" y="11146"/>
                  <a:pt x="16364" y="11110"/>
                  <a:pt x="18441" y="11055"/>
                </a:cubicBezTo>
                <a:cubicBezTo>
                  <a:pt x="19518" y="11026"/>
                  <a:pt x="20716" y="10901"/>
                  <a:pt x="21776" y="10989"/>
                </a:cubicBezTo>
                <a:cubicBezTo>
                  <a:pt x="21768" y="11003"/>
                  <a:pt x="21764" y="11009"/>
                  <a:pt x="21755" y="110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Ink 20"/>
          <p:cNvSpPr/>
          <p:nvPr/>
        </p:nvSpPr>
        <p:spPr>
          <a:xfrm>
            <a:off x="2244600" y="6330960"/>
            <a:ext cx="5721480" cy="228600"/>
          </a:xfrm>
          <a:custGeom>
            <a:avLst/>
            <a:gdLst/>
            <a:ahLst/>
            <a:rect l="l" t="t" r="r" b="b"/>
            <a:pathLst>
              <a:path w="15894" h="638">
                <a:moveTo>
                  <a:pt x="6293" y="17859"/>
                </a:moveTo>
                <a:cubicBezTo>
                  <a:pt x="6276" y="17770"/>
                  <a:pt x="6266" y="17671"/>
                  <a:pt x="6253" y="17584"/>
                </a:cubicBezTo>
                <a:cubicBezTo>
                  <a:pt x="6314" y="17609"/>
                  <a:pt x="6375" y="17650"/>
                  <a:pt x="6439" y="17673"/>
                </a:cubicBezTo>
                <a:cubicBezTo>
                  <a:pt x="7090" y="17906"/>
                  <a:pt x="7830" y="17930"/>
                  <a:pt x="8512" y="18010"/>
                </a:cubicBezTo>
                <a:cubicBezTo>
                  <a:pt x="11211" y="18326"/>
                  <a:pt x="13888" y="18061"/>
                  <a:pt x="16594" y="18060"/>
                </a:cubicBezTo>
                <a:cubicBezTo>
                  <a:pt x="18369" y="18059"/>
                  <a:pt x="20167" y="18126"/>
                  <a:pt x="21941" y="18204"/>
                </a:cubicBezTo>
                <a:cubicBezTo>
                  <a:pt x="22004" y="18207"/>
                  <a:pt x="22066" y="18218"/>
                  <a:pt x="22129" y="18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nk 21"/>
          <p:cNvSpPr/>
          <p:nvPr/>
        </p:nvSpPr>
        <p:spPr>
          <a:xfrm>
            <a:off x="2219400" y="4471920"/>
            <a:ext cx="5497560" cy="50760"/>
          </a:xfrm>
          <a:custGeom>
            <a:avLst/>
            <a:gdLst/>
            <a:ahLst/>
            <a:rect l="l" t="t" r="r" b="b"/>
            <a:pathLst>
              <a:path w="15269" h="139">
                <a:moveTo>
                  <a:pt x="6166" y="12430"/>
                </a:moveTo>
                <a:cubicBezTo>
                  <a:pt x="8101" y="12430"/>
                  <a:pt x="10031" y="12465"/>
                  <a:pt x="11966" y="12502"/>
                </a:cubicBezTo>
                <a:cubicBezTo>
                  <a:pt x="15121" y="12563"/>
                  <a:pt x="18279" y="12496"/>
                  <a:pt x="21434" y="12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nk 22"/>
          <p:cNvSpPr/>
          <p:nvPr/>
        </p:nvSpPr>
        <p:spPr>
          <a:xfrm>
            <a:off x="2330280" y="4743360"/>
            <a:ext cx="5569200" cy="39600"/>
          </a:xfrm>
          <a:custGeom>
            <a:avLst/>
            <a:gdLst/>
            <a:ahLst/>
            <a:rect l="l" t="t" r="r" b="b"/>
            <a:pathLst>
              <a:path w="15468" h="111">
                <a:moveTo>
                  <a:pt x="6584" y="13286"/>
                </a:moveTo>
                <a:cubicBezTo>
                  <a:pt x="6539" y="13283"/>
                  <a:pt x="6505" y="13273"/>
                  <a:pt x="6474" y="13268"/>
                </a:cubicBezTo>
                <a:cubicBezTo>
                  <a:pt x="6526" y="13260"/>
                  <a:pt x="6586" y="13230"/>
                  <a:pt x="6646" y="13225"/>
                </a:cubicBezTo>
                <a:cubicBezTo>
                  <a:pt x="7329" y="13170"/>
                  <a:pt x="8033" y="13196"/>
                  <a:pt x="8718" y="13184"/>
                </a:cubicBezTo>
                <a:cubicBezTo>
                  <a:pt x="12904" y="13112"/>
                  <a:pt x="17100" y="13243"/>
                  <a:pt x="21287" y="13234"/>
                </a:cubicBezTo>
                <a:cubicBezTo>
                  <a:pt x="21506" y="13234"/>
                  <a:pt x="21723" y="13239"/>
                  <a:pt x="21941" y="13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Ink 23"/>
          <p:cNvSpPr/>
          <p:nvPr/>
        </p:nvSpPr>
        <p:spPr>
          <a:xfrm>
            <a:off x="2451240" y="5030640"/>
            <a:ext cx="5180040" cy="42840"/>
          </a:xfrm>
          <a:custGeom>
            <a:avLst/>
            <a:gdLst/>
            <a:ahLst/>
            <a:rect l="l" t="t" r="r" b="b"/>
            <a:pathLst>
              <a:path w="14390" h="121">
                <a:moveTo>
                  <a:pt x="6807" y="14012"/>
                </a:moveTo>
                <a:cubicBezTo>
                  <a:pt x="6825" y="14015"/>
                  <a:pt x="6822" y="14033"/>
                  <a:pt x="6840" y="14035"/>
                </a:cubicBezTo>
                <a:cubicBezTo>
                  <a:pt x="7817" y="14152"/>
                  <a:pt x="8817" y="14082"/>
                  <a:pt x="9797" y="14077"/>
                </a:cubicBezTo>
                <a:cubicBezTo>
                  <a:pt x="12458" y="14062"/>
                  <a:pt x="15121" y="14056"/>
                  <a:pt x="17782" y="14012"/>
                </a:cubicBezTo>
                <a:cubicBezTo>
                  <a:pt x="18888" y="13994"/>
                  <a:pt x="20031" y="13893"/>
                  <a:pt x="21136" y="13988"/>
                </a:cubicBezTo>
                <a:cubicBezTo>
                  <a:pt x="21171" y="13997"/>
                  <a:pt x="21175" y="14000"/>
                  <a:pt x="21196" y="14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Ink 24"/>
          <p:cNvSpPr/>
          <p:nvPr/>
        </p:nvSpPr>
        <p:spPr>
          <a:xfrm>
            <a:off x="2446200" y="5267160"/>
            <a:ext cx="5230800" cy="65160"/>
          </a:xfrm>
          <a:custGeom>
            <a:avLst/>
            <a:gdLst/>
            <a:ahLst/>
            <a:rect l="l" t="t" r="r" b="b"/>
            <a:pathLst>
              <a:path w="14531" h="180">
                <a:moveTo>
                  <a:pt x="6941" y="14784"/>
                </a:moveTo>
                <a:cubicBezTo>
                  <a:pt x="6868" y="14742"/>
                  <a:pt x="6844" y="14709"/>
                  <a:pt x="6794" y="14670"/>
                </a:cubicBezTo>
                <a:cubicBezTo>
                  <a:pt x="6840" y="14672"/>
                  <a:pt x="6925" y="14652"/>
                  <a:pt x="6992" y="14660"/>
                </a:cubicBezTo>
                <a:cubicBezTo>
                  <a:pt x="8601" y="14858"/>
                  <a:pt x="10204" y="14813"/>
                  <a:pt x="11825" y="14780"/>
                </a:cubicBezTo>
                <a:cubicBezTo>
                  <a:pt x="14759" y="14720"/>
                  <a:pt x="17714" y="14531"/>
                  <a:pt x="20648" y="14657"/>
                </a:cubicBezTo>
                <a:cubicBezTo>
                  <a:pt x="20874" y="14667"/>
                  <a:pt x="21100" y="14687"/>
                  <a:pt x="21324" y="147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Ink 25"/>
          <p:cNvSpPr/>
          <p:nvPr/>
        </p:nvSpPr>
        <p:spPr>
          <a:xfrm>
            <a:off x="2443320" y="5622840"/>
            <a:ext cx="5097240" cy="73080"/>
          </a:xfrm>
          <a:custGeom>
            <a:avLst/>
            <a:gdLst/>
            <a:ahLst/>
            <a:rect l="l" t="t" r="r" b="b"/>
            <a:pathLst>
              <a:path w="14161" h="206">
                <a:moveTo>
                  <a:pt x="6786" y="15682"/>
                </a:moveTo>
                <a:cubicBezTo>
                  <a:pt x="7328" y="15672"/>
                  <a:pt x="7869" y="15620"/>
                  <a:pt x="8413" y="15618"/>
                </a:cubicBezTo>
                <a:cubicBezTo>
                  <a:pt x="10719" y="15612"/>
                  <a:pt x="13014" y="15803"/>
                  <a:pt x="15323" y="15771"/>
                </a:cubicBezTo>
                <a:cubicBezTo>
                  <a:pt x="17070" y="15746"/>
                  <a:pt x="18828" y="15885"/>
                  <a:pt x="20573" y="15818"/>
                </a:cubicBezTo>
                <a:cubicBezTo>
                  <a:pt x="20697" y="15813"/>
                  <a:pt x="20822" y="15796"/>
                  <a:pt x="20946" y="15792"/>
                </a:cubicBezTo>
                <a:cubicBezTo>
                  <a:pt x="20941" y="15795"/>
                  <a:pt x="20935" y="15797"/>
                  <a:pt x="20930" y="158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Ink 26"/>
          <p:cNvSpPr/>
          <p:nvPr/>
        </p:nvSpPr>
        <p:spPr>
          <a:xfrm>
            <a:off x="2541600" y="5900760"/>
            <a:ext cx="4886280" cy="81000"/>
          </a:xfrm>
          <a:custGeom>
            <a:avLst/>
            <a:gdLst/>
            <a:ahLst/>
            <a:rect l="l" t="t" r="r" b="b"/>
            <a:pathLst>
              <a:path w="13573" h="221">
                <a:moveTo>
                  <a:pt x="7058" y="16393"/>
                </a:moveTo>
                <a:cubicBezTo>
                  <a:pt x="7660" y="16533"/>
                  <a:pt x="8265" y="16585"/>
                  <a:pt x="8884" y="16608"/>
                </a:cubicBezTo>
                <a:cubicBezTo>
                  <a:pt x="11638" y="16712"/>
                  <a:pt x="14406" y="16424"/>
                  <a:pt x="17164" y="16461"/>
                </a:cubicBezTo>
                <a:cubicBezTo>
                  <a:pt x="18206" y="16475"/>
                  <a:pt x="19286" y="16386"/>
                  <a:pt x="20324" y="16496"/>
                </a:cubicBezTo>
                <a:cubicBezTo>
                  <a:pt x="20426" y="16507"/>
                  <a:pt x="20528" y="16521"/>
                  <a:pt x="20630" y="165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Ink 27"/>
          <p:cNvSpPr/>
          <p:nvPr/>
        </p:nvSpPr>
        <p:spPr>
          <a:xfrm>
            <a:off x="1389240" y="3409920"/>
            <a:ext cx="1157040" cy="2905200"/>
          </a:xfrm>
          <a:custGeom>
            <a:avLst/>
            <a:gdLst/>
            <a:ahLst/>
            <a:rect l="l" t="t" r="r" b="b"/>
            <a:pathLst>
              <a:path w="3216" h="8069">
                <a:moveTo>
                  <a:pt x="3859" y="9484"/>
                </a:moveTo>
                <a:cubicBezTo>
                  <a:pt x="3860" y="9499"/>
                  <a:pt x="3876" y="9481"/>
                  <a:pt x="3877" y="9496"/>
                </a:cubicBezTo>
                <a:cubicBezTo>
                  <a:pt x="3910" y="10136"/>
                  <a:pt x="3913" y="10778"/>
                  <a:pt x="3951" y="11419"/>
                </a:cubicBezTo>
                <a:cubicBezTo>
                  <a:pt x="3992" y="12103"/>
                  <a:pt x="4050" y="12788"/>
                  <a:pt x="4116" y="13469"/>
                </a:cubicBezTo>
                <a:cubicBezTo>
                  <a:pt x="4165" y="13974"/>
                  <a:pt x="4190" y="14480"/>
                  <a:pt x="4238" y="14984"/>
                </a:cubicBezTo>
                <a:cubicBezTo>
                  <a:pt x="4277" y="15396"/>
                  <a:pt x="4238" y="15975"/>
                  <a:pt x="4462" y="16345"/>
                </a:cubicBezTo>
                <a:cubicBezTo>
                  <a:pt x="4643" y="16643"/>
                  <a:pt x="4911" y="16910"/>
                  <a:pt x="5106" y="17206"/>
                </a:cubicBezTo>
                <a:cubicBezTo>
                  <a:pt x="5243" y="17414"/>
                  <a:pt x="5360" y="17453"/>
                  <a:pt x="5601" y="17467"/>
                </a:cubicBezTo>
                <a:cubicBezTo>
                  <a:pt x="6084" y="17495"/>
                  <a:pt x="6594" y="17528"/>
                  <a:pt x="7074" y="17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Ink 28"/>
          <p:cNvSpPr/>
          <p:nvPr/>
        </p:nvSpPr>
        <p:spPr>
          <a:xfrm>
            <a:off x="1933560" y="3557520"/>
            <a:ext cx="6178680" cy="3300480"/>
          </a:xfrm>
          <a:custGeom>
            <a:avLst/>
            <a:gdLst/>
            <a:ahLst/>
            <a:rect l="l" t="t" r="r" b="b"/>
            <a:pathLst>
              <a:path w="17160" h="9166">
                <a:moveTo>
                  <a:pt x="5387" y="9883"/>
                </a:moveTo>
                <a:cubicBezTo>
                  <a:pt x="5396" y="9926"/>
                  <a:pt x="5426" y="10024"/>
                  <a:pt x="5438" y="10087"/>
                </a:cubicBezTo>
                <a:cubicBezTo>
                  <a:pt x="5571" y="10795"/>
                  <a:pt x="5758" y="11337"/>
                  <a:pt x="6430" y="11713"/>
                </a:cubicBezTo>
                <a:cubicBezTo>
                  <a:pt x="7851" y="12508"/>
                  <a:pt x="9796" y="12383"/>
                  <a:pt x="11350" y="12760"/>
                </a:cubicBezTo>
                <a:cubicBezTo>
                  <a:pt x="14698" y="13572"/>
                  <a:pt x="18739" y="15086"/>
                  <a:pt x="21252" y="17578"/>
                </a:cubicBezTo>
                <a:cubicBezTo>
                  <a:pt x="21628" y="17951"/>
                  <a:pt x="21932" y="18802"/>
                  <a:pt x="22301" y="19048"/>
                </a:cubicBezTo>
                <a:cubicBezTo>
                  <a:pt x="22354" y="19083"/>
                  <a:pt x="22481" y="19011"/>
                  <a:pt x="22532" y="19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BNGO+TimesNewRoman"/>
              </a:rPr>
              <a:t>Therm-Hydraulic Analysis of Heat Exch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be side Thermal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analysis for Shell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Heat Transfer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aulic Analysis of Tube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aulic Analysis of Shell s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Ink 4"/>
          <p:cNvSpPr/>
          <p:nvPr/>
        </p:nvSpPr>
        <p:spPr>
          <a:xfrm>
            <a:off x="1968480" y="1081080"/>
            <a:ext cx="69840" cy="208080"/>
          </a:xfrm>
          <a:custGeom>
            <a:avLst/>
            <a:gdLst/>
            <a:ahLst/>
            <a:rect l="l" t="t" r="r" b="b"/>
            <a:pathLst>
              <a:path w="193" h="577">
                <a:moveTo>
                  <a:pt x="5556" y="3117"/>
                </a:moveTo>
                <a:cubicBezTo>
                  <a:pt x="5564" y="3089"/>
                  <a:pt x="5565" y="3060"/>
                  <a:pt x="5570" y="3032"/>
                </a:cubicBezTo>
                <a:cubicBezTo>
                  <a:pt x="5551" y="3056"/>
                  <a:pt x="5534" y="3083"/>
                  <a:pt x="5521" y="3111"/>
                </a:cubicBezTo>
                <a:cubicBezTo>
                  <a:pt x="5504" y="3149"/>
                  <a:pt x="5492" y="3190"/>
                  <a:pt x="5484" y="3231"/>
                </a:cubicBezTo>
                <a:cubicBezTo>
                  <a:pt x="5470" y="3309"/>
                  <a:pt x="5460" y="3400"/>
                  <a:pt x="5469" y="3479"/>
                </a:cubicBezTo>
                <a:cubicBezTo>
                  <a:pt x="5472" y="3506"/>
                  <a:pt x="5482" y="3543"/>
                  <a:pt x="5502" y="3562"/>
                </a:cubicBezTo>
                <a:cubicBezTo>
                  <a:pt x="5518" y="3577"/>
                  <a:pt x="5542" y="3581"/>
                  <a:pt x="5563" y="3578"/>
                </a:cubicBezTo>
                <a:cubicBezTo>
                  <a:pt x="5593" y="3573"/>
                  <a:pt x="5613" y="3547"/>
                  <a:pt x="5628" y="3524"/>
                </a:cubicBezTo>
                <a:cubicBezTo>
                  <a:pt x="5654" y="3485"/>
                  <a:pt x="5659" y="3443"/>
                  <a:pt x="5661" y="3398"/>
                </a:cubicBezTo>
                <a:cubicBezTo>
                  <a:pt x="5663" y="3328"/>
                  <a:pt x="5651" y="3262"/>
                  <a:pt x="5634" y="3195"/>
                </a:cubicBezTo>
                <a:cubicBezTo>
                  <a:pt x="5619" y="3138"/>
                  <a:pt x="5602" y="3074"/>
                  <a:pt x="5568" y="3025"/>
                </a:cubicBezTo>
                <a:cubicBezTo>
                  <a:pt x="5546" y="2993"/>
                  <a:pt x="5517" y="2995"/>
                  <a:pt x="5505" y="3034"/>
                </a:cubicBezTo>
                <a:cubicBezTo>
                  <a:pt x="5504" y="3044"/>
                  <a:pt x="5502" y="3053"/>
                  <a:pt x="5501" y="3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luid Allocation : Tube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be side is preferred under these circumsta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ids which are prone to fo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igher velocities will reduce buil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 cleaning is also much more practical for tubes than for sh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osive fluids are usually best in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bes are cheaper to fabricate from exotic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lso true for very high temperature fluids requiring alloy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fluids to increase con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s with low flow rates to obtain increased velocities and turbu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ressure streams since tubes are less expensive to build stro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s with a low allowable pressure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id Allocation : Shell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side is preferred under these circumst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us fluids go on the shell side, since this will usually improve the rate of heat trans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other hand, placing them on the tube side will usually lead to lower pressure drops. Judgment i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heat transfer coeffici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 which has an inherently low heat transfer coefficient (such as low pressure gases or viscous liquids), this stream is preferentially put on the shell-side so that extended surface may be used to reduce the total cost of the heat exchang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2f2d"/>
                </a:solidFill>
                <a:latin typeface="Times New Roman"/>
                <a:ea typeface="Arial"/>
              </a:rPr>
              <a:t>Options for Shell-Side Therm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2f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2d"/>
                </a:solidFill>
                <a:latin typeface="Times New Roman"/>
                <a:ea typeface="Arial"/>
              </a:rPr>
              <a:t>Kern's integral method </a:t>
            </a:r>
            <a:br>
              <a:rPr sz="2400"/>
            </a:br>
            <a:r>
              <a:rPr b="1" lang="en-US" sz="2400" spc="-1" strike="noStrike">
                <a:solidFill>
                  <a:srgbClr val="362f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62f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2d"/>
                </a:solidFill>
                <a:latin typeface="Times New Roman"/>
                <a:ea typeface="Arial"/>
              </a:rPr>
              <a:t>Bell-Delaware method </a:t>
            </a:r>
            <a:br>
              <a:rPr sz="2400"/>
            </a:br>
            <a:r>
              <a:rPr b="1" lang="en-US" sz="2400" spc="-1" strike="noStrike">
                <a:solidFill>
                  <a:srgbClr val="362f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62f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2d"/>
                </a:solidFill>
                <a:latin typeface="Times New Roman"/>
                <a:ea typeface="Arial"/>
              </a:rPr>
              <a:t>Stream analysis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62f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2f2d"/>
                </a:solidFill>
                <a:latin typeface="Times New Roman"/>
                <a:ea typeface="Arial"/>
              </a:rPr>
              <a:t>Recent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Ink 5"/>
          <p:cNvSpPr/>
          <p:nvPr/>
        </p:nvSpPr>
        <p:spPr>
          <a:xfrm>
            <a:off x="6362640" y="5172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676" y="14369"/>
                </a:moveTo>
                <a:lnTo>
                  <a:pt x="17676" y="143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Ink 5"/>
          <p:cNvSpPr/>
          <p:nvPr/>
        </p:nvSpPr>
        <p:spPr>
          <a:xfrm>
            <a:off x="4016520" y="1635120"/>
            <a:ext cx="1127160" cy="1987560"/>
          </a:xfrm>
          <a:custGeom>
            <a:avLst/>
            <a:gdLst/>
            <a:ahLst/>
            <a:rect l="l" t="t" r="r" b="b"/>
            <a:pathLst>
              <a:path w="3129" h="5520">
                <a:moveTo>
                  <a:pt x="11870" y="5078"/>
                </a:moveTo>
                <a:cubicBezTo>
                  <a:pt x="11891" y="5075"/>
                  <a:pt x="11861" y="5067"/>
                  <a:pt x="11882" y="5065"/>
                </a:cubicBezTo>
                <a:cubicBezTo>
                  <a:pt x="12025" y="5054"/>
                  <a:pt x="12506" y="4962"/>
                  <a:pt x="12613" y="5069"/>
                </a:cubicBezTo>
                <a:cubicBezTo>
                  <a:pt x="12663" y="5119"/>
                  <a:pt x="12631" y="5176"/>
                  <a:pt x="12629" y="5243"/>
                </a:cubicBezTo>
                <a:cubicBezTo>
                  <a:pt x="12618" y="5574"/>
                  <a:pt x="12599" y="5905"/>
                  <a:pt x="12593" y="6236"/>
                </a:cubicBezTo>
                <a:cubicBezTo>
                  <a:pt x="12582" y="6836"/>
                  <a:pt x="12642" y="7425"/>
                  <a:pt x="12678" y="8023"/>
                </a:cubicBezTo>
                <a:cubicBezTo>
                  <a:pt x="12704" y="8461"/>
                  <a:pt x="12726" y="9000"/>
                  <a:pt x="12556" y="9417"/>
                </a:cubicBezTo>
                <a:cubicBezTo>
                  <a:pt x="12516" y="9515"/>
                  <a:pt x="12494" y="9527"/>
                  <a:pt x="12400" y="9548"/>
                </a:cubicBezTo>
                <a:cubicBezTo>
                  <a:pt x="11993" y="9640"/>
                  <a:pt x="11563" y="9775"/>
                  <a:pt x="11157" y="9838"/>
                </a:cubicBezTo>
              </a:path>
              <a:path w="3129" h="5520">
                <a:moveTo>
                  <a:pt x="11878" y="5046"/>
                </a:moveTo>
                <a:cubicBezTo>
                  <a:pt x="11849" y="5003"/>
                  <a:pt x="11812" y="5027"/>
                  <a:pt x="11790" y="4939"/>
                </a:cubicBezTo>
                <a:cubicBezTo>
                  <a:pt x="11776" y="4884"/>
                  <a:pt x="11743" y="4582"/>
                  <a:pt x="11797" y="4546"/>
                </a:cubicBezTo>
                <a:cubicBezTo>
                  <a:pt x="11843" y="4516"/>
                  <a:pt x="11951" y="4591"/>
                  <a:pt x="11994" y="4601"/>
                </a:cubicBezTo>
                <a:cubicBezTo>
                  <a:pt x="12275" y="4666"/>
                  <a:pt x="12804" y="4596"/>
                  <a:pt x="13041" y="4732"/>
                </a:cubicBezTo>
                <a:cubicBezTo>
                  <a:pt x="13132" y="4785"/>
                  <a:pt x="13181" y="4909"/>
                  <a:pt x="13224" y="5000"/>
                </a:cubicBezTo>
                <a:cubicBezTo>
                  <a:pt x="13604" y="5796"/>
                  <a:pt x="13543" y="6791"/>
                  <a:pt x="13546" y="7648"/>
                </a:cubicBezTo>
                <a:cubicBezTo>
                  <a:pt x="13548" y="8217"/>
                  <a:pt x="13581" y="8840"/>
                  <a:pt x="13463" y="9401"/>
                </a:cubicBezTo>
                <a:cubicBezTo>
                  <a:pt x="13449" y="9467"/>
                  <a:pt x="13421" y="9654"/>
                  <a:pt x="13345" y="9689"/>
                </a:cubicBezTo>
                <a:cubicBezTo>
                  <a:pt x="13292" y="9713"/>
                  <a:pt x="13172" y="9678"/>
                  <a:pt x="13113" y="9683"/>
                </a:cubicBezTo>
                <a:cubicBezTo>
                  <a:pt x="12620" y="9728"/>
                  <a:pt x="12128" y="9786"/>
                  <a:pt x="11635" y="9831"/>
                </a:cubicBezTo>
                <a:cubicBezTo>
                  <a:pt x="11588" y="9835"/>
                  <a:pt x="11522" y="9824"/>
                  <a:pt x="11493" y="9852"/>
                </a:cubicBezTo>
                <a:cubicBezTo>
                  <a:pt x="11470" y="9874"/>
                  <a:pt x="11445" y="10021"/>
                  <a:pt x="11429" y="10061"/>
                </a:cubicBezTo>
                <a:cubicBezTo>
                  <a:pt x="11420" y="10040"/>
                  <a:pt x="11389" y="10010"/>
                  <a:pt x="11379" y="9979"/>
                </a:cubicBezTo>
                <a:cubicBezTo>
                  <a:pt x="11317" y="9783"/>
                  <a:pt x="11255" y="9544"/>
                  <a:pt x="11330" y="9345"/>
                </a:cubicBezTo>
                <a:cubicBezTo>
                  <a:pt x="11353" y="9311"/>
                  <a:pt x="11361" y="9300"/>
                  <a:pt x="11383" y="9283"/>
                </a:cubicBezTo>
              </a:path>
              <a:path w="3129" h="5520">
                <a:moveTo>
                  <a:pt x="13512" y="6635"/>
                </a:moveTo>
                <a:cubicBezTo>
                  <a:pt x="13519" y="6620"/>
                  <a:pt x="13517" y="6613"/>
                  <a:pt x="13527" y="6615"/>
                </a:cubicBezTo>
                <a:cubicBezTo>
                  <a:pt x="13551" y="6633"/>
                  <a:pt x="13570" y="6661"/>
                  <a:pt x="13598" y="6675"/>
                </a:cubicBezTo>
                <a:cubicBezTo>
                  <a:pt x="13649" y="6700"/>
                  <a:pt x="13696" y="6689"/>
                  <a:pt x="13744" y="6666"/>
                </a:cubicBezTo>
                <a:cubicBezTo>
                  <a:pt x="13829" y="6624"/>
                  <a:pt x="13903" y="6557"/>
                  <a:pt x="13972" y="6494"/>
                </a:cubicBezTo>
                <a:cubicBezTo>
                  <a:pt x="14042" y="6431"/>
                  <a:pt x="14106" y="6354"/>
                  <a:pt x="14182" y="6300"/>
                </a:cubicBezTo>
                <a:cubicBezTo>
                  <a:pt x="14195" y="6293"/>
                  <a:pt x="14208" y="6287"/>
                  <a:pt x="14221" y="6280"/>
                </a:cubicBezTo>
              </a:path>
              <a:path w="3129" h="5520">
                <a:moveTo>
                  <a:pt x="13579" y="7257"/>
                </a:moveTo>
                <a:cubicBezTo>
                  <a:pt x="13562" y="7306"/>
                  <a:pt x="13537" y="7356"/>
                  <a:pt x="13557" y="7409"/>
                </a:cubicBezTo>
                <a:cubicBezTo>
                  <a:pt x="13570" y="7444"/>
                  <a:pt x="13599" y="7469"/>
                  <a:pt x="13637" y="7466"/>
                </a:cubicBezTo>
                <a:cubicBezTo>
                  <a:pt x="13713" y="7459"/>
                  <a:pt x="13786" y="7373"/>
                  <a:pt x="13838" y="7326"/>
                </a:cubicBezTo>
                <a:cubicBezTo>
                  <a:pt x="13956" y="7219"/>
                  <a:pt x="14064" y="7101"/>
                  <a:pt x="14185" y="6997"/>
                </a:cubicBezTo>
                <a:cubicBezTo>
                  <a:pt x="14218" y="6971"/>
                  <a:pt x="14252" y="6945"/>
                  <a:pt x="14285" y="6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Ink 6"/>
          <p:cNvSpPr/>
          <p:nvPr/>
        </p:nvSpPr>
        <p:spPr>
          <a:xfrm>
            <a:off x="6608880" y="6622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357" y="18396"/>
                </a:moveTo>
                <a:lnTo>
                  <a:pt x="18357" y="1839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NewRoman,Bold"/>
              </a:rPr>
              <a:t>Kern Method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NewRoman,Bold"/>
              </a:rPr>
              <a:t>SHELL-AND-TUBE HEAT EXCHANGER Analys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2193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for Solving True Industrial Problems : Donald Q K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believer of  providing knowledge for use of solving run-of-the-mill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ald Q. Kern Award: A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honor of Donald Q. Kern, pioneer in process heat transfer, the Division recognizes an individual's expertise in a given field of heat transfer or energy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true flow area by which the shell-side mass velocity can be comp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ctitious values for equivalent diameter and mass velocity are to be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orne out by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Past Tube Bundles : Outside Film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5" descr="http://ars.els-cdn.com/content/image/1-s2.0-S0017931004000924-gr7.jpg"/>
          <p:cNvPicPr/>
          <p:nvPr/>
        </p:nvPicPr>
        <p:blipFill>
          <a:blip r:embed="rId1"/>
          <a:stretch/>
        </p:blipFill>
        <p:spPr>
          <a:xfrm>
            <a:off x="609480" y="1371600"/>
            <a:ext cx="5077080" cy="5029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ars.els-cdn.com/content/image/1-s2.0-S0889974607000448-gr5.jpg"/>
          <p:cNvPicPr/>
          <p:nvPr/>
        </p:nvPicPr>
        <p:blipFill>
          <a:blip r:embed="rId2"/>
          <a:stretch/>
        </p:blipFill>
        <p:spPr>
          <a:xfrm>
            <a:off x="6095880" y="1828800"/>
            <a:ext cx="2667240" cy="4700520"/>
          </a:xfrm>
          <a:prstGeom prst="rect">
            <a:avLst/>
          </a:prstGeom>
          <a:ln w="0">
            <a:noFill/>
          </a:ln>
        </p:spPr>
      </p:pic>
      <p:sp>
        <p:nvSpPr>
          <p:cNvPr id="183" name="Ink 5"/>
          <p:cNvSpPr/>
          <p:nvPr/>
        </p:nvSpPr>
        <p:spPr>
          <a:xfrm>
            <a:off x="6539040" y="1409760"/>
            <a:ext cx="2043000" cy="4911840"/>
          </a:xfrm>
          <a:custGeom>
            <a:avLst/>
            <a:gdLst/>
            <a:ahLst/>
            <a:rect l="l" t="t" r="r" b="b"/>
            <a:pathLst>
              <a:path w="5675" h="13642">
                <a:moveTo>
                  <a:pt x="21356" y="5617"/>
                </a:moveTo>
                <a:cubicBezTo>
                  <a:pt x="21352" y="5617"/>
                  <a:pt x="21349" y="5618"/>
                  <a:pt x="21345" y="5618"/>
                </a:cubicBezTo>
                <a:cubicBezTo>
                  <a:pt x="21351" y="5607"/>
                  <a:pt x="21330" y="5592"/>
                  <a:pt x="21350" y="5575"/>
                </a:cubicBezTo>
                <a:cubicBezTo>
                  <a:pt x="21396" y="5538"/>
                  <a:pt x="21450" y="5510"/>
                  <a:pt x="21496" y="5470"/>
                </a:cubicBezTo>
                <a:cubicBezTo>
                  <a:pt x="21602" y="5379"/>
                  <a:pt x="21703" y="5281"/>
                  <a:pt x="21809" y="5189"/>
                </a:cubicBezTo>
                <a:cubicBezTo>
                  <a:pt x="21958" y="5061"/>
                  <a:pt x="22102" y="4926"/>
                  <a:pt x="22255" y="4802"/>
                </a:cubicBezTo>
                <a:cubicBezTo>
                  <a:pt x="22404" y="4681"/>
                  <a:pt x="22555" y="4564"/>
                  <a:pt x="22700" y="4438"/>
                </a:cubicBezTo>
                <a:cubicBezTo>
                  <a:pt x="22868" y="4291"/>
                  <a:pt x="23038" y="4142"/>
                  <a:pt x="23180" y="3969"/>
                </a:cubicBezTo>
                <a:cubicBezTo>
                  <a:pt x="23194" y="3952"/>
                  <a:pt x="23206" y="3935"/>
                  <a:pt x="23219" y="3918"/>
                </a:cubicBezTo>
                <a:cubicBezTo>
                  <a:pt x="23219" y="3954"/>
                  <a:pt x="23225" y="3994"/>
                  <a:pt x="23222" y="4032"/>
                </a:cubicBezTo>
                <a:cubicBezTo>
                  <a:pt x="23213" y="4072"/>
                  <a:pt x="23210" y="4087"/>
                  <a:pt x="23210" y="4116"/>
                </a:cubicBezTo>
              </a:path>
              <a:path w="5675" h="13642">
                <a:moveTo>
                  <a:pt x="22060" y="6469"/>
                </a:moveTo>
                <a:cubicBezTo>
                  <a:pt x="22044" y="6452"/>
                  <a:pt x="22000" y="6460"/>
                  <a:pt x="22013" y="6416"/>
                </a:cubicBezTo>
                <a:cubicBezTo>
                  <a:pt x="22025" y="6374"/>
                  <a:pt x="22080" y="6351"/>
                  <a:pt x="22114" y="6331"/>
                </a:cubicBezTo>
                <a:cubicBezTo>
                  <a:pt x="22470" y="6120"/>
                  <a:pt x="22801" y="5864"/>
                  <a:pt x="23105" y="5581"/>
                </a:cubicBezTo>
                <a:cubicBezTo>
                  <a:pt x="23199" y="5493"/>
                  <a:pt x="23292" y="5400"/>
                  <a:pt x="23377" y="5303"/>
                </a:cubicBezTo>
                <a:cubicBezTo>
                  <a:pt x="23433" y="5238"/>
                  <a:pt x="23487" y="5172"/>
                  <a:pt x="23540" y="5104"/>
                </a:cubicBezTo>
                <a:cubicBezTo>
                  <a:pt x="23561" y="5077"/>
                  <a:pt x="23580" y="5049"/>
                  <a:pt x="23601" y="5021"/>
                </a:cubicBezTo>
                <a:cubicBezTo>
                  <a:pt x="23606" y="5010"/>
                  <a:pt x="23608" y="5006"/>
                  <a:pt x="23615" y="5000"/>
                </a:cubicBezTo>
              </a:path>
              <a:path w="5675" h="13642">
                <a:moveTo>
                  <a:pt x="23343" y="4135"/>
                </a:moveTo>
                <a:cubicBezTo>
                  <a:pt x="23314" y="4129"/>
                  <a:pt x="23287" y="4124"/>
                  <a:pt x="23258" y="4123"/>
                </a:cubicBezTo>
                <a:cubicBezTo>
                  <a:pt x="23264" y="4145"/>
                  <a:pt x="23271" y="4166"/>
                  <a:pt x="23280" y="4188"/>
                </a:cubicBezTo>
                <a:cubicBezTo>
                  <a:pt x="23297" y="4227"/>
                  <a:pt x="23315" y="4264"/>
                  <a:pt x="23331" y="4303"/>
                </a:cubicBezTo>
                <a:cubicBezTo>
                  <a:pt x="23356" y="4365"/>
                  <a:pt x="23383" y="4425"/>
                  <a:pt x="23413" y="4484"/>
                </a:cubicBezTo>
                <a:cubicBezTo>
                  <a:pt x="23443" y="4543"/>
                  <a:pt x="23477" y="4599"/>
                  <a:pt x="23523" y="4646"/>
                </a:cubicBezTo>
                <a:cubicBezTo>
                  <a:pt x="23556" y="4680"/>
                  <a:pt x="23597" y="4706"/>
                  <a:pt x="23643" y="4720"/>
                </a:cubicBezTo>
                <a:cubicBezTo>
                  <a:pt x="23674" y="4729"/>
                  <a:pt x="23705" y="4731"/>
                  <a:pt x="23737" y="4731"/>
                </a:cubicBezTo>
                <a:cubicBezTo>
                  <a:pt x="23758" y="4731"/>
                  <a:pt x="23773" y="4730"/>
                  <a:pt x="23793" y="4723"/>
                </a:cubicBezTo>
                <a:cubicBezTo>
                  <a:pt x="23808" y="4718"/>
                  <a:pt x="23819" y="4707"/>
                  <a:pt x="23831" y="4697"/>
                </a:cubicBezTo>
                <a:cubicBezTo>
                  <a:pt x="23833" y="4714"/>
                  <a:pt x="23840" y="4735"/>
                  <a:pt x="23837" y="4753"/>
                </a:cubicBezTo>
                <a:cubicBezTo>
                  <a:pt x="23831" y="4770"/>
                  <a:pt x="23831" y="4776"/>
                  <a:pt x="23819" y="4779"/>
                </a:cubicBezTo>
              </a:path>
              <a:path w="5675" h="13642">
                <a:moveTo>
                  <a:pt x="23757" y="4932"/>
                </a:moveTo>
                <a:cubicBezTo>
                  <a:pt x="23738" y="4947"/>
                  <a:pt x="23717" y="4961"/>
                  <a:pt x="23704" y="4983"/>
                </a:cubicBezTo>
                <a:cubicBezTo>
                  <a:pt x="23681" y="5021"/>
                  <a:pt x="23678" y="5071"/>
                  <a:pt x="23667" y="5113"/>
                </a:cubicBezTo>
                <a:cubicBezTo>
                  <a:pt x="23637" y="5231"/>
                  <a:pt x="23591" y="5341"/>
                  <a:pt x="23535" y="5449"/>
                </a:cubicBezTo>
                <a:cubicBezTo>
                  <a:pt x="23512" y="5493"/>
                  <a:pt x="23480" y="5560"/>
                  <a:pt x="23446" y="5596"/>
                </a:cubicBezTo>
                <a:cubicBezTo>
                  <a:pt x="23425" y="5608"/>
                  <a:pt x="23418" y="5610"/>
                  <a:pt x="23415" y="5627"/>
                </a:cubicBezTo>
              </a:path>
              <a:path w="5675" h="13642">
                <a:moveTo>
                  <a:pt x="23639" y="5178"/>
                </a:moveTo>
                <a:cubicBezTo>
                  <a:pt x="23640" y="5157"/>
                  <a:pt x="23641" y="5136"/>
                  <a:pt x="23642" y="5115"/>
                </a:cubicBezTo>
                <a:cubicBezTo>
                  <a:pt x="23644" y="5155"/>
                  <a:pt x="23650" y="5195"/>
                  <a:pt x="23649" y="5237"/>
                </a:cubicBezTo>
                <a:cubicBezTo>
                  <a:pt x="23637" y="5758"/>
                  <a:pt x="23559" y="6274"/>
                  <a:pt x="23558" y="6797"/>
                </a:cubicBezTo>
                <a:cubicBezTo>
                  <a:pt x="23557" y="7246"/>
                  <a:pt x="23550" y="7690"/>
                  <a:pt x="23522" y="8138"/>
                </a:cubicBezTo>
                <a:cubicBezTo>
                  <a:pt x="23506" y="8390"/>
                  <a:pt x="23602" y="8898"/>
                  <a:pt x="23496" y="9133"/>
                </a:cubicBezTo>
                <a:cubicBezTo>
                  <a:pt x="23486" y="9131"/>
                  <a:pt x="23482" y="9130"/>
                  <a:pt x="23475" y="9131"/>
                </a:cubicBezTo>
              </a:path>
              <a:path w="5675" h="13642">
                <a:moveTo>
                  <a:pt x="22199" y="10221"/>
                </a:moveTo>
                <a:cubicBezTo>
                  <a:pt x="22222" y="10200"/>
                  <a:pt x="22243" y="10185"/>
                  <a:pt x="22269" y="10165"/>
                </a:cubicBezTo>
                <a:cubicBezTo>
                  <a:pt x="22323" y="10125"/>
                  <a:pt x="22377" y="10085"/>
                  <a:pt x="22431" y="10045"/>
                </a:cubicBezTo>
                <a:cubicBezTo>
                  <a:pt x="22521" y="9979"/>
                  <a:pt x="22613" y="9916"/>
                  <a:pt x="22701" y="9848"/>
                </a:cubicBezTo>
                <a:cubicBezTo>
                  <a:pt x="22802" y="9770"/>
                  <a:pt x="22908" y="9698"/>
                  <a:pt x="23008" y="9620"/>
                </a:cubicBezTo>
                <a:cubicBezTo>
                  <a:pt x="23102" y="9546"/>
                  <a:pt x="23200" y="9474"/>
                  <a:pt x="23288" y="9393"/>
                </a:cubicBezTo>
                <a:cubicBezTo>
                  <a:pt x="23359" y="9328"/>
                  <a:pt x="23430" y="9257"/>
                  <a:pt x="23488" y="9181"/>
                </a:cubicBezTo>
                <a:cubicBezTo>
                  <a:pt x="23519" y="9140"/>
                  <a:pt x="23550" y="9092"/>
                  <a:pt x="23574" y="9046"/>
                </a:cubicBezTo>
                <a:cubicBezTo>
                  <a:pt x="23583" y="9029"/>
                  <a:pt x="23589" y="9011"/>
                  <a:pt x="23597" y="8994"/>
                </a:cubicBezTo>
                <a:cubicBezTo>
                  <a:pt x="23595" y="9020"/>
                  <a:pt x="23598" y="9037"/>
                  <a:pt x="23590" y="9063"/>
                </a:cubicBezTo>
                <a:cubicBezTo>
                  <a:pt x="23586" y="9072"/>
                  <a:pt x="23581" y="9082"/>
                  <a:pt x="23577" y="9091"/>
                </a:cubicBezTo>
              </a:path>
              <a:path w="5675" h="13642">
                <a:moveTo>
                  <a:pt x="18194" y="17559"/>
                </a:moveTo>
                <a:cubicBezTo>
                  <a:pt x="18193" y="17446"/>
                  <a:pt x="18156" y="17456"/>
                  <a:pt x="18268" y="17363"/>
                </a:cubicBezTo>
                <a:cubicBezTo>
                  <a:pt x="18443" y="17218"/>
                  <a:pt x="18642" y="17097"/>
                  <a:pt x="18835" y="16978"/>
                </a:cubicBezTo>
                <a:cubicBezTo>
                  <a:pt x="19839" y="16357"/>
                  <a:pt x="20871" y="15768"/>
                  <a:pt x="21916" y="15219"/>
                </a:cubicBezTo>
                <a:cubicBezTo>
                  <a:pt x="21978" y="15186"/>
                  <a:pt x="22050" y="15155"/>
                  <a:pt x="22107" y="15114"/>
                </a:cubicBezTo>
                <a:cubicBezTo>
                  <a:pt x="22137" y="15093"/>
                  <a:pt x="22158" y="15060"/>
                  <a:pt x="22182" y="15041"/>
                </a:cubicBezTo>
              </a:path>
              <a:path w="5675" h="13642">
                <a:moveTo>
                  <a:pt x="21312" y="11754"/>
                </a:moveTo>
                <a:cubicBezTo>
                  <a:pt x="21259" y="11770"/>
                  <a:pt x="21229" y="11779"/>
                  <a:pt x="21181" y="11790"/>
                </a:cubicBezTo>
                <a:cubicBezTo>
                  <a:pt x="21242" y="11763"/>
                  <a:pt x="21306" y="11751"/>
                  <a:pt x="21371" y="11742"/>
                </a:cubicBezTo>
                <a:cubicBezTo>
                  <a:pt x="21428" y="11734"/>
                  <a:pt x="21508" y="11720"/>
                  <a:pt x="21528" y="11793"/>
                </a:cubicBezTo>
                <a:cubicBezTo>
                  <a:pt x="21553" y="11885"/>
                  <a:pt x="21468" y="11992"/>
                  <a:pt x="21431" y="12066"/>
                </a:cubicBezTo>
                <a:cubicBezTo>
                  <a:pt x="21382" y="12165"/>
                  <a:pt x="21325" y="12256"/>
                  <a:pt x="21273" y="12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Ink 6"/>
          <p:cNvSpPr/>
          <p:nvPr/>
        </p:nvSpPr>
        <p:spPr>
          <a:xfrm>
            <a:off x="6459480" y="1270080"/>
            <a:ext cx="1781280" cy="750960"/>
          </a:xfrm>
          <a:custGeom>
            <a:avLst/>
            <a:gdLst/>
            <a:ahLst/>
            <a:rect l="l" t="t" r="r" b="b"/>
            <a:pathLst>
              <a:path w="4944" h="2087">
                <a:moveTo>
                  <a:pt x="17945" y="5613"/>
                </a:moveTo>
                <a:cubicBezTo>
                  <a:pt x="17960" y="5593"/>
                  <a:pt x="17977" y="5572"/>
                  <a:pt x="17994" y="5550"/>
                </a:cubicBezTo>
                <a:cubicBezTo>
                  <a:pt x="18216" y="5266"/>
                  <a:pt x="18532" y="5075"/>
                  <a:pt x="18802" y="4841"/>
                </a:cubicBezTo>
                <a:cubicBezTo>
                  <a:pt x="18905" y="4752"/>
                  <a:pt x="19006" y="4659"/>
                  <a:pt x="19104" y="4564"/>
                </a:cubicBezTo>
                <a:cubicBezTo>
                  <a:pt x="19196" y="4475"/>
                  <a:pt x="19286" y="4383"/>
                  <a:pt x="19376" y="4292"/>
                </a:cubicBezTo>
                <a:cubicBezTo>
                  <a:pt x="19548" y="4117"/>
                  <a:pt x="19743" y="3962"/>
                  <a:pt x="19868" y="3748"/>
                </a:cubicBezTo>
                <a:cubicBezTo>
                  <a:pt x="19882" y="3723"/>
                  <a:pt x="19894" y="3694"/>
                  <a:pt x="19908" y="3670"/>
                </a:cubicBezTo>
                <a:cubicBezTo>
                  <a:pt x="19911" y="3668"/>
                  <a:pt x="19914" y="3665"/>
                  <a:pt x="19917" y="3663"/>
                </a:cubicBezTo>
              </a:path>
              <a:path w="4944" h="2087">
                <a:moveTo>
                  <a:pt x="19938" y="3614"/>
                </a:moveTo>
                <a:cubicBezTo>
                  <a:pt x="19926" y="3604"/>
                  <a:pt x="19913" y="3594"/>
                  <a:pt x="19902" y="3585"/>
                </a:cubicBezTo>
                <a:cubicBezTo>
                  <a:pt x="19921" y="3584"/>
                  <a:pt x="19940" y="3575"/>
                  <a:pt x="19963" y="3578"/>
                </a:cubicBezTo>
                <a:cubicBezTo>
                  <a:pt x="20244" y="3611"/>
                  <a:pt x="20505" y="3666"/>
                  <a:pt x="20792" y="3661"/>
                </a:cubicBezTo>
                <a:cubicBezTo>
                  <a:pt x="21194" y="3654"/>
                  <a:pt x="21597" y="3618"/>
                  <a:pt x="21999" y="3604"/>
                </a:cubicBezTo>
                <a:cubicBezTo>
                  <a:pt x="22217" y="3596"/>
                  <a:pt x="22436" y="3584"/>
                  <a:pt x="22653" y="3555"/>
                </a:cubicBezTo>
                <a:cubicBezTo>
                  <a:pt x="22715" y="3547"/>
                  <a:pt x="22777" y="3539"/>
                  <a:pt x="22840" y="3532"/>
                </a:cubicBezTo>
                <a:cubicBezTo>
                  <a:pt x="22850" y="3531"/>
                  <a:pt x="22886" y="3522"/>
                  <a:pt x="22888" y="3532"/>
                </a:cubicBezTo>
                <a:cubicBezTo>
                  <a:pt x="22891" y="3551"/>
                  <a:pt x="22858" y="3554"/>
                  <a:pt x="22850" y="3571"/>
                </a:cubicBezTo>
                <a:cubicBezTo>
                  <a:pt x="22848" y="3577"/>
                  <a:pt x="22845" y="3584"/>
                  <a:pt x="22843" y="3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Ink 7"/>
          <p:cNvSpPr/>
          <p:nvPr/>
        </p:nvSpPr>
        <p:spPr>
          <a:xfrm>
            <a:off x="7880400" y="5391000"/>
            <a:ext cx="182520" cy="292320"/>
          </a:xfrm>
          <a:custGeom>
            <a:avLst/>
            <a:gdLst/>
            <a:ahLst/>
            <a:rect l="l" t="t" r="r" b="b"/>
            <a:pathLst>
              <a:path w="510" h="813">
                <a:moveTo>
                  <a:pt x="22085" y="14975"/>
                </a:moveTo>
                <a:cubicBezTo>
                  <a:pt x="22035" y="14977"/>
                  <a:pt x="21975" y="14975"/>
                  <a:pt x="21926" y="14988"/>
                </a:cubicBezTo>
                <a:cubicBezTo>
                  <a:pt x="21906" y="14993"/>
                  <a:pt x="21899" y="15006"/>
                  <a:pt x="21889" y="15012"/>
                </a:cubicBezTo>
                <a:cubicBezTo>
                  <a:pt x="21932" y="15046"/>
                  <a:pt x="21975" y="15055"/>
                  <a:pt x="22030" y="15067"/>
                </a:cubicBezTo>
                <a:cubicBezTo>
                  <a:pt x="22131" y="15088"/>
                  <a:pt x="22266" y="15079"/>
                  <a:pt x="22353" y="15142"/>
                </a:cubicBezTo>
                <a:cubicBezTo>
                  <a:pt x="22407" y="15181"/>
                  <a:pt x="22405" y="15255"/>
                  <a:pt x="22391" y="15314"/>
                </a:cubicBezTo>
                <a:cubicBezTo>
                  <a:pt x="22363" y="15429"/>
                  <a:pt x="22295" y="15528"/>
                  <a:pt x="22236" y="15628"/>
                </a:cubicBezTo>
                <a:cubicBezTo>
                  <a:pt x="22186" y="15714"/>
                  <a:pt x="22170" y="15742"/>
                  <a:pt x="22121" y="15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Ink 8"/>
          <p:cNvSpPr/>
          <p:nvPr/>
        </p:nvSpPr>
        <p:spPr>
          <a:xfrm>
            <a:off x="2359080" y="3132000"/>
            <a:ext cx="736560" cy="38160"/>
          </a:xfrm>
          <a:custGeom>
            <a:avLst/>
            <a:gdLst/>
            <a:ahLst/>
            <a:rect l="l" t="t" r="r" b="b"/>
            <a:pathLst>
              <a:path w="2046" h="105">
                <a:moveTo>
                  <a:pt x="6571" y="8805"/>
                </a:moveTo>
                <a:cubicBezTo>
                  <a:pt x="6564" y="8787"/>
                  <a:pt x="6562" y="8778"/>
                  <a:pt x="6558" y="8761"/>
                </a:cubicBezTo>
                <a:cubicBezTo>
                  <a:pt x="6581" y="8760"/>
                  <a:pt x="6605" y="8758"/>
                  <a:pt x="6628" y="8757"/>
                </a:cubicBezTo>
                <a:cubicBezTo>
                  <a:pt x="6655" y="8756"/>
                  <a:pt x="6681" y="8752"/>
                  <a:pt x="6708" y="8750"/>
                </a:cubicBezTo>
                <a:cubicBezTo>
                  <a:pt x="6810" y="8743"/>
                  <a:pt x="6903" y="8763"/>
                  <a:pt x="7003" y="8773"/>
                </a:cubicBezTo>
                <a:cubicBezTo>
                  <a:pt x="7176" y="8791"/>
                  <a:pt x="7348" y="8776"/>
                  <a:pt x="7520" y="8766"/>
                </a:cubicBezTo>
                <a:cubicBezTo>
                  <a:pt x="7770" y="8752"/>
                  <a:pt x="8018" y="8756"/>
                  <a:pt x="8267" y="8731"/>
                </a:cubicBezTo>
                <a:cubicBezTo>
                  <a:pt x="8381" y="8720"/>
                  <a:pt x="8705" y="8720"/>
                  <a:pt x="8592" y="8701"/>
                </a:cubicBezTo>
                <a:cubicBezTo>
                  <a:pt x="8581" y="8701"/>
                  <a:pt x="8578" y="8701"/>
                  <a:pt x="8571" y="8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Ink 9"/>
          <p:cNvSpPr/>
          <p:nvPr/>
        </p:nvSpPr>
        <p:spPr>
          <a:xfrm>
            <a:off x="2063880" y="3490920"/>
            <a:ext cx="17280" cy="698400"/>
          </a:xfrm>
          <a:custGeom>
            <a:avLst/>
            <a:gdLst/>
            <a:ahLst/>
            <a:rect l="l" t="t" r="r" b="b"/>
            <a:pathLst>
              <a:path w="45" h="1942">
                <a:moveTo>
                  <a:pt x="5739" y="9787"/>
                </a:moveTo>
                <a:cubicBezTo>
                  <a:pt x="5737" y="9764"/>
                  <a:pt x="5736" y="9741"/>
                  <a:pt x="5735" y="9718"/>
                </a:cubicBezTo>
                <a:cubicBezTo>
                  <a:pt x="5735" y="9707"/>
                  <a:pt x="5735" y="9703"/>
                  <a:pt x="5734" y="9695"/>
                </a:cubicBezTo>
                <a:cubicBezTo>
                  <a:pt x="5734" y="9813"/>
                  <a:pt x="5739" y="9932"/>
                  <a:pt x="5739" y="10050"/>
                </a:cubicBezTo>
                <a:cubicBezTo>
                  <a:pt x="5739" y="10371"/>
                  <a:pt x="5770" y="10692"/>
                  <a:pt x="5775" y="11013"/>
                </a:cubicBezTo>
                <a:cubicBezTo>
                  <a:pt x="5777" y="11133"/>
                  <a:pt x="5772" y="11252"/>
                  <a:pt x="5770" y="11372"/>
                </a:cubicBezTo>
                <a:cubicBezTo>
                  <a:pt x="5769" y="11436"/>
                  <a:pt x="5764" y="11502"/>
                  <a:pt x="5771" y="11565"/>
                </a:cubicBezTo>
                <a:cubicBezTo>
                  <a:pt x="5774" y="11594"/>
                  <a:pt x="5778" y="11595"/>
                  <a:pt x="5769" y="11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Ink 10"/>
          <p:cNvSpPr/>
          <p:nvPr/>
        </p:nvSpPr>
        <p:spPr>
          <a:xfrm>
            <a:off x="2087640" y="4219560"/>
            <a:ext cx="257040" cy="314280"/>
          </a:xfrm>
          <a:custGeom>
            <a:avLst/>
            <a:gdLst/>
            <a:ahLst/>
            <a:rect l="l" t="t" r="r" b="b"/>
            <a:pathLst>
              <a:path w="717" h="875">
                <a:moveTo>
                  <a:pt x="5807" y="11759"/>
                </a:moveTo>
                <a:cubicBezTo>
                  <a:pt x="5804" y="11747"/>
                  <a:pt x="5801" y="11736"/>
                  <a:pt x="5798" y="11724"/>
                </a:cubicBezTo>
                <a:cubicBezTo>
                  <a:pt x="5813" y="11722"/>
                  <a:pt x="5830" y="11716"/>
                  <a:pt x="5848" y="11720"/>
                </a:cubicBezTo>
                <a:cubicBezTo>
                  <a:pt x="5916" y="11736"/>
                  <a:pt x="5987" y="11788"/>
                  <a:pt x="6043" y="11828"/>
                </a:cubicBezTo>
                <a:cubicBezTo>
                  <a:pt x="6081" y="11855"/>
                  <a:pt x="6121" y="11882"/>
                  <a:pt x="6157" y="11912"/>
                </a:cubicBezTo>
                <a:cubicBezTo>
                  <a:pt x="6192" y="11941"/>
                  <a:pt x="6226" y="11973"/>
                  <a:pt x="6256" y="12007"/>
                </a:cubicBezTo>
                <a:cubicBezTo>
                  <a:pt x="6356" y="12121"/>
                  <a:pt x="6408" y="12245"/>
                  <a:pt x="6451" y="12388"/>
                </a:cubicBezTo>
                <a:cubicBezTo>
                  <a:pt x="6458" y="12413"/>
                  <a:pt x="6467" y="12438"/>
                  <a:pt x="6474" y="12463"/>
                </a:cubicBezTo>
                <a:cubicBezTo>
                  <a:pt x="6487" y="12507"/>
                  <a:pt x="6499" y="12562"/>
                  <a:pt x="6514" y="12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Ink 11"/>
          <p:cNvSpPr/>
          <p:nvPr/>
        </p:nvSpPr>
        <p:spPr>
          <a:xfrm>
            <a:off x="2336760" y="4467240"/>
            <a:ext cx="735120" cy="38160"/>
          </a:xfrm>
          <a:custGeom>
            <a:avLst/>
            <a:gdLst/>
            <a:ahLst/>
            <a:rect l="l" t="t" r="r" b="b"/>
            <a:pathLst>
              <a:path w="2042" h="107">
                <a:moveTo>
                  <a:pt x="6490" y="12500"/>
                </a:moveTo>
                <a:cubicBezTo>
                  <a:pt x="6509" y="12499"/>
                  <a:pt x="6527" y="12497"/>
                  <a:pt x="6546" y="12496"/>
                </a:cubicBezTo>
                <a:cubicBezTo>
                  <a:pt x="6573" y="12495"/>
                  <a:pt x="6598" y="12499"/>
                  <a:pt x="6625" y="12503"/>
                </a:cubicBezTo>
                <a:cubicBezTo>
                  <a:pt x="6798" y="12527"/>
                  <a:pt x="6966" y="12500"/>
                  <a:pt x="7139" y="12488"/>
                </a:cubicBezTo>
                <a:cubicBezTo>
                  <a:pt x="7196" y="12484"/>
                  <a:pt x="7253" y="12482"/>
                  <a:pt x="7310" y="12481"/>
                </a:cubicBezTo>
                <a:cubicBezTo>
                  <a:pt x="7437" y="12478"/>
                  <a:pt x="7566" y="12476"/>
                  <a:pt x="7693" y="12486"/>
                </a:cubicBezTo>
                <a:cubicBezTo>
                  <a:pt x="7737" y="12489"/>
                  <a:pt x="7781" y="12491"/>
                  <a:pt x="7825" y="12491"/>
                </a:cubicBezTo>
                <a:cubicBezTo>
                  <a:pt x="7870" y="12491"/>
                  <a:pt x="7914" y="12490"/>
                  <a:pt x="7959" y="12482"/>
                </a:cubicBezTo>
                <a:cubicBezTo>
                  <a:pt x="8004" y="12474"/>
                  <a:pt x="8050" y="12466"/>
                  <a:pt x="8095" y="12459"/>
                </a:cubicBezTo>
                <a:cubicBezTo>
                  <a:pt x="8138" y="12452"/>
                  <a:pt x="8181" y="12449"/>
                  <a:pt x="8224" y="12444"/>
                </a:cubicBezTo>
                <a:cubicBezTo>
                  <a:pt x="8326" y="12433"/>
                  <a:pt x="8430" y="12423"/>
                  <a:pt x="8531" y="12409"/>
                </a:cubicBezTo>
                <a:cubicBezTo>
                  <a:pt x="8522" y="12410"/>
                  <a:pt x="8518" y="12410"/>
                  <a:pt x="8511" y="12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Ink 12"/>
          <p:cNvSpPr/>
          <p:nvPr/>
        </p:nvSpPr>
        <p:spPr>
          <a:xfrm>
            <a:off x="3063960" y="4192560"/>
            <a:ext cx="349200" cy="270000"/>
          </a:xfrm>
          <a:custGeom>
            <a:avLst/>
            <a:gdLst/>
            <a:ahLst/>
            <a:rect l="l" t="t" r="r" b="b"/>
            <a:pathLst>
              <a:path w="968" h="752">
                <a:moveTo>
                  <a:pt x="8520" y="12396"/>
                </a:moveTo>
                <a:cubicBezTo>
                  <a:pt x="8514" y="12366"/>
                  <a:pt x="8507" y="12352"/>
                  <a:pt x="8520" y="12324"/>
                </a:cubicBezTo>
                <a:cubicBezTo>
                  <a:pt x="8530" y="12303"/>
                  <a:pt x="8545" y="12288"/>
                  <a:pt x="8560" y="12270"/>
                </a:cubicBezTo>
                <a:cubicBezTo>
                  <a:pt x="8580" y="12246"/>
                  <a:pt x="8602" y="12222"/>
                  <a:pt x="8622" y="12198"/>
                </a:cubicBezTo>
                <a:cubicBezTo>
                  <a:pt x="8648" y="12166"/>
                  <a:pt x="8675" y="12135"/>
                  <a:pt x="8703" y="12105"/>
                </a:cubicBezTo>
                <a:cubicBezTo>
                  <a:pt x="8734" y="12072"/>
                  <a:pt x="8766" y="12040"/>
                  <a:pt x="8800" y="12011"/>
                </a:cubicBezTo>
                <a:cubicBezTo>
                  <a:pt x="8837" y="11979"/>
                  <a:pt x="8877" y="11951"/>
                  <a:pt x="8916" y="11922"/>
                </a:cubicBezTo>
                <a:cubicBezTo>
                  <a:pt x="8956" y="11893"/>
                  <a:pt x="8996" y="11865"/>
                  <a:pt x="9035" y="11835"/>
                </a:cubicBezTo>
                <a:cubicBezTo>
                  <a:pt x="9064" y="11812"/>
                  <a:pt x="9093" y="11788"/>
                  <a:pt x="9123" y="11765"/>
                </a:cubicBezTo>
                <a:cubicBezTo>
                  <a:pt x="9145" y="11748"/>
                  <a:pt x="9165" y="11732"/>
                  <a:pt x="9189" y="11718"/>
                </a:cubicBezTo>
                <a:cubicBezTo>
                  <a:pt x="9210" y="11706"/>
                  <a:pt x="9232" y="11696"/>
                  <a:pt x="9255" y="11688"/>
                </a:cubicBezTo>
                <a:cubicBezTo>
                  <a:pt x="9322" y="11664"/>
                  <a:pt x="9436" y="11669"/>
                  <a:pt x="9470" y="11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Ink 13"/>
          <p:cNvSpPr/>
          <p:nvPr/>
        </p:nvSpPr>
        <p:spPr>
          <a:xfrm>
            <a:off x="3373560" y="3471840"/>
            <a:ext cx="28440" cy="754200"/>
          </a:xfrm>
          <a:custGeom>
            <a:avLst/>
            <a:gdLst/>
            <a:ahLst/>
            <a:rect l="l" t="t" r="r" b="b"/>
            <a:pathLst>
              <a:path w="80" h="2097">
                <a:moveTo>
                  <a:pt x="9373" y="9739"/>
                </a:moveTo>
                <a:cubicBezTo>
                  <a:pt x="9371" y="9706"/>
                  <a:pt x="9371" y="9675"/>
                  <a:pt x="9372" y="9642"/>
                </a:cubicBezTo>
                <a:cubicBezTo>
                  <a:pt x="9379" y="9654"/>
                  <a:pt x="9392" y="9668"/>
                  <a:pt x="9397" y="9687"/>
                </a:cubicBezTo>
                <a:cubicBezTo>
                  <a:pt x="9406" y="9719"/>
                  <a:pt x="9409" y="9755"/>
                  <a:pt x="9413" y="9788"/>
                </a:cubicBezTo>
                <a:cubicBezTo>
                  <a:pt x="9429" y="9940"/>
                  <a:pt x="9439" y="10095"/>
                  <a:pt x="9432" y="10247"/>
                </a:cubicBezTo>
                <a:cubicBezTo>
                  <a:pt x="9423" y="10436"/>
                  <a:pt x="9411" y="10625"/>
                  <a:pt x="9402" y="10814"/>
                </a:cubicBezTo>
                <a:cubicBezTo>
                  <a:pt x="9399" y="10889"/>
                  <a:pt x="9398" y="10966"/>
                  <a:pt x="9403" y="11041"/>
                </a:cubicBezTo>
                <a:cubicBezTo>
                  <a:pt x="9419" y="11265"/>
                  <a:pt x="9481" y="11501"/>
                  <a:pt x="9437" y="11724"/>
                </a:cubicBezTo>
                <a:cubicBezTo>
                  <a:pt x="9429" y="11767"/>
                  <a:pt x="9405" y="11676"/>
                  <a:pt x="9403" y="11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Ink 14"/>
          <p:cNvSpPr/>
          <p:nvPr/>
        </p:nvSpPr>
        <p:spPr>
          <a:xfrm>
            <a:off x="3008160" y="3143160"/>
            <a:ext cx="382680" cy="401760"/>
          </a:xfrm>
          <a:custGeom>
            <a:avLst/>
            <a:gdLst/>
            <a:ahLst/>
            <a:rect l="l" t="t" r="r" b="b"/>
            <a:pathLst>
              <a:path w="1066" h="1113">
                <a:moveTo>
                  <a:pt x="8355" y="8733"/>
                </a:moveTo>
                <a:cubicBezTo>
                  <a:pt x="8360" y="8745"/>
                  <a:pt x="8367" y="8760"/>
                  <a:pt x="8373" y="8778"/>
                </a:cubicBezTo>
                <a:cubicBezTo>
                  <a:pt x="8381" y="8801"/>
                  <a:pt x="8389" y="8822"/>
                  <a:pt x="8396" y="8845"/>
                </a:cubicBezTo>
                <a:cubicBezTo>
                  <a:pt x="8406" y="8882"/>
                  <a:pt x="8412" y="8919"/>
                  <a:pt x="8421" y="8956"/>
                </a:cubicBezTo>
                <a:cubicBezTo>
                  <a:pt x="8432" y="9001"/>
                  <a:pt x="8442" y="9047"/>
                  <a:pt x="8456" y="9091"/>
                </a:cubicBezTo>
                <a:cubicBezTo>
                  <a:pt x="8501" y="9237"/>
                  <a:pt x="8553" y="9396"/>
                  <a:pt x="8633" y="9527"/>
                </a:cubicBezTo>
                <a:cubicBezTo>
                  <a:pt x="8653" y="9560"/>
                  <a:pt x="8678" y="9590"/>
                  <a:pt x="8706" y="9617"/>
                </a:cubicBezTo>
                <a:cubicBezTo>
                  <a:pt x="8817" y="9724"/>
                  <a:pt x="8960" y="9833"/>
                  <a:pt x="9118" y="9844"/>
                </a:cubicBezTo>
                <a:cubicBezTo>
                  <a:pt x="9200" y="9849"/>
                  <a:pt x="9287" y="9847"/>
                  <a:pt x="9369" y="9837"/>
                </a:cubicBezTo>
                <a:cubicBezTo>
                  <a:pt x="9390" y="9835"/>
                  <a:pt x="9392" y="9830"/>
                  <a:pt x="9412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Ink 15"/>
          <p:cNvSpPr/>
          <p:nvPr/>
        </p:nvSpPr>
        <p:spPr>
          <a:xfrm>
            <a:off x="2014560" y="3181320"/>
            <a:ext cx="341280" cy="335160"/>
          </a:xfrm>
          <a:custGeom>
            <a:avLst/>
            <a:gdLst/>
            <a:ahLst/>
            <a:rect l="l" t="t" r="r" b="b"/>
            <a:pathLst>
              <a:path w="951" h="934">
                <a:moveTo>
                  <a:pt x="5595" y="9709"/>
                </a:moveTo>
                <a:cubicBezTo>
                  <a:pt x="5651" y="9741"/>
                  <a:pt x="5675" y="9773"/>
                  <a:pt x="5744" y="9764"/>
                </a:cubicBezTo>
                <a:cubicBezTo>
                  <a:pt x="5791" y="9758"/>
                  <a:pt x="5840" y="9725"/>
                  <a:pt x="5882" y="9703"/>
                </a:cubicBezTo>
                <a:cubicBezTo>
                  <a:pt x="5936" y="9675"/>
                  <a:pt x="5988" y="9643"/>
                  <a:pt x="6038" y="9608"/>
                </a:cubicBezTo>
                <a:cubicBezTo>
                  <a:pt x="6077" y="9581"/>
                  <a:pt x="6111" y="9550"/>
                  <a:pt x="6143" y="9515"/>
                </a:cubicBezTo>
                <a:cubicBezTo>
                  <a:pt x="6170" y="9486"/>
                  <a:pt x="6190" y="9454"/>
                  <a:pt x="6212" y="9422"/>
                </a:cubicBezTo>
                <a:cubicBezTo>
                  <a:pt x="6232" y="9392"/>
                  <a:pt x="6250" y="9359"/>
                  <a:pt x="6265" y="9326"/>
                </a:cubicBezTo>
                <a:cubicBezTo>
                  <a:pt x="6288" y="9273"/>
                  <a:pt x="6296" y="9220"/>
                  <a:pt x="6302" y="9163"/>
                </a:cubicBezTo>
                <a:cubicBezTo>
                  <a:pt x="6312" y="9068"/>
                  <a:pt x="6340" y="8994"/>
                  <a:pt x="6413" y="8929"/>
                </a:cubicBezTo>
                <a:cubicBezTo>
                  <a:pt x="6442" y="8903"/>
                  <a:pt x="6474" y="8874"/>
                  <a:pt x="6503" y="8849"/>
                </a:cubicBezTo>
                <a:cubicBezTo>
                  <a:pt x="6521" y="8833"/>
                  <a:pt x="6523" y="8843"/>
                  <a:pt x="6545" y="8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Ink 16"/>
          <p:cNvSpPr/>
          <p:nvPr/>
        </p:nvSpPr>
        <p:spPr>
          <a:xfrm>
            <a:off x="6026040" y="4302000"/>
            <a:ext cx="1725840" cy="1067040"/>
          </a:xfrm>
          <a:custGeom>
            <a:avLst/>
            <a:gdLst/>
            <a:ahLst/>
            <a:rect l="l" t="t" r="r" b="b"/>
            <a:pathLst>
              <a:path w="4793" h="2965">
                <a:moveTo>
                  <a:pt x="16738" y="14913"/>
                </a:moveTo>
                <a:cubicBezTo>
                  <a:pt x="16782" y="14882"/>
                  <a:pt x="16821" y="14847"/>
                  <a:pt x="16868" y="14817"/>
                </a:cubicBezTo>
                <a:cubicBezTo>
                  <a:pt x="17904" y="14145"/>
                  <a:pt x="18947" y="13475"/>
                  <a:pt x="20016" y="12858"/>
                </a:cubicBezTo>
                <a:cubicBezTo>
                  <a:pt x="20484" y="12588"/>
                  <a:pt x="20988" y="12344"/>
                  <a:pt x="21429" y="12031"/>
                </a:cubicBezTo>
                <a:cubicBezTo>
                  <a:pt x="21463" y="12004"/>
                  <a:pt x="21496" y="11976"/>
                  <a:pt x="21530" y="11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’s Integral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itial attempts to provide methods for calculating shell-side pressure drop and heat transfer coefficient were based on experimental data for typical heat exchang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se methods is the well-known Kern method, which was an attempt to correlate data for standard exchangers by a simple equation analogous to equations for flow in tub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restricted to a fixed baffle cut (25%) and cannot adequately account for baffle-to-shell and tube-to-baffle leaka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 the Kern equation is not particularly accurate, it does allow a very simple and rapid calculation of shell-side coefficients and pressure drop to be carried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Steps in Desig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be side Thermal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analysis for Shell side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Heat Transfer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aulic Analysis of Tube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aulic Analysis of Shell s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 allocation of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flow velo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guess for number of tu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ion for standard tube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number of tubes on tube length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Ink 2"/>
          <p:cNvSpPr/>
          <p:nvPr/>
        </p:nvSpPr>
        <p:spPr>
          <a:xfrm>
            <a:off x="7072200" y="2844720"/>
            <a:ext cx="1673280" cy="862200"/>
          </a:xfrm>
          <a:custGeom>
            <a:avLst/>
            <a:gdLst/>
            <a:ahLst/>
            <a:rect l="l" t="t" r="r" b="b"/>
            <a:pathLst>
              <a:path w="4648" h="2396">
                <a:moveTo>
                  <a:pt x="20034" y="7978"/>
                </a:moveTo>
                <a:cubicBezTo>
                  <a:pt x="20043" y="7951"/>
                  <a:pt x="20051" y="7926"/>
                  <a:pt x="20062" y="7901"/>
                </a:cubicBezTo>
                <a:cubicBezTo>
                  <a:pt x="20078" y="7936"/>
                  <a:pt x="20083" y="7973"/>
                  <a:pt x="20088" y="8012"/>
                </a:cubicBezTo>
                <a:cubicBezTo>
                  <a:pt x="20108" y="8161"/>
                  <a:pt x="20207" y="8665"/>
                  <a:pt x="20114" y="8794"/>
                </a:cubicBezTo>
                <a:cubicBezTo>
                  <a:pt x="20112" y="8787"/>
                  <a:pt x="20111" y="8781"/>
                  <a:pt x="20109" y="8774"/>
                </a:cubicBezTo>
              </a:path>
              <a:path w="4648" h="2396">
                <a:moveTo>
                  <a:pt x="19989" y="8097"/>
                </a:moveTo>
                <a:cubicBezTo>
                  <a:pt x="19977" y="8062"/>
                  <a:pt x="19963" y="8037"/>
                  <a:pt x="19973" y="8001"/>
                </a:cubicBezTo>
                <a:cubicBezTo>
                  <a:pt x="19984" y="7962"/>
                  <a:pt x="20031" y="7947"/>
                  <a:pt x="20065" y="7938"/>
                </a:cubicBezTo>
                <a:cubicBezTo>
                  <a:pt x="20126" y="7922"/>
                  <a:pt x="20197" y="7919"/>
                  <a:pt x="20259" y="7932"/>
                </a:cubicBezTo>
                <a:cubicBezTo>
                  <a:pt x="20397" y="7960"/>
                  <a:pt x="20504" y="8055"/>
                  <a:pt x="20551" y="8187"/>
                </a:cubicBezTo>
                <a:cubicBezTo>
                  <a:pt x="20583" y="8279"/>
                  <a:pt x="20587" y="8392"/>
                  <a:pt x="20550" y="8483"/>
                </a:cubicBezTo>
                <a:cubicBezTo>
                  <a:pt x="20523" y="8550"/>
                  <a:pt x="20476" y="8602"/>
                  <a:pt x="20418" y="8643"/>
                </a:cubicBezTo>
                <a:cubicBezTo>
                  <a:pt x="20356" y="8687"/>
                  <a:pt x="20276" y="8719"/>
                  <a:pt x="20202" y="8736"/>
                </a:cubicBezTo>
                <a:cubicBezTo>
                  <a:pt x="20151" y="8747"/>
                  <a:pt x="20100" y="8755"/>
                  <a:pt x="20049" y="8767"/>
                </a:cubicBezTo>
                <a:cubicBezTo>
                  <a:pt x="20040" y="8770"/>
                  <a:pt x="20030" y="8772"/>
                  <a:pt x="20021" y="8775"/>
                </a:cubicBezTo>
              </a:path>
              <a:path w="4648" h="2396">
                <a:moveTo>
                  <a:pt x="19666" y="9054"/>
                </a:moveTo>
                <a:cubicBezTo>
                  <a:pt x="19661" y="9070"/>
                  <a:pt x="19635" y="9055"/>
                  <a:pt x="19686" y="9078"/>
                </a:cubicBezTo>
                <a:cubicBezTo>
                  <a:pt x="19734" y="9100"/>
                  <a:pt x="19792" y="9112"/>
                  <a:pt x="19845" y="9115"/>
                </a:cubicBezTo>
                <a:cubicBezTo>
                  <a:pt x="19965" y="9122"/>
                  <a:pt x="20086" y="9108"/>
                  <a:pt x="20204" y="9089"/>
                </a:cubicBezTo>
                <a:cubicBezTo>
                  <a:pt x="20366" y="9063"/>
                  <a:pt x="20528" y="9037"/>
                  <a:pt x="20690" y="9010"/>
                </a:cubicBezTo>
                <a:cubicBezTo>
                  <a:pt x="20834" y="8986"/>
                  <a:pt x="20979" y="8964"/>
                  <a:pt x="21125" y="8956"/>
                </a:cubicBezTo>
                <a:cubicBezTo>
                  <a:pt x="21184" y="8953"/>
                  <a:pt x="21125" y="8972"/>
                  <a:pt x="21113" y="8984"/>
                </a:cubicBezTo>
              </a:path>
              <a:path w="4648" h="2396">
                <a:moveTo>
                  <a:pt x="20131" y="9477"/>
                </a:moveTo>
                <a:cubicBezTo>
                  <a:pt x="20145" y="9437"/>
                  <a:pt x="20138" y="9425"/>
                  <a:pt x="20170" y="9401"/>
                </a:cubicBezTo>
                <a:cubicBezTo>
                  <a:pt x="20186" y="9389"/>
                  <a:pt x="20211" y="9380"/>
                  <a:pt x="20232" y="9383"/>
                </a:cubicBezTo>
                <a:cubicBezTo>
                  <a:pt x="20261" y="9387"/>
                  <a:pt x="20268" y="9407"/>
                  <a:pt x="20280" y="9432"/>
                </a:cubicBezTo>
                <a:cubicBezTo>
                  <a:pt x="20302" y="9479"/>
                  <a:pt x="20296" y="9547"/>
                  <a:pt x="20296" y="9597"/>
                </a:cubicBezTo>
                <a:cubicBezTo>
                  <a:pt x="20297" y="9741"/>
                  <a:pt x="20277" y="9885"/>
                  <a:pt x="20259" y="10028"/>
                </a:cubicBezTo>
                <a:cubicBezTo>
                  <a:pt x="20251" y="10093"/>
                  <a:pt x="20242" y="10158"/>
                  <a:pt x="20238" y="10224"/>
                </a:cubicBezTo>
                <a:cubicBezTo>
                  <a:pt x="20237" y="10247"/>
                  <a:pt x="20235" y="10270"/>
                  <a:pt x="20235" y="10293"/>
                </a:cubicBezTo>
                <a:cubicBezTo>
                  <a:pt x="20252" y="10294"/>
                  <a:pt x="20268" y="10296"/>
                  <a:pt x="20286" y="10295"/>
                </a:cubicBezTo>
                <a:cubicBezTo>
                  <a:pt x="20341" y="10292"/>
                  <a:pt x="20397" y="10286"/>
                  <a:pt x="20452" y="10280"/>
                </a:cubicBezTo>
                <a:cubicBezTo>
                  <a:pt x="20632" y="10261"/>
                  <a:pt x="20811" y="10232"/>
                  <a:pt x="20991" y="10214"/>
                </a:cubicBezTo>
                <a:cubicBezTo>
                  <a:pt x="21003" y="10213"/>
                  <a:pt x="21006" y="10213"/>
                  <a:pt x="21014" y="10213"/>
                </a:cubicBezTo>
              </a:path>
              <a:path w="4648" h="2396">
                <a:moveTo>
                  <a:pt x="22213" y="8299"/>
                </a:moveTo>
                <a:cubicBezTo>
                  <a:pt x="22222" y="8263"/>
                  <a:pt x="22231" y="8230"/>
                  <a:pt x="22238" y="8195"/>
                </a:cubicBezTo>
                <a:cubicBezTo>
                  <a:pt x="22238" y="8191"/>
                  <a:pt x="22238" y="8186"/>
                  <a:pt x="22238" y="8182"/>
                </a:cubicBezTo>
                <a:cubicBezTo>
                  <a:pt x="22210" y="8218"/>
                  <a:pt x="22182" y="8256"/>
                  <a:pt x="22153" y="8291"/>
                </a:cubicBezTo>
                <a:cubicBezTo>
                  <a:pt x="22086" y="8372"/>
                  <a:pt x="22015" y="8451"/>
                  <a:pt x="21941" y="8525"/>
                </a:cubicBezTo>
                <a:cubicBezTo>
                  <a:pt x="21873" y="8593"/>
                  <a:pt x="21801" y="8657"/>
                  <a:pt x="21734" y="8726"/>
                </a:cubicBezTo>
                <a:cubicBezTo>
                  <a:pt x="21695" y="8766"/>
                  <a:pt x="21646" y="8814"/>
                  <a:pt x="21688" y="8868"/>
                </a:cubicBezTo>
                <a:cubicBezTo>
                  <a:pt x="21729" y="8920"/>
                  <a:pt x="21825" y="8951"/>
                  <a:pt x="21881" y="8980"/>
                </a:cubicBezTo>
                <a:cubicBezTo>
                  <a:pt x="21981" y="9032"/>
                  <a:pt x="22080" y="9085"/>
                  <a:pt x="22176" y="9144"/>
                </a:cubicBezTo>
                <a:cubicBezTo>
                  <a:pt x="22255" y="9192"/>
                  <a:pt x="22329" y="9244"/>
                  <a:pt x="22405" y="9296"/>
                </a:cubicBezTo>
                <a:cubicBezTo>
                  <a:pt x="22419" y="9306"/>
                  <a:pt x="22434" y="9315"/>
                  <a:pt x="22448" y="9325"/>
                </a:cubicBezTo>
              </a:path>
              <a:path w="4648" h="2396">
                <a:moveTo>
                  <a:pt x="23064" y="8252"/>
                </a:moveTo>
                <a:cubicBezTo>
                  <a:pt x="23092" y="8227"/>
                  <a:pt x="23090" y="8213"/>
                  <a:pt x="23111" y="8218"/>
                </a:cubicBezTo>
                <a:cubicBezTo>
                  <a:pt x="23098" y="8258"/>
                  <a:pt x="23083" y="8290"/>
                  <a:pt x="23060" y="8328"/>
                </a:cubicBezTo>
                <a:cubicBezTo>
                  <a:pt x="23018" y="8400"/>
                  <a:pt x="22964" y="8458"/>
                  <a:pt x="22905" y="8517"/>
                </a:cubicBezTo>
                <a:cubicBezTo>
                  <a:pt x="22844" y="8578"/>
                  <a:pt x="22707" y="8657"/>
                  <a:pt x="22680" y="8743"/>
                </a:cubicBezTo>
                <a:cubicBezTo>
                  <a:pt x="22662" y="8800"/>
                  <a:pt x="22724" y="8845"/>
                  <a:pt x="22762" y="8872"/>
                </a:cubicBezTo>
                <a:cubicBezTo>
                  <a:pt x="22932" y="8993"/>
                  <a:pt x="23136" y="9071"/>
                  <a:pt x="23319" y="9170"/>
                </a:cubicBezTo>
                <a:cubicBezTo>
                  <a:pt x="23406" y="9217"/>
                  <a:pt x="23489" y="9264"/>
                  <a:pt x="23566" y="9327"/>
                </a:cubicBezTo>
                <a:cubicBezTo>
                  <a:pt x="23574" y="9334"/>
                  <a:pt x="23582" y="9340"/>
                  <a:pt x="23590" y="9347"/>
                </a:cubicBezTo>
              </a:path>
              <a:path w="4648" h="2396">
                <a:moveTo>
                  <a:pt x="24085" y="8131"/>
                </a:moveTo>
                <a:cubicBezTo>
                  <a:pt x="24116" y="8094"/>
                  <a:pt x="24120" y="8090"/>
                  <a:pt x="24148" y="8066"/>
                </a:cubicBezTo>
                <a:cubicBezTo>
                  <a:pt x="24207" y="8166"/>
                  <a:pt x="24233" y="8257"/>
                  <a:pt x="24254" y="8373"/>
                </a:cubicBezTo>
                <a:cubicBezTo>
                  <a:pt x="24285" y="8543"/>
                  <a:pt x="24292" y="8716"/>
                  <a:pt x="24294" y="8888"/>
                </a:cubicBezTo>
                <a:cubicBezTo>
                  <a:pt x="24296" y="9046"/>
                  <a:pt x="24290" y="9204"/>
                  <a:pt x="24262" y="9360"/>
                </a:cubicBezTo>
                <a:cubicBezTo>
                  <a:pt x="24245" y="9442"/>
                  <a:pt x="24241" y="9464"/>
                  <a:pt x="24225" y="9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Ink 3"/>
          <p:cNvSpPr/>
          <p:nvPr/>
        </p:nvSpPr>
        <p:spPr>
          <a:xfrm>
            <a:off x="6122880" y="2816280"/>
            <a:ext cx="522360" cy="1811160"/>
          </a:xfrm>
          <a:custGeom>
            <a:avLst/>
            <a:gdLst/>
            <a:ahLst/>
            <a:rect l="l" t="t" r="r" b="b"/>
            <a:pathLst>
              <a:path w="1449" h="5035">
                <a:moveTo>
                  <a:pt x="17136" y="7874"/>
                </a:moveTo>
                <a:cubicBezTo>
                  <a:pt x="17125" y="7877"/>
                  <a:pt x="17121" y="7878"/>
                  <a:pt x="17115" y="7882"/>
                </a:cubicBezTo>
                <a:cubicBezTo>
                  <a:pt x="17119" y="7883"/>
                  <a:pt x="17132" y="7914"/>
                  <a:pt x="17163" y="7916"/>
                </a:cubicBezTo>
                <a:cubicBezTo>
                  <a:pt x="17359" y="7927"/>
                  <a:pt x="17560" y="7872"/>
                  <a:pt x="17754" y="7849"/>
                </a:cubicBezTo>
                <a:cubicBezTo>
                  <a:pt x="17845" y="7838"/>
                  <a:pt x="18162" y="7761"/>
                  <a:pt x="18238" y="7840"/>
                </a:cubicBezTo>
                <a:cubicBezTo>
                  <a:pt x="18281" y="7885"/>
                  <a:pt x="18247" y="7922"/>
                  <a:pt x="18237" y="7974"/>
                </a:cubicBezTo>
                <a:cubicBezTo>
                  <a:pt x="18171" y="8324"/>
                  <a:pt x="18115" y="8607"/>
                  <a:pt x="18150" y="8973"/>
                </a:cubicBezTo>
                <a:cubicBezTo>
                  <a:pt x="18237" y="9869"/>
                  <a:pt x="18423" y="10749"/>
                  <a:pt x="18452" y="11651"/>
                </a:cubicBezTo>
                <a:cubicBezTo>
                  <a:pt x="18461" y="11938"/>
                  <a:pt x="18511" y="12326"/>
                  <a:pt x="18388" y="12597"/>
                </a:cubicBezTo>
                <a:cubicBezTo>
                  <a:pt x="18355" y="12670"/>
                  <a:pt x="18306" y="12714"/>
                  <a:pt x="18237" y="12752"/>
                </a:cubicBezTo>
                <a:cubicBezTo>
                  <a:pt x="18147" y="12802"/>
                  <a:pt x="18048" y="12818"/>
                  <a:pt x="17947" y="12832"/>
                </a:cubicBezTo>
                <a:cubicBezTo>
                  <a:pt x="17652" y="12874"/>
                  <a:pt x="17333" y="12867"/>
                  <a:pt x="17036" y="12849"/>
                </a:cubicBezTo>
                <a:cubicBezTo>
                  <a:pt x="17027" y="12847"/>
                  <a:pt x="17017" y="12846"/>
                  <a:pt x="17008" y="128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 Shell and Tube Heat Exchang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and tube heat exchangers are the most widespread and commonly used basic heat exchanger configuration in the process indust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sons for this general acceptance are seve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hell and tube heat exchanger provides a comparatively large ratio of heat transfer area to volume and we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provides this surface in a form which is relatively easy to construct in a wide range of si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Concurrence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mechanically rugged enough to withstand normal shop fabrication stresses, shipping and field erection stresses, and normal operating cond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hell and tube exchanger can be reasonably easily cleaned, and those components most subject to failure - gaskets and tubes – can be easily replac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p facilities for the successful design and construction of shell and tube exchangers are available throughout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Shell &amp; Tube Heat Excha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000080" y="752400"/>
            <a:ext cx="7143840" cy="5353200"/>
          </a:xfrm>
          <a:prstGeom prst="rect">
            <a:avLst/>
          </a:prstGeom>
          <a:ln w="0">
            <a:noFill/>
          </a:ln>
        </p:spPr>
      </p:pic>
      <p:sp>
        <p:nvSpPr>
          <p:cNvPr id="93" name="Ink 4"/>
          <p:cNvSpPr/>
          <p:nvPr/>
        </p:nvSpPr>
        <p:spPr>
          <a:xfrm>
            <a:off x="1550880" y="3119400"/>
            <a:ext cx="5867640" cy="2233800"/>
          </a:xfrm>
          <a:custGeom>
            <a:avLst/>
            <a:gdLst/>
            <a:ahLst/>
            <a:rect l="l" t="t" r="r" b="b"/>
            <a:pathLst>
              <a:path w="16300" h="6206">
                <a:moveTo>
                  <a:pt x="4372" y="13380"/>
                </a:moveTo>
                <a:cubicBezTo>
                  <a:pt x="4378" y="13326"/>
                  <a:pt x="4351" y="13207"/>
                  <a:pt x="4381" y="13078"/>
                </a:cubicBezTo>
                <a:cubicBezTo>
                  <a:pt x="4573" y="12239"/>
                  <a:pt x="4949" y="11298"/>
                  <a:pt x="5379" y="10558"/>
                </a:cubicBezTo>
                <a:cubicBezTo>
                  <a:pt x="6190" y="9163"/>
                  <a:pt x="7583" y="8781"/>
                  <a:pt x="9107" y="8711"/>
                </a:cubicBezTo>
                <a:cubicBezTo>
                  <a:pt x="11538" y="8599"/>
                  <a:pt x="13980" y="8672"/>
                  <a:pt x="16407" y="8837"/>
                </a:cubicBezTo>
                <a:cubicBezTo>
                  <a:pt x="17494" y="8911"/>
                  <a:pt x="19132" y="8769"/>
                  <a:pt x="20163" y="9118"/>
                </a:cubicBezTo>
                <a:cubicBezTo>
                  <a:pt x="20390" y="9195"/>
                  <a:pt x="20348" y="9165"/>
                  <a:pt x="20421" y="9364"/>
                </a:cubicBezTo>
                <a:cubicBezTo>
                  <a:pt x="20697" y="10122"/>
                  <a:pt x="20463" y="11633"/>
                  <a:pt x="20521" y="12451"/>
                </a:cubicBezTo>
                <a:cubicBezTo>
                  <a:pt x="20577" y="13240"/>
                  <a:pt x="20651" y="14081"/>
                  <a:pt x="20591" y="14867"/>
                </a:cubicBezTo>
                <a:cubicBezTo>
                  <a:pt x="20583" y="14868"/>
                  <a:pt x="20576" y="14869"/>
                  <a:pt x="20568" y="148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Ink 5"/>
          <p:cNvSpPr/>
          <p:nvPr/>
        </p:nvSpPr>
        <p:spPr>
          <a:xfrm>
            <a:off x="2462040" y="2622600"/>
            <a:ext cx="4859640" cy="1666800"/>
          </a:xfrm>
          <a:custGeom>
            <a:avLst/>
            <a:gdLst/>
            <a:ahLst/>
            <a:rect l="l" t="t" r="r" b="b"/>
            <a:pathLst>
              <a:path w="13500" h="4632">
                <a:moveTo>
                  <a:pt x="6839" y="11501"/>
                </a:moveTo>
                <a:cubicBezTo>
                  <a:pt x="6886" y="11441"/>
                  <a:pt x="7005" y="11404"/>
                  <a:pt x="7067" y="11246"/>
                </a:cubicBezTo>
                <a:cubicBezTo>
                  <a:pt x="7284" y="10690"/>
                  <a:pt x="7145" y="10037"/>
                  <a:pt x="7237" y="9454"/>
                </a:cubicBezTo>
                <a:cubicBezTo>
                  <a:pt x="7343" y="8780"/>
                  <a:pt x="7588" y="8171"/>
                  <a:pt x="8051" y="7664"/>
                </a:cubicBezTo>
                <a:cubicBezTo>
                  <a:pt x="8313" y="7377"/>
                  <a:pt x="8628" y="7167"/>
                  <a:pt x="8998" y="7383"/>
                </a:cubicBezTo>
                <a:cubicBezTo>
                  <a:pt x="9326" y="7575"/>
                  <a:pt x="9486" y="8177"/>
                  <a:pt x="9581" y="8512"/>
                </a:cubicBezTo>
                <a:cubicBezTo>
                  <a:pt x="9775" y="9197"/>
                  <a:pt x="9693" y="10076"/>
                  <a:pt x="10212" y="10630"/>
                </a:cubicBezTo>
                <a:cubicBezTo>
                  <a:pt x="10560" y="11001"/>
                  <a:pt x="11091" y="11258"/>
                  <a:pt x="11567" y="10967"/>
                </a:cubicBezTo>
                <a:cubicBezTo>
                  <a:pt x="11891" y="10769"/>
                  <a:pt x="12037" y="10342"/>
                  <a:pt x="12168" y="10005"/>
                </a:cubicBezTo>
                <a:cubicBezTo>
                  <a:pt x="12399" y="9413"/>
                  <a:pt x="12551" y="8833"/>
                  <a:pt x="12902" y="8292"/>
                </a:cubicBezTo>
                <a:cubicBezTo>
                  <a:pt x="13144" y="7919"/>
                  <a:pt x="13559" y="7493"/>
                  <a:pt x="14052" y="7585"/>
                </a:cubicBezTo>
                <a:cubicBezTo>
                  <a:pt x="14690" y="7704"/>
                  <a:pt x="14941" y="8572"/>
                  <a:pt x="15094" y="9092"/>
                </a:cubicBezTo>
                <a:cubicBezTo>
                  <a:pt x="15265" y="9674"/>
                  <a:pt x="15307" y="10587"/>
                  <a:pt x="15791" y="11015"/>
                </a:cubicBezTo>
                <a:cubicBezTo>
                  <a:pt x="16168" y="11349"/>
                  <a:pt x="16568" y="11304"/>
                  <a:pt x="16989" y="11091"/>
                </a:cubicBezTo>
                <a:cubicBezTo>
                  <a:pt x="17683" y="10739"/>
                  <a:pt x="17805" y="10135"/>
                  <a:pt x="17717" y="9428"/>
                </a:cubicBezTo>
                <a:cubicBezTo>
                  <a:pt x="17673" y="9077"/>
                  <a:pt x="17523" y="7488"/>
                  <a:pt x="18163" y="7426"/>
                </a:cubicBezTo>
                <a:cubicBezTo>
                  <a:pt x="18357" y="7407"/>
                  <a:pt x="18325" y="7576"/>
                  <a:pt x="18476" y="7654"/>
                </a:cubicBezTo>
                <a:cubicBezTo>
                  <a:pt x="18765" y="7804"/>
                  <a:pt x="19077" y="7809"/>
                  <a:pt x="19358" y="7996"/>
                </a:cubicBezTo>
                <a:cubicBezTo>
                  <a:pt x="19686" y="8215"/>
                  <a:pt x="19919" y="8639"/>
                  <a:pt x="20023" y="9017"/>
                </a:cubicBezTo>
                <a:cubicBezTo>
                  <a:pt x="20220" y="9735"/>
                  <a:pt x="20074" y="10529"/>
                  <a:pt x="20176" y="11261"/>
                </a:cubicBezTo>
                <a:cubicBezTo>
                  <a:pt x="20208" y="11493"/>
                  <a:pt x="20274" y="11695"/>
                  <a:pt x="20338" y="11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r Details of S&amp;T H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819840" cy="5105520"/>
          </a:xfrm>
          <a:prstGeom prst="rect">
            <a:avLst/>
          </a:prstGeom>
          <a:ln w="0">
            <a:noFill/>
          </a:ln>
        </p:spPr>
      </p:pic>
      <p:sp>
        <p:nvSpPr>
          <p:cNvPr id="97" name="Ink 3"/>
          <p:cNvSpPr/>
          <p:nvPr/>
        </p:nvSpPr>
        <p:spPr>
          <a:xfrm>
            <a:off x="8729640" y="4465800"/>
            <a:ext cx="17640" cy="12600"/>
          </a:xfrm>
          <a:custGeom>
            <a:avLst/>
            <a:gdLst/>
            <a:ahLst/>
            <a:rect l="l" t="t" r="r" b="b"/>
            <a:pathLst>
              <a:path w="50" h="36">
                <a:moveTo>
                  <a:pt x="24297" y="12404"/>
                </a:moveTo>
                <a:cubicBezTo>
                  <a:pt x="24273" y="12433"/>
                  <a:pt x="24280" y="12436"/>
                  <a:pt x="24248" y="12439"/>
                </a:cubicBezTo>
              </a:path>
            </a:pathLst>
          </a:custGeom>
          <a:noFill/>
          <a:ln cap="rnd" w="19080">
            <a:solidFill>
              <a:srgbClr val="5c83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Ink 5"/>
          <p:cNvSpPr/>
          <p:nvPr/>
        </p:nvSpPr>
        <p:spPr>
          <a:xfrm>
            <a:off x="3348000" y="4156200"/>
            <a:ext cx="684360" cy="890640"/>
          </a:xfrm>
          <a:custGeom>
            <a:avLst/>
            <a:gdLst/>
            <a:ahLst/>
            <a:rect l="l" t="t" r="r" b="b"/>
            <a:pathLst>
              <a:path w="1899" h="2477">
                <a:moveTo>
                  <a:pt x="10528" y="11643"/>
                </a:moveTo>
                <a:cubicBezTo>
                  <a:pt x="10501" y="11626"/>
                  <a:pt x="10477" y="11608"/>
                  <a:pt x="10449" y="11593"/>
                </a:cubicBezTo>
                <a:cubicBezTo>
                  <a:pt x="10387" y="11559"/>
                  <a:pt x="10327" y="11533"/>
                  <a:pt x="10255" y="11546"/>
                </a:cubicBezTo>
                <a:cubicBezTo>
                  <a:pt x="10113" y="11572"/>
                  <a:pt x="9978" y="11712"/>
                  <a:pt x="9875" y="11802"/>
                </a:cubicBezTo>
                <a:cubicBezTo>
                  <a:pt x="9662" y="11990"/>
                  <a:pt x="9430" y="12246"/>
                  <a:pt x="9342" y="12521"/>
                </a:cubicBezTo>
                <a:cubicBezTo>
                  <a:pt x="9279" y="12717"/>
                  <a:pt x="9289" y="12942"/>
                  <a:pt x="9341" y="13139"/>
                </a:cubicBezTo>
                <a:cubicBezTo>
                  <a:pt x="9425" y="13460"/>
                  <a:pt x="9670" y="13773"/>
                  <a:pt x="9966" y="13925"/>
                </a:cubicBezTo>
                <a:cubicBezTo>
                  <a:pt x="10313" y="14103"/>
                  <a:pt x="10738" y="14024"/>
                  <a:pt x="10985" y="13720"/>
                </a:cubicBezTo>
                <a:cubicBezTo>
                  <a:pt x="11080" y="13603"/>
                  <a:pt x="11143" y="13465"/>
                  <a:pt x="11174" y="13318"/>
                </a:cubicBezTo>
                <a:cubicBezTo>
                  <a:pt x="11233" y="13033"/>
                  <a:pt x="11193" y="12735"/>
                  <a:pt x="11098" y="12463"/>
                </a:cubicBezTo>
                <a:cubicBezTo>
                  <a:pt x="10962" y="12074"/>
                  <a:pt x="10686" y="11660"/>
                  <a:pt x="10253" y="11577"/>
                </a:cubicBezTo>
                <a:cubicBezTo>
                  <a:pt x="10027" y="11534"/>
                  <a:pt x="9862" y="11622"/>
                  <a:pt x="9671" y="11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of ST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ssential for the designer to have a good working knowledge of the mechanical features of STHEs and how they influence thermal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ipal components of an STH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; shell cov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bes;  tubeshe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ffles; and nozz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mponents include tie-rods and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acers, pass partition plates, impin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, longitudinal baffle, sealing strips, supports, and foun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09880" cy="588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3581280" cy="5905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5791320" y="3505320"/>
            <a:ext cx="3047760" cy="1600200"/>
          </a:xfrm>
          <a:prstGeom prst="rect">
            <a:avLst/>
          </a:prstGeom>
          <a:ln w="0">
            <a:noFill/>
          </a:ln>
        </p:spPr>
      </p:pic>
      <p:sp>
        <p:nvSpPr>
          <p:cNvPr id="105" name="Ink 6"/>
          <p:cNvSpPr/>
          <p:nvPr/>
        </p:nvSpPr>
        <p:spPr>
          <a:xfrm>
            <a:off x="1306440" y="992160"/>
            <a:ext cx="1735200" cy="1533600"/>
          </a:xfrm>
          <a:custGeom>
            <a:avLst/>
            <a:gdLst/>
            <a:ahLst/>
            <a:rect l="l" t="t" r="r" b="b"/>
            <a:pathLst>
              <a:path w="4821" h="4259">
                <a:moveTo>
                  <a:pt x="3733" y="2854"/>
                </a:moveTo>
                <a:cubicBezTo>
                  <a:pt x="3732" y="2832"/>
                  <a:pt x="3730" y="2810"/>
                  <a:pt x="3730" y="2788"/>
                </a:cubicBezTo>
                <a:cubicBezTo>
                  <a:pt x="3730" y="2771"/>
                  <a:pt x="3730" y="2767"/>
                  <a:pt x="3730" y="2757"/>
                </a:cubicBezTo>
                <a:cubicBezTo>
                  <a:pt x="3731" y="2857"/>
                  <a:pt x="3736" y="2956"/>
                  <a:pt x="3741" y="3056"/>
                </a:cubicBezTo>
                <a:cubicBezTo>
                  <a:pt x="3754" y="3329"/>
                  <a:pt x="3763" y="3603"/>
                  <a:pt x="3757" y="3877"/>
                </a:cubicBezTo>
                <a:cubicBezTo>
                  <a:pt x="3751" y="4133"/>
                  <a:pt x="3698" y="4412"/>
                  <a:pt x="3738" y="4667"/>
                </a:cubicBezTo>
                <a:cubicBezTo>
                  <a:pt x="3741" y="4686"/>
                  <a:pt x="3739" y="4668"/>
                  <a:pt x="3740" y="4687"/>
                </a:cubicBezTo>
              </a:path>
              <a:path w="4821" h="4259">
                <a:moveTo>
                  <a:pt x="3645" y="4284"/>
                </a:moveTo>
                <a:cubicBezTo>
                  <a:pt x="3640" y="4274"/>
                  <a:pt x="3638" y="4270"/>
                  <a:pt x="3636" y="4263"/>
                </a:cubicBezTo>
                <a:cubicBezTo>
                  <a:pt x="3635" y="4301"/>
                  <a:pt x="3631" y="4343"/>
                  <a:pt x="3630" y="4382"/>
                </a:cubicBezTo>
                <a:cubicBezTo>
                  <a:pt x="3626" y="4538"/>
                  <a:pt x="3637" y="4734"/>
                  <a:pt x="3758" y="4848"/>
                </a:cubicBezTo>
                <a:cubicBezTo>
                  <a:pt x="3891" y="4974"/>
                  <a:pt x="4163" y="5046"/>
                  <a:pt x="4334" y="5100"/>
                </a:cubicBezTo>
                <a:cubicBezTo>
                  <a:pt x="4632" y="5194"/>
                  <a:pt x="4963" y="5205"/>
                  <a:pt x="5274" y="5203"/>
                </a:cubicBezTo>
                <a:cubicBezTo>
                  <a:pt x="5728" y="5201"/>
                  <a:pt x="6172" y="5080"/>
                  <a:pt x="6627" y="5067"/>
                </a:cubicBezTo>
                <a:cubicBezTo>
                  <a:pt x="6997" y="5056"/>
                  <a:pt x="7594" y="4932"/>
                  <a:pt x="7945" y="5079"/>
                </a:cubicBezTo>
                <a:cubicBezTo>
                  <a:pt x="8112" y="5149"/>
                  <a:pt x="8360" y="5499"/>
                  <a:pt x="8428" y="5669"/>
                </a:cubicBezTo>
                <a:cubicBezTo>
                  <a:pt x="8480" y="5801"/>
                  <a:pt x="8413" y="5922"/>
                  <a:pt x="8381" y="6050"/>
                </a:cubicBezTo>
                <a:cubicBezTo>
                  <a:pt x="8310" y="6336"/>
                  <a:pt x="8325" y="6591"/>
                  <a:pt x="8344" y="6882"/>
                </a:cubicBezTo>
                <a:cubicBezTo>
                  <a:pt x="8347" y="6928"/>
                  <a:pt x="8345" y="6974"/>
                  <a:pt x="8339" y="7012"/>
                </a:cubicBezTo>
                <a:cubicBezTo>
                  <a:pt x="8334" y="7013"/>
                  <a:pt x="8328" y="7014"/>
                  <a:pt x="8323" y="7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Ink 7"/>
          <p:cNvSpPr/>
          <p:nvPr/>
        </p:nvSpPr>
        <p:spPr>
          <a:xfrm>
            <a:off x="1357200" y="4950000"/>
            <a:ext cx="1648080" cy="1342800"/>
          </a:xfrm>
          <a:custGeom>
            <a:avLst/>
            <a:gdLst/>
            <a:ahLst/>
            <a:rect l="l" t="t" r="r" b="b"/>
            <a:pathLst>
              <a:path w="4576" h="3731">
                <a:moveTo>
                  <a:pt x="5791" y="13872"/>
                </a:moveTo>
                <a:cubicBezTo>
                  <a:pt x="5804" y="13813"/>
                  <a:pt x="5800" y="13808"/>
                  <a:pt x="5836" y="13748"/>
                </a:cubicBezTo>
                <a:cubicBezTo>
                  <a:pt x="5897" y="13886"/>
                  <a:pt x="5939" y="14007"/>
                  <a:pt x="5952" y="14161"/>
                </a:cubicBezTo>
                <a:cubicBezTo>
                  <a:pt x="5973" y="14404"/>
                  <a:pt x="5994" y="14788"/>
                  <a:pt x="5817" y="14989"/>
                </a:cubicBezTo>
                <a:cubicBezTo>
                  <a:pt x="5688" y="15135"/>
                  <a:pt x="5480" y="15117"/>
                  <a:pt x="5308" y="15078"/>
                </a:cubicBezTo>
                <a:cubicBezTo>
                  <a:pt x="5059" y="15022"/>
                  <a:pt x="4863" y="14943"/>
                  <a:pt x="4603" y="14974"/>
                </a:cubicBezTo>
                <a:cubicBezTo>
                  <a:pt x="4401" y="14998"/>
                  <a:pt x="4188" y="15021"/>
                  <a:pt x="4004" y="15114"/>
                </a:cubicBezTo>
                <a:cubicBezTo>
                  <a:pt x="3844" y="15195"/>
                  <a:pt x="3781" y="15324"/>
                  <a:pt x="3772" y="15500"/>
                </a:cubicBezTo>
                <a:cubicBezTo>
                  <a:pt x="3764" y="15661"/>
                  <a:pt x="3823" y="15759"/>
                  <a:pt x="3984" y="15786"/>
                </a:cubicBezTo>
                <a:cubicBezTo>
                  <a:pt x="4165" y="15817"/>
                  <a:pt x="4379" y="15715"/>
                  <a:pt x="4555" y="15681"/>
                </a:cubicBezTo>
                <a:cubicBezTo>
                  <a:pt x="4818" y="15630"/>
                  <a:pt x="5194" y="15548"/>
                  <a:pt x="5454" y="15644"/>
                </a:cubicBezTo>
                <a:cubicBezTo>
                  <a:pt x="5575" y="15688"/>
                  <a:pt x="5657" y="15840"/>
                  <a:pt x="5745" y="15930"/>
                </a:cubicBezTo>
                <a:cubicBezTo>
                  <a:pt x="5856" y="16044"/>
                  <a:pt x="5884" y="16123"/>
                  <a:pt x="5887" y="16285"/>
                </a:cubicBezTo>
                <a:cubicBezTo>
                  <a:pt x="5893" y="16633"/>
                  <a:pt x="5832" y="16994"/>
                  <a:pt x="5808" y="17342"/>
                </a:cubicBezTo>
                <a:cubicBezTo>
                  <a:pt x="5805" y="17379"/>
                  <a:pt x="5804" y="17386"/>
                  <a:pt x="5805" y="17424"/>
                </a:cubicBezTo>
                <a:cubicBezTo>
                  <a:pt x="5806" y="17413"/>
                  <a:pt x="5808" y="17403"/>
                  <a:pt x="5809" y="17392"/>
                </a:cubicBezTo>
              </a:path>
              <a:path w="4576" h="3731">
                <a:moveTo>
                  <a:pt x="6102" y="13859"/>
                </a:moveTo>
                <a:cubicBezTo>
                  <a:pt x="6101" y="13833"/>
                  <a:pt x="6099" y="13787"/>
                  <a:pt x="6098" y="13771"/>
                </a:cubicBezTo>
                <a:cubicBezTo>
                  <a:pt x="6041" y="14014"/>
                  <a:pt x="6021" y="14266"/>
                  <a:pt x="6003" y="14516"/>
                </a:cubicBezTo>
                <a:cubicBezTo>
                  <a:pt x="5992" y="14666"/>
                  <a:pt x="5941" y="14988"/>
                  <a:pt x="6092" y="15094"/>
                </a:cubicBezTo>
                <a:cubicBezTo>
                  <a:pt x="6136" y="15125"/>
                  <a:pt x="6176" y="15106"/>
                  <a:pt x="6221" y="15094"/>
                </a:cubicBezTo>
                <a:cubicBezTo>
                  <a:pt x="6471" y="15025"/>
                  <a:pt x="6613" y="14818"/>
                  <a:pt x="6899" y="14806"/>
                </a:cubicBezTo>
                <a:cubicBezTo>
                  <a:pt x="7171" y="14795"/>
                  <a:pt x="7439" y="14901"/>
                  <a:pt x="7700" y="14963"/>
                </a:cubicBezTo>
                <a:cubicBezTo>
                  <a:pt x="7864" y="15002"/>
                  <a:pt x="8076" y="15022"/>
                  <a:pt x="8219" y="15118"/>
                </a:cubicBezTo>
                <a:cubicBezTo>
                  <a:pt x="8350" y="15205"/>
                  <a:pt x="8380" y="15340"/>
                  <a:pt x="8295" y="15473"/>
                </a:cubicBezTo>
                <a:cubicBezTo>
                  <a:pt x="8113" y="15757"/>
                  <a:pt x="7690" y="15869"/>
                  <a:pt x="7376" y="15844"/>
                </a:cubicBezTo>
                <a:cubicBezTo>
                  <a:pt x="7095" y="15822"/>
                  <a:pt x="6881" y="15658"/>
                  <a:pt x="6618" y="15593"/>
                </a:cubicBezTo>
                <a:cubicBezTo>
                  <a:pt x="6525" y="15570"/>
                  <a:pt x="6459" y="15588"/>
                  <a:pt x="6381" y="15639"/>
                </a:cubicBezTo>
                <a:cubicBezTo>
                  <a:pt x="6146" y="15793"/>
                  <a:pt x="6010" y="16062"/>
                  <a:pt x="5992" y="16335"/>
                </a:cubicBezTo>
                <a:cubicBezTo>
                  <a:pt x="5967" y="16717"/>
                  <a:pt x="6078" y="17095"/>
                  <a:pt x="6049" y="17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Ink 8"/>
          <p:cNvSpPr/>
          <p:nvPr/>
        </p:nvSpPr>
        <p:spPr>
          <a:xfrm>
            <a:off x="1306440" y="3402000"/>
            <a:ext cx="1811520" cy="844560"/>
          </a:xfrm>
          <a:custGeom>
            <a:avLst/>
            <a:gdLst/>
            <a:ahLst/>
            <a:rect l="l" t="t" r="r" b="b"/>
            <a:pathLst>
              <a:path w="5034" h="2348">
                <a:moveTo>
                  <a:pt x="3641" y="9449"/>
                </a:moveTo>
                <a:cubicBezTo>
                  <a:pt x="3658" y="9530"/>
                  <a:pt x="3658" y="9584"/>
                  <a:pt x="3713" y="9667"/>
                </a:cubicBezTo>
                <a:cubicBezTo>
                  <a:pt x="3805" y="9806"/>
                  <a:pt x="3941" y="9832"/>
                  <a:pt x="4098" y="9836"/>
                </a:cubicBezTo>
                <a:cubicBezTo>
                  <a:pt x="4376" y="9843"/>
                  <a:pt x="4655" y="9754"/>
                  <a:pt x="4936" y="9752"/>
                </a:cubicBezTo>
                <a:cubicBezTo>
                  <a:pt x="5418" y="9749"/>
                  <a:pt x="5862" y="9737"/>
                  <a:pt x="6341" y="9663"/>
                </a:cubicBezTo>
                <a:cubicBezTo>
                  <a:pt x="6883" y="9580"/>
                  <a:pt x="7425" y="9498"/>
                  <a:pt x="7974" y="9528"/>
                </a:cubicBezTo>
                <a:cubicBezTo>
                  <a:pt x="8132" y="9537"/>
                  <a:pt x="8431" y="9516"/>
                  <a:pt x="8556" y="9635"/>
                </a:cubicBezTo>
                <a:cubicBezTo>
                  <a:pt x="8649" y="9723"/>
                  <a:pt x="8696" y="9918"/>
                  <a:pt x="8647" y="10040"/>
                </a:cubicBezTo>
                <a:cubicBezTo>
                  <a:pt x="8601" y="10153"/>
                  <a:pt x="8473" y="10211"/>
                  <a:pt x="8367" y="10252"/>
                </a:cubicBezTo>
                <a:cubicBezTo>
                  <a:pt x="8093" y="10357"/>
                  <a:pt x="7802" y="10419"/>
                  <a:pt x="7510" y="10429"/>
                </a:cubicBezTo>
                <a:cubicBezTo>
                  <a:pt x="6976" y="10447"/>
                  <a:pt x="6437" y="10449"/>
                  <a:pt x="5902" y="10452"/>
                </a:cubicBezTo>
                <a:cubicBezTo>
                  <a:pt x="5542" y="10454"/>
                  <a:pt x="5175" y="10461"/>
                  <a:pt x="4816" y="10431"/>
                </a:cubicBezTo>
                <a:cubicBezTo>
                  <a:pt x="4663" y="10418"/>
                  <a:pt x="4512" y="10375"/>
                  <a:pt x="4364" y="10421"/>
                </a:cubicBezTo>
                <a:cubicBezTo>
                  <a:pt x="4261" y="10453"/>
                  <a:pt x="3977" y="10487"/>
                  <a:pt x="3900" y="10534"/>
                </a:cubicBezTo>
                <a:cubicBezTo>
                  <a:pt x="3853" y="10563"/>
                  <a:pt x="3858" y="10602"/>
                  <a:pt x="3838" y="10657"/>
                </a:cubicBezTo>
                <a:cubicBezTo>
                  <a:pt x="3790" y="10786"/>
                  <a:pt x="3788" y="10951"/>
                  <a:pt x="3785" y="11086"/>
                </a:cubicBezTo>
                <a:cubicBezTo>
                  <a:pt x="3780" y="11324"/>
                  <a:pt x="3801" y="11561"/>
                  <a:pt x="3827" y="11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tub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0" y="1981080"/>
            <a:ext cx="87138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Ink 4"/>
          <p:cNvSpPr/>
          <p:nvPr/>
        </p:nvSpPr>
        <p:spPr>
          <a:xfrm>
            <a:off x="1069920" y="2957400"/>
            <a:ext cx="7553520" cy="2392560"/>
          </a:xfrm>
          <a:custGeom>
            <a:avLst/>
            <a:gdLst/>
            <a:ahLst/>
            <a:rect l="l" t="t" r="r" b="b"/>
            <a:pathLst>
              <a:path w="20979" h="6644">
                <a:moveTo>
                  <a:pt x="20627" y="13475"/>
                </a:moveTo>
                <a:cubicBezTo>
                  <a:pt x="20626" y="13443"/>
                  <a:pt x="20624" y="13410"/>
                  <a:pt x="20626" y="13378"/>
                </a:cubicBezTo>
                <a:cubicBezTo>
                  <a:pt x="20627" y="13353"/>
                  <a:pt x="20630" y="13329"/>
                  <a:pt x="20630" y="13304"/>
                </a:cubicBezTo>
                <a:cubicBezTo>
                  <a:pt x="20630" y="13292"/>
                  <a:pt x="20630" y="13280"/>
                  <a:pt x="20630" y="13268"/>
                </a:cubicBezTo>
                <a:cubicBezTo>
                  <a:pt x="20609" y="13284"/>
                  <a:pt x="20604" y="13304"/>
                  <a:pt x="20598" y="13331"/>
                </a:cubicBezTo>
                <a:cubicBezTo>
                  <a:pt x="20590" y="13365"/>
                  <a:pt x="20587" y="13399"/>
                  <a:pt x="20586" y="13433"/>
                </a:cubicBezTo>
                <a:cubicBezTo>
                  <a:pt x="20586" y="13455"/>
                  <a:pt x="20587" y="13455"/>
                  <a:pt x="20604" y="13464"/>
                </a:cubicBezTo>
                <a:cubicBezTo>
                  <a:pt x="20632" y="13453"/>
                  <a:pt x="20651" y="13431"/>
                  <a:pt x="20667" y="13405"/>
                </a:cubicBezTo>
                <a:cubicBezTo>
                  <a:pt x="20681" y="13382"/>
                  <a:pt x="20709" y="13339"/>
                  <a:pt x="20708" y="13310"/>
                </a:cubicBezTo>
                <a:cubicBezTo>
                  <a:pt x="20706" y="13307"/>
                  <a:pt x="20705" y="13304"/>
                  <a:pt x="20703" y="13301"/>
                </a:cubicBezTo>
                <a:cubicBezTo>
                  <a:pt x="20679" y="13321"/>
                  <a:pt x="20667" y="13345"/>
                  <a:pt x="20653" y="13373"/>
                </a:cubicBezTo>
                <a:cubicBezTo>
                  <a:pt x="20639" y="13402"/>
                  <a:pt x="20633" y="13428"/>
                  <a:pt x="20631" y="13460"/>
                </a:cubicBezTo>
                <a:cubicBezTo>
                  <a:pt x="20671" y="13462"/>
                  <a:pt x="20691" y="13448"/>
                  <a:pt x="20728" y="13430"/>
                </a:cubicBezTo>
              </a:path>
              <a:path w="20979" h="6644">
                <a:moveTo>
                  <a:pt x="23951" y="14859"/>
                </a:moveTo>
                <a:lnTo>
                  <a:pt x="23951" y="14859"/>
                </a:lnTo>
              </a:path>
              <a:path w="20979" h="6644">
                <a:moveTo>
                  <a:pt x="22595" y="11317"/>
                </a:moveTo>
                <a:cubicBezTo>
                  <a:pt x="22604" y="11296"/>
                  <a:pt x="22600" y="11294"/>
                  <a:pt x="22611" y="11273"/>
                </a:cubicBezTo>
                <a:cubicBezTo>
                  <a:pt x="22676" y="11148"/>
                  <a:pt x="22724" y="11038"/>
                  <a:pt x="22751" y="10897"/>
                </a:cubicBezTo>
                <a:cubicBezTo>
                  <a:pt x="22851" y="10373"/>
                  <a:pt x="22914" y="9820"/>
                  <a:pt x="22890" y="9287"/>
                </a:cubicBezTo>
                <a:cubicBezTo>
                  <a:pt x="22878" y="9014"/>
                  <a:pt x="22810" y="8747"/>
                  <a:pt x="22794" y="8475"/>
                </a:cubicBezTo>
                <a:cubicBezTo>
                  <a:pt x="22790" y="8411"/>
                  <a:pt x="22792" y="8348"/>
                  <a:pt x="22793" y="8284"/>
                </a:cubicBezTo>
                <a:cubicBezTo>
                  <a:pt x="22740" y="8493"/>
                  <a:pt x="22664" y="8704"/>
                  <a:pt x="22536" y="8880"/>
                </a:cubicBezTo>
                <a:cubicBezTo>
                  <a:pt x="22532" y="8884"/>
                  <a:pt x="22527" y="8887"/>
                  <a:pt x="22523" y="8891"/>
                </a:cubicBezTo>
                <a:cubicBezTo>
                  <a:pt x="22540" y="8820"/>
                  <a:pt x="22562" y="8765"/>
                  <a:pt x="22599" y="8698"/>
                </a:cubicBezTo>
                <a:cubicBezTo>
                  <a:pt x="22659" y="8587"/>
                  <a:pt x="22836" y="8212"/>
                  <a:pt x="22995" y="8216"/>
                </a:cubicBezTo>
                <a:cubicBezTo>
                  <a:pt x="23085" y="8218"/>
                  <a:pt x="23116" y="8366"/>
                  <a:pt x="23138" y="8432"/>
                </a:cubicBezTo>
                <a:cubicBezTo>
                  <a:pt x="23187" y="8580"/>
                  <a:pt x="23238" y="8723"/>
                  <a:pt x="23299" y="8867"/>
                </a:cubicBezTo>
              </a:path>
              <a:path w="20979" h="6644">
                <a:moveTo>
                  <a:pt x="21863" y="11413"/>
                </a:moveTo>
                <a:cubicBezTo>
                  <a:pt x="21871" y="11386"/>
                  <a:pt x="21870" y="11361"/>
                  <a:pt x="21874" y="11336"/>
                </a:cubicBezTo>
                <a:cubicBezTo>
                  <a:pt x="21585" y="11360"/>
                  <a:pt x="21292" y="11393"/>
                  <a:pt x="21001" y="11416"/>
                </a:cubicBezTo>
                <a:cubicBezTo>
                  <a:pt x="19140" y="11563"/>
                  <a:pt x="17225" y="11436"/>
                  <a:pt x="15361" y="11378"/>
                </a:cubicBezTo>
                <a:cubicBezTo>
                  <a:pt x="13751" y="11328"/>
                  <a:pt x="12173" y="11226"/>
                  <a:pt x="10561" y="11308"/>
                </a:cubicBezTo>
                <a:cubicBezTo>
                  <a:pt x="8374" y="11420"/>
                  <a:pt x="6225" y="11599"/>
                  <a:pt x="4034" y="11582"/>
                </a:cubicBezTo>
                <a:cubicBezTo>
                  <a:pt x="3690" y="11579"/>
                  <a:pt x="3300" y="11598"/>
                  <a:pt x="2979" y="11616"/>
                </a:cubicBezTo>
              </a:path>
              <a:path w="20979" h="6644">
                <a:moveTo>
                  <a:pt x="12993" y="10640"/>
                </a:moveTo>
                <a:cubicBezTo>
                  <a:pt x="12986" y="10667"/>
                  <a:pt x="12963" y="10655"/>
                  <a:pt x="12972" y="10698"/>
                </a:cubicBezTo>
                <a:cubicBezTo>
                  <a:pt x="12998" y="10818"/>
                  <a:pt x="13154" y="10888"/>
                  <a:pt x="13247" y="10942"/>
                </a:cubicBezTo>
                <a:cubicBezTo>
                  <a:pt x="13423" y="11044"/>
                  <a:pt x="13631" y="11165"/>
                  <a:pt x="13658" y="11388"/>
                </a:cubicBezTo>
                <a:cubicBezTo>
                  <a:pt x="13676" y="11534"/>
                  <a:pt x="13587" y="11644"/>
                  <a:pt x="13497" y="11747"/>
                </a:cubicBezTo>
                <a:cubicBezTo>
                  <a:pt x="13384" y="11877"/>
                  <a:pt x="13244" y="11979"/>
                  <a:pt x="13123" y="12102"/>
                </a:cubicBezTo>
                <a:cubicBezTo>
                  <a:pt x="13052" y="12174"/>
                  <a:pt x="12984" y="12248"/>
                  <a:pt x="12921" y="12326"/>
                </a:cubicBezTo>
              </a:path>
              <a:path w="20979" h="6644">
                <a:moveTo>
                  <a:pt x="21388" y="11294"/>
                </a:moveTo>
                <a:cubicBezTo>
                  <a:pt x="21460" y="11347"/>
                  <a:pt x="21527" y="11385"/>
                  <a:pt x="21619" y="11395"/>
                </a:cubicBezTo>
                <a:cubicBezTo>
                  <a:pt x="21729" y="11407"/>
                  <a:pt x="21843" y="11400"/>
                  <a:pt x="21952" y="11384"/>
                </a:cubicBezTo>
                <a:cubicBezTo>
                  <a:pt x="22068" y="11367"/>
                  <a:pt x="22182" y="11340"/>
                  <a:pt x="22294" y="11307"/>
                </a:cubicBezTo>
                <a:cubicBezTo>
                  <a:pt x="22399" y="11276"/>
                  <a:pt x="22495" y="11234"/>
                  <a:pt x="22593" y="11187"/>
                </a:cubicBezTo>
                <a:cubicBezTo>
                  <a:pt x="22657" y="11156"/>
                  <a:pt x="22708" y="11123"/>
                  <a:pt x="22759" y="11075"/>
                </a:cubicBezTo>
                <a:cubicBezTo>
                  <a:pt x="22782" y="11053"/>
                  <a:pt x="22796" y="11031"/>
                  <a:pt x="22809" y="11002"/>
                </a:cubicBezTo>
                <a:cubicBezTo>
                  <a:pt x="22812" y="10990"/>
                  <a:pt x="22813" y="10986"/>
                  <a:pt x="22815" y="10978"/>
                </a:cubicBezTo>
                <a:cubicBezTo>
                  <a:pt x="22824" y="11024"/>
                  <a:pt x="22826" y="11055"/>
                  <a:pt x="22820" y="11100"/>
                </a:cubicBezTo>
              </a:path>
              <a:path w="20979" h="6644">
                <a:moveTo>
                  <a:pt x="19641" y="9771"/>
                </a:moveTo>
                <a:cubicBezTo>
                  <a:pt x="19643" y="9784"/>
                  <a:pt x="19655" y="9769"/>
                  <a:pt x="19657" y="9782"/>
                </a:cubicBezTo>
                <a:cubicBezTo>
                  <a:pt x="19759" y="10366"/>
                  <a:pt x="19722" y="11017"/>
                  <a:pt x="19636" y="11599"/>
                </a:cubicBezTo>
                <a:cubicBezTo>
                  <a:pt x="19567" y="12067"/>
                  <a:pt x="19344" y="12925"/>
                  <a:pt x="18776" y="13033"/>
                </a:cubicBezTo>
                <a:cubicBezTo>
                  <a:pt x="18528" y="13080"/>
                  <a:pt x="18371" y="12844"/>
                  <a:pt x="18265" y="12654"/>
                </a:cubicBezTo>
                <a:cubicBezTo>
                  <a:pt x="17928" y="12047"/>
                  <a:pt x="17799" y="11330"/>
                  <a:pt x="17506" y="10698"/>
                </a:cubicBezTo>
                <a:cubicBezTo>
                  <a:pt x="17385" y="10437"/>
                  <a:pt x="17255" y="10168"/>
                  <a:pt x="16933" y="10151"/>
                </a:cubicBezTo>
                <a:cubicBezTo>
                  <a:pt x="16517" y="10129"/>
                  <a:pt x="16221" y="10589"/>
                  <a:pt x="16102" y="10931"/>
                </a:cubicBezTo>
                <a:cubicBezTo>
                  <a:pt x="15900" y="11511"/>
                  <a:pt x="16128" y="12661"/>
                  <a:pt x="15572" y="13064"/>
                </a:cubicBezTo>
                <a:cubicBezTo>
                  <a:pt x="15378" y="13204"/>
                  <a:pt x="15222" y="13079"/>
                  <a:pt x="15081" y="12927"/>
                </a:cubicBezTo>
                <a:cubicBezTo>
                  <a:pt x="14615" y="12426"/>
                  <a:pt x="14645" y="11621"/>
                  <a:pt x="14239" y="11066"/>
                </a:cubicBezTo>
                <a:cubicBezTo>
                  <a:pt x="14072" y="10838"/>
                  <a:pt x="13816" y="10560"/>
                  <a:pt x="13544" y="10462"/>
                </a:cubicBezTo>
                <a:cubicBezTo>
                  <a:pt x="13372" y="10400"/>
                  <a:pt x="13152" y="10395"/>
                  <a:pt x="13022" y="10530"/>
                </a:cubicBezTo>
                <a:cubicBezTo>
                  <a:pt x="12787" y="10774"/>
                  <a:pt x="12876" y="11364"/>
                  <a:pt x="12862" y="11662"/>
                </a:cubicBezTo>
                <a:cubicBezTo>
                  <a:pt x="12844" y="12041"/>
                  <a:pt x="12875" y="12570"/>
                  <a:pt x="12701" y="12918"/>
                </a:cubicBezTo>
                <a:cubicBezTo>
                  <a:pt x="12605" y="13110"/>
                  <a:pt x="12405" y="13276"/>
                  <a:pt x="12243" y="13414"/>
                </a:cubicBezTo>
                <a:cubicBezTo>
                  <a:pt x="12112" y="13525"/>
                  <a:pt x="11992" y="13623"/>
                  <a:pt x="11830" y="13534"/>
                </a:cubicBezTo>
                <a:cubicBezTo>
                  <a:pt x="11737" y="13483"/>
                  <a:pt x="11660" y="13329"/>
                  <a:pt x="11593" y="13248"/>
                </a:cubicBezTo>
              </a:path>
              <a:path w="20979" h="6644">
                <a:moveTo>
                  <a:pt x="12759" y="12493"/>
                </a:moveTo>
                <a:cubicBezTo>
                  <a:pt x="12739" y="12357"/>
                  <a:pt x="12720" y="12221"/>
                  <a:pt x="12704" y="12084"/>
                </a:cubicBezTo>
                <a:cubicBezTo>
                  <a:pt x="12663" y="11724"/>
                  <a:pt x="12632" y="11264"/>
                  <a:pt x="12400" y="10967"/>
                </a:cubicBezTo>
                <a:cubicBezTo>
                  <a:pt x="12154" y="10652"/>
                  <a:pt x="11751" y="10682"/>
                  <a:pt x="11451" y="10886"/>
                </a:cubicBezTo>
                <a:cubicBezTo>
                  <a:pt x="11134" y="11101"/>
                  <a:pt x="10922" y="11504"/>
                  <a:pt x="10825" y="11866"/>
                </a:cubicBezTo>
                <a:cubicBezTo>
                  <a:pt x="10692" y="12363"/>
                  <a:pt x="10882" y="13234"/>
                  <a:pt x="10415" y="13590"/>
                </a:cubicBezTo>
                <a:cubicBezTo>
                  <a:pt x="10235" y="13727"/>
                  <a:pt x="10044" y="13611"/>
                  <a:pt x="9879" y="13511"/>
                </a:cubicBezTo>
                <a:cubicBezTo>
                  <a:pt x="9357" y="13193"/>
                  <a:pt x="8934" y="12718"/>
                  <a:pt x="8704" y="12154"/>
                </a:cubicBezTo>
                <a:cubicBezTo>
                  <a:pt x="8546" y="11765"/>
                  <a:pt x="8406" y="11321"/>
                  <a:pt x="8346" y="10904"/>
                </a:cubicBezTo>
                <a:cubicBezTo>
                  <a:pt x="8317" y="10702"/>
                  <a:pt x="8379" y="10408"/>
                  <a:pt x="8272" y="10227"/>
                </a:cubicBezTo>
                <a:cubicBezTo>
                  <a:pt x="8136" y="9997"/>
                  <a:pt x="7771" y="9984"/>
                  <a:pt x="7545" y="10053"/>
                </a:cubicBezTo>
                <a:cubicBezTo>
                  <a:pt x="7026" y="10211"/>
                  <a:pt x="6780" y="10663"/>
                  <a:pt x="6761" y="11169"/>
                </a:cubicBezTo>
                <a:cubicBezTo>
                  <a:pt x="6743" y="11636"/>
                  <a:pt x="6893" y="12146"/>
                  <a:pt x="6733" y="12599"/>
                </a:cubicBezTo>
                <a:cubicBezTo>
                  <a:pt x="6639" y="12867"/>
                  <a:pt x="6417" y="13075"/>
                  <a:pt x="6375" y="13361"/>
                </a:cubicBezTo>
                <a:cubicBezTo>
                  <a:pt x="6325" y="13705"/>
                  <a:pt x="6382" y="14144"/>
                  <a:pt x="6413" y="14490"/>
                </a:cubicBezTo>
                <a:cubicBezTo>
                  <a:pt x="6423" y="14597"/>
                  <a:pt x="6457" y="14685"/>
                  <a:pt x="6478" y="14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Ink 5"/>
          <p:cNvSpPr/>
          <p:nvPr/>
        </p:nvSpPr>
        <p:spPr>
          <a:xfrm>
            <a:off x="392040" y="3587760"/>
            <a:ext cx="2098800" cy="2131920"/>
          </a:xfrm>
          <a:custGeom>
            <a:avLst/>
            <a:gdLst/>
            <a:ahLst/>
            <a:rect l="l" t="t" r="r" b="b"/>
            <a:pathLst>
              <a:path w="5830" h="5922">
                <a:moveTo>
                  <a:pt x="5389" y="9970"/>
                </a:moveTo>
                <a:cubicBezTo>
                  <a:pt x="5371" y="9971"/>
                  <a:pt x="5362" y="9968"/>
                  <a:pt x="5347" y="9967"/>
                </a:cubicBezTo>
                <a:cubicBezTo>
                  <a:pt x="5355" y="10029"/>
                  <a:pt x="5363" y="10091"/>
                  <a:pt x="5365" y="10154"/>
                </a:cubicBezTo>
                <a:cubicBezTo>
                  <a:pt x="5379" y="10670"/>
                  <a:pt x="5354" y="11188"/>
                  <a:pt x="5345" y="11704"/>
                </a:cubicBezTo>
                <a:cubicBezTo>
                  <a:pt x="5336" y="12247"/>
                  <a:pt x="5550" y="12843"/>
                  <a:pt x="5464" y="13378"/>
                </a:cubicBezTo>
                <a:cubicBezTo>
                  <a:pt x="5461" y="13399"/>
                  <a:pt x="5452" y="13414"/>
                  <a:pt x="5449" y="13421"/>
                </a:cubicBezTo>
                <a:cubicBezTo>
                  <a:pt x="5448" y="13418"/>
                  <a:pt x="5447" y="13416"/>
                  <a:pt x="5446" y="13413"/>
                </a:cubicBezTo>
              </a:path>
              <a:path w="5830" h="5922">
                <a:moveTo>
                  <a:pt x="5498" y="13343"/>
                </a:moveTo>
                <a:cubicBezTo>
                  <a:pt x="5478" y="13335"/>
                  <a:pt x="5482" y="13320"/>
                  <a:pt x="5481" y="13297"/>
                </a:cubicBezTo>
                <a:cubicBezTo>
                  <a:pt x="5480" y="13277"/>
                  <a:pt x="5482" y="13253"/>
                  <a:pt x="5475" y="13234"/>
                </a:cubicBezTo>
                <a:cubicBezTo>
                  <a:pt x="5473" y="13229"/>
                  <a:pt x="5470" y="13225"/>
                  <a:pt x="5468" y="13220"/>
                </a:cubicBezTo>
                <a:cubicBezTo>
                  <a:pt x="5457" y="13238"/>
                  <a:pt x="5458" y="13258"/>
                  <a:pt x="5459" y="13280"/>
                </a:cubicBezTo>
                <a:cubicBezTo>
                  <a:pt x="5460" y="13299"/>
                  <a:pt x="5462" y="13326"/>
                  <a:pt x="5484" y="13332"/>
                </a:cubicBezTo>
                <a:cubicBezTo>
                  <a:pt x="5508" y="13338"/>
                  <a:pt x="5513" y="13325"/>
                  <a:pt x="5532" y="13311"/>
                </a:cubicBezTo>
              </a:path>
              <a:path w="5830" h="5922">
                <a:moveTo>
                  <a:pt x="3671" y="12178"/>
                </a:moveTo>
                <a:cubicBezTo>
                  <a:pt x="3668" y="12213"/>
                  <a:pt x="3667" y="12233"/>
                  <a:pt x="3666" y="12268"/>
                </a:cubicBezTo>
                <a:cubicBezTo>
                  <a:pt x="3659" y="12595"/>
                  <a:pt x="3487" y="12887"/>
                  <a:pt x="3231" y="13090"/>
                </a:cubicBezTo>
                <a:cubicBezTo>
                  <a:pt x="3084" y="13207"/>
                  <a:pt x="2903" y="13298"/>
                  <a:pt x="2728" y="13365"/>
                </a:cubicBezTo>
                <a:cubicBezTo>
                  <a:pt x="2555" y="13431"/>
                  <a:pt x="2370" y="13478"/>
                  <a:pt x="2185" y="13497"/>
                </a:cubicBezTo>
                <a:cubicBezTo>
                  <a:pt x="2038" y="13513"/>
                  <a:pt x="1891" y="13506"/>
                  <a:pt x="1747" y="13472"/>
                </a:cubicBezTo>
                <a:cubicBezTo>
                  <a:pt x="1614" y="13441"/>
                  <a:pt x="1270" y="13254"/>
                  <a:pt x="1130" y="13338"/>
                </a:cubicBezTo>
                <a:cubicBezTo>
                  <a:pt x="1041" y="13391"/>
                  <a:pt x="1137" y="13361"/>
                  <a:pt x="1166" y="13395"/>
                </a:cubicBezTo>
              </a:path>
              <a:path w="5830" h="5922">
                <a:moveTo>
                  <a:pt x="6589" y="12890"/>
                </a:moveTo>
                <a:cubicBezTo>
                  <a:pt x="6588" y="12852"/>
                  <a:pt x="6585" y="12815"/>
                  <a:pt x="6582" y="12778"/>
                </a:cubicBezTo>
                <a:cubicBezTo>
                  <a:pt x="6581" y="12762"/>
                  <a:pt x="6580" y="12745"/>
                  <a:pt x="6579" y="12729"/>
                </a:cubicBezTo>
                <a:cubicBezTo>
                  <a:pt x="6582" y="12848"/>
                  <a:pt x="6591" y="12967"/>
                  <a:pt x="6596" y="13086"/>
                </a:cubicBezTo>
                <a:cubicBezTo>
                  <a:pt x="6625" y="13798"/>
                  <a:pt x="6646" y="14509"/>
                  <a:pt x="6698" y="15220"/>
                </a:cubicBezTo>
                <a:cubicBezTo>
                  <a:pt x="6703" y="15293"/>
                  <a:pt x="6709" y="15365"/>
                  <a:pt x="6716" y="15438"/>
                </a:cubicBezTo>
                <a:cubicBezTo>
                  <a:pt x="6697" y="15381"/>
                  <a:pt x="6679" y="15324"/>
                  <a:pt x="6658" y="15267"/>
                </a:cubicBezTo>
              </a:path>
              <a:path w="5830" h="5922">
                <a:moveTo>
                  <a:pt x="6332" y="14726"/>
                </a:moveTo>
                <a:cubicBezTo>
                  <a:pt x="6337" y="14766"/>
                  <a:pt x="6350" y="14805"/>
                  <a:pt x="6365" y="14844"/>
                </a:cubicBezTo>
                <a:cubicBezTo>
                  <a:pt x="6401" y="14935"/>
                  <a:pt x="6443" y="15024"/>
                  <a:pt x="6480" y="15115"/>
                </a:cubicBezTo>
                <a:cubicBezTo>
                  <a:pt x="6523" y="15220"/>
                  <a:pt x="6561" y="15328"/>
                  <a:pt x="6608" y="15431"/>
                </a:cubicBezTo>
                <a:cubicBezTo>
                  <a:pt x="6625" y="15469"/>
                  <a:pt x="6655" y="15558"/>
                  <a:pt x="6704" y="15564"/>
                </a:cubicBezTo>
                <a:cubicBezTo>
                  <a:pt x="6733" y="15562"/>
                  <a:pt x="6743" y="15559"/>
                  <a:pt x="6749" y="15533"/>
                </a:cubicBezTo>
              </a:path>
              <a:path w="5830" h="5922">
                <a:moveTo>
                  <a:pt x="6895" y="15202"/>
                </a:moveTo>
                <a:cubicBezTo>
                  <a:pt x="6930" y="15280"/>
                  <a:pt x="6916" y="15350"/>
                  <a:pt x="6910" y="15436"/>
                </a:cubicBezTo>
                <a:cubicBezTo>
                  <a:pt x="6903" y="15546"/>
                  <a:pt x="6889" y="15655"/>
                  <a:pt x="6882" y="15765"/>
                </a:cubicBezTo>
                <a:cubicBezTo>
                  <a:pt x="6879" y="15806"/>
                  <a:pt x="6876" y="15847"/>
                  <a:pt x="6874" y="15888"/>
                </a:cubicBezTo>
              </a:path>
              <a:path w="5830" h="5922">
                <a:moveTo>
                  <a:pt x="3660" y="15418"/>
                </a:moveTo>
                <a:cubicBezTo>
                  <a:pt x="3658" y="15218"/>
                  <a:pt x="3679" y="15020"/>
                  <a:pt x="3686" y="14820"/>
                </a:cubicBezTo>
                <a:cubicBezTo>
                  <a:pt x="3712" y="14118"/>
                  <a:pt x="3687" y="13413"/>
                  <a:pt x="3725" y="12711"/>
                </a:cubicBezTo>
                <a:cubicBezTo>
                  <a:pt x="3744" y="12358"/>
                  <a:pt x="3775" y="11973"/>
                  <a:pt x="3899" y="11638"/>
                </a:cubicBezTo>
                <a:cubicBezTo>
                  <a:pt x="3910" y="11608"/>
                  <a:pt x="3933" y="11582"/>
                  <a:pt x="3944" y="11563"/>
                </a:cubicBezTo>
                <a:cubicBezTo>
                  <a:pt x="3966" y="11585"/>
                  <a:pt x="3993" y="11629"/>
                  <a:pt x="4020" y="11644"/>
                </a:cubicBezTo>
                <a:cubicBezTo>
                  <a:pt x="4039" y="11654"/>
                  <a:pt x="4047" y="11641"/>
                  <a:pt x="4066" y="11650"/>
                </a:cubicBezTo>
              </a:path>
              <a:path w="5830" h="5922">
                <a:moveTo>
                  <a:pt x="3638" y="11383"/>
                </a:moveTo>
                <a:cubicBezTo>
                  <a:pt x="3618" y="11391"/>
                  <a:pt x="3592" y="11400"/>
                  <a:pt x="3579" y="11421"/>
                </a:cubicBezTo>
                <a:cubicBezTo>
                  <a:pt x="3572" y="11437"/>
                  <a:pt x="3570" y="11443"/>
                  <a:pt x="3570" y="11456"/>
                </a:cubicBezTo>
                <a:cubicBezTo>
                  <a:pt x="3621" y="11454"/>
                  <a:pt x="3653" y="11429"/>
                  <a:pt x="3698" y="11405"/>
                </a:cubicBezTo>
                <a:cubicBezTo>
                  <a:pt x="3776" y="11363"/>
                  <a:pt x="3855" y="11320"/>
                  <a:pt x="3938" y="11287"/>
                </a:cubicBezTo>
                <a:cubicBezTo>
                  <a:pt x="3984" y="11269"/>
                  <a:pt x="4067" y="11236"/>
                  <a:pt x="4109" y="11280"/>
                </a:cubicBezTo>
                <a:cubicBezTo>
                  <a:pt x="4153" y="11326"/>
                  <a:pt x="4120" y="11420"/>
                  <a:pt x="4103" y="11469"/>
                </a:cubicBezTo>
                <a:cubicBezTo>
                  <a:pt x="4063" y="11584"/>
                  <a:pt x="4002" y="11691"/>
                  <a:pt x="3957" y="11804"/>
                </a:cubicBezTo>
                <a:cubicBezTo>
                  <a:pt x="3936" y="11856"/>
                  <a:pt x="3926" y="11908"/>
                  <a:pt x="3913" y="11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Ink 6"/>
          <p:cNvSpPr/>
          <p:nvPr/>
        </p:nvSpPr>
        <p:spPr>
          <a:xfrm>
            <a:off x="7000920" y="2959200"/>
            <a:ext cx="452520" cy="984240"/>
          </a:xfrm>
          <a:custGeom>
            <a:avLst/>
            <a:gdLst/>
            <a:ahLst/>
            <a:rect l="l" t="t" r="r" b="b"/>
            <a:pathLst>
              <a:path w="1260" h="2733">
                <a:moveTo>
                  <a:pt x="20691" y="9898"/>
                </a:moveTo>
                <a:cubicBezTo>
                  <a:pt x="20694" y="9870"/>
                  <a:pt x="20704" y="9841"/>
                  <a:pt x="20704" y="9813"/>
                </a:cubicBezTo>
                <a:cubicBezTo>
                  <a:pt x="20704" y="9795"/>
                  <a:pt x="20698" y="9777"/>
                  <a:pt x="20679" y="9773"/>
                </a:cubicBezTo>
                <a:cubicBezTo>
                  <a:pt x="20665" y="9770"/>
                  <a:pt x="20647" y="9773"/>
                  <a:pt x="20632" y="9773"/>
                </a:cubicBezTo>
                <a:cubicBezTo>
                  <a:pt x="20632" y="9792"/>
                  <a:pt x="20632" y="9811"/>
                  <a:pt x="20637" y="9830"/>
                </a:cubicBezTo>
                <a:cubicBezTo>
                  <a:pt x="20643" y="9855"/>
                  <a:pt x="20651" y="9881"/>
                  <a:pt x="20660" y="9905"/>
                </a:cubicBezTo>
                <a:cubicBezTo>
                  <a:pt x="20662" y="9909"/>
                  <a:pt x="20663" y="9913"/>
                  <a:pt x="20665" y="9917"/>
                </a:cubicBezTo>
                <a:cubicBezTo>
                  <a:pt x="20677" y="9953"/>
                  <a:pt x="20663" y="9906"/>
                  <a:pt x="20658" y="9899"/>
                </a:cubicBezTo>
                <a:cubicBezTo>
                  <a:pt x="20652" y="9890"/>
                  <a:pt x="20634" y="9867"/>
                  <a:pt x="20620" y="9878"/>
                </a:cubicBezTo>
                <a:cubicBezTo>
                  <a:pt x="20595" y="9896"/>
                  <a:pt x="20587" y="9945"/>
                  <a:pt x="20580" y="9972"/>
                </a:cubicBezTo>
                <a:cubicBezTo>
                  <a:pt x="20571" y="10006"/>
                  <a:pt x="20551" y="10069"/>
                  <a:pt x="20571" y="10103"/>
                </a:cubicBezTo>
                <a:cubicBezTo>
                  <a:pt x="20575" y="10107"/>
                  <a:pt x="20578" y="10110"/>
                  <a:pt x="20582" y="10114"/>
                </a:cubicBezTo>
                <a:cubicBezTo>
                  <a:pt x="20611" y="10116"/>
                  <a:pt x="20624" y="10110"/>
                  <a:pt x="20642" y="10085"/>
                </a:cubicBezTo>
                <a:cubicBezTo>
                  <a:pt x="20663" y="10056"/>
                  <a:pt x="20674" y="10021"/>
                  <a:pt x="20684" y="9987"/>
                </a:cubicBezTo>
                <a:cubicBezTo>
                  <a:pt x="20689" y="9970"/>
                  <a:pt x="20690" y="9965"/>
                  <a:pt x="20691" y="9954"/>
                </a:cubicBezTo>
                <a:cubicBezTo>
                  <a:pt x="20686" y="9977"/>
                  <a:pt x="20681" y="10001"/>
                  <a:pt x="20677" y="10024"/>
                </a:cubicBezTo>
                <a:cubicBezTo>
                  <a:pt x="20673" y="10044"/>
                  <a:pt x="20672" y="10063"/>
                  <a:pt x="20673" y="10078"/>
                </a:cubicBezTo>
                <a:cubicBezTo>
                  <a:pt x="20686" y="10055"/>
                  <a:pt x="20689" y="10033"/>
                  <a:pt x="20695" y="10008"/>
                </a:cubicBezTo>
                <a:cubicBezTo>
                  <a:pt x="20699" y="9988"/>
                  <a:pt x="20701" y="9970"/>
                  <a:pt x="20702" y="9950"/>
                </a:cubicBezTo>
                <a:cubicBezTo>
                  <a:pt x="20670" y="9955"/>
                  <a:pt x="20663" y="9982"/>
                  <a:pt x="20650" y="10011"/>
                </a:cubicBezTo>
                <a:cubicBezTo>
                  <a:pt x="20635" y="10043"/>
                  <a:pt x="20616" y="10086"/>
                  <a:pt x="20619" y="10122"/>
                </a:cubicBezTo>
                <a:cubicBezTo>
                  <a:pt x="20622" y="10155"/>
                  <a:pt x="20665" y="10149"/>
                  <a:pt x="20684" y="10134"/>
                </a:cubicBezTo>
                <a:cubicBezTo>
                  <a:pt x="20691" y="10125"/>
                  <a:pt x="20697" y="10117"/>
                  <a:pt x="20704" y="10108"/>
                </a:cubicBezTo>
              </a:path>
              <a:path w="1260" h="2733">
                <a:moveTo>
                  <a:pt x="19682" y="8426"/>
                </a:moveTo>
                <a:cubicBezTo>
                  <a:pt x="19674" y="8368"/>
                  <a:pt x="19668" y="8315"/>
                  <a:pt x="19665" y="8257"/>
                </a:cubicBezTo>
                <a:cubicBezTo>
                  <a:pt x="19664" y="8249"/>
                  <a:pt x="19664" y="8240"/>
                  <a:pt x="19663" y="8232"/>
                </a:cubicBezTo>
                <a:cubicBezTo>
                  <a:pt x="19664" y="8259"/>
                  <a:pt x="19663" y="8259"/>
                  <a:pt x="19664" y="8286"/>
                </a:cubicBezTo>
                <a:cubicBezTo>
                  <a:pt x="19666" y="8353"/>
                  <a:pt x="19668" y="8421"/>
                  <a:pt x="19669" y="8488"/>
                </a:cubicBezTo>
                <a:cubicBezTo>
                  <a:pt x="19674" y="9083"/>
                  <a:pt x="19673" y="9678"/>
                  <a:pt x="19680" y="10273"/>
                </a:cubicBezTo>
                <a:cubicBezTo>
                  <a:pt x="19681" y="10345"/>
                  <a:pt x="19692" y="10651"/>
                  <a:pt x="19682" y="10637"/>
                </a:cubicBezTo>
                <a:cubicBezTo>
                  <a:pt x="19668" y="10616"/>
                  <a:pt x="19661" y="10580"/>
                  <a:pt x="19651" y="10556"/>
                </a:cubicBezTo>
              </a:path>
              <a:path w="1260" h="2733">
                <a:moveTo>
                  <a:pt x="19445" y="10297"/>
                </a:moveTo>
                <a:cubicBezTo>
                  <a:pt x="19452" y="10344"/>
                  <a:pt x="19467" y="10385"/>
                  <a:pt x="19484" y="10431"/>
                </a:cubicBezTo>
                <a:cubicBezTo>
                  <a:pt x="19514" y="10512"/>
                  <a:pt x="19544" y="10593"/>
                  <a:pt x="19576" y="10673"/>
                </a:cubicBezTo>
                <a:cubicBezTo>
                  <a:pt x="19610" y="10758"/>
                  <a:pt x="19640" y="10851"/>
                  <a:pt x="19688" y="10929"/>
                </a:cubicBezTo>
                <a:cubicBezTo>
                  <a:pt x="19699" y="10943"/>
                  <a:pt x="19703" y="10948"/>
                  <a:pt x="19715" y="10951"/>
                </a:cubicBezTo>
                <a:cubicBezTo>
                  <a:pt x="19736" y="10900"/>
                  <a:pt x="19747" y="10853"/>
                  <a:pt x="19753" y="10796"/>
                </a:cubicBezTo>
                <a:cubicBezTo>
                  <a:pt x="19764" y="10683"/>
                  <a:pt x="19768" y="10570"/>
                  <a:pt x="19775" y="10457"/>
                </a:cubicBezTo>
                <a:cubicBezTo>
                  <a:pt x="19779" y="10386"/>
                  <a:pt x="19774" y="10315"/>
                  <a:pt x="19796" y="10247"/>
                </a:cubicBezTo>
                <a:cubicBezTo>
                  <a:pt x="19799" y="10240"/>
                  <a:pt x="19801" y="10233"/>
                  <a:pt x="19804" y="10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Ink 7"/>
          <p:cNvSpPr/>
          <p:nvPr/>
        </p:nvSpPr>
        <p:spPr>
          <a:xfrm>
            <a:off x="8375760" y="3159000"/>
            <a:ext cx="742680" cy="927360"/>
          </a:xfrm>
          <a:custGeom>
            <a:avLst/>
            <a:gdLst/>
            <a:ahLst/>
            <a:rect l="l" t="t" r="r" b="b"/>
            <a:pathLst>
              <a:path w="2064" h="2575">
                <a:moveTo>
                  <a:pt x="23266" y="11350"/>
                </a:moveTo>
                <a:cubicBezTo>
                  <a:pt x="23302" y="11325"/>
                  <a:pt x="23306" y="11347"/>
                  <a:pt x="23338" y="11312"/>
                </a:cubicBezTo>
                <a:cubicBezTo>
                  <a:pt x="23363" y="11285"/>
                  <a:pt x="23370" y="11247"/>
                  <a:pt x="23383" y="11214"/>
                </a:cubicBezTo>
                <a:cubicBezTo>
                  <a:pt x="23406" y="11156"/>
                  <a:pt x="23416" y="11096"/>
                  <a:pt x="23429" y="11035"/>
                </a:cubicBezTo>
                <a:cubicBezTo>
                  <a:pt x="23498" y="10713"/>
                  <a:pt x="23561" y="10413"/>
                  <a:pt x="23731" y="10123"/>
                </a:cubicBezTo>
                <a:cubicBezTo>
                  <a:pt x="23967" y="9720"/>
                  <a:pt x="24337" y="9399"/>
                  <a:pt x="24732" y="9158"/>
                </a:cubicBezTo>
                <a:cubicBezTo>
                  <a:pt x="24868" y="9075"/>
                  <a:pt x="25218" y="8968"/>
                  <a:pt x="25306" y="8826"/>
                </a:cubicBezTo>
                <a:cubicBezTo>
                  <a:pt x="25327" y="8780"/>
                  <a:pt x="25339" y="8761"/>
                  <a:pt x="25290" y="8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5:45:36Z</dcterms:created>
  <dc:creator>abc</dc:creator>
  <dc:description/>
  <dc:language>en-US</dc:language>
  <cp:lastModifiedBy>K13115</cp:lastModifiedBy>
  <dcterms:modified xsi:type="dcterms:W3CDTF">2018-10-22T10:49:59Z</dcterms:modified>
  <cp:revision>402</cp:revision>
  <dc:subject/>
  <dc:title>PowerPoint Presentation</dc:title>
</cp:coreProperties>
</file>